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41.jpeg" ContentType="image/jpeg"/>
  <Override PartName="/ppt/media/image14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4.png" ContentType="image/png"/>
  <Override PartName="/ppt/media/image12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2552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c.</a:t>
            </a:r>
            <a:fld id="{EB6BEF76-57EB-4001-8F79-67559C97C8FE}" type="slidenum">
              <a:rPr b="1" lang="en-US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56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916840" y="5445000"/>
            <a:ext cx="22716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8960" y="5726160"/>
            <a:ext cx="35456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0" lang="en-US" sz="1200" spc="-1" strike="noStrike" u="sng">
                <a:solidFill>
                  <a:srgbClr val="cc3300"/>
                </a:solidFill>
                <a:uFillTx/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ppendix C: Other Relational Languages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ries on One Rela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200" y="1164960"/>
            <a:ext cx="68612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loan numbers of all loans made jointly to Smith and J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71560" y="3484440"/>
            <a:ext cx="7029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ustomers who live in the same city as J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4400" y="1971720"/>
            <a:ext cx="6846840" cy="1165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174680" y="4229280"/>
            <a:ext cx="68421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7880" y="7920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ries on Several Rel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71200" y="1164960"/>
            <a:ext cx="68612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ames of all customers who have a loan from the Perryridge bra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360440" y="4334040"/>
            <a:ext cx="6529320" cy="780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027080" y="2532240"/>
            <a:ext cx="719604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950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ries on Several Relation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71200" y="1165320"/>
            <a:ext cx="76611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ames of all customers who have both an account and a loan at the ba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28600" y="2373480"/>
            <a:ext cx="74152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egation in QB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200" y="1165320"/>
            <a:ext cx="75200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ames of all customers who have an account at the bank, but do not have a loan from the ba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50440" y="493308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 means “there does not exis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58920" y="2448000"/>
            <a:ext cx="66945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egation in QB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71200" y="1165320"/>
            <a:ext cx="686124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ustomers who have at least two accou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4120" y="426636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 means “not equal t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82520" y="2413080"/>
            <a:ext cx="696276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Condition Box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200" y="1165320"/>
            <a:ext cx="7319880" cy="20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expression of constraints on domain variables that are either inconvenient or impossible to express within the skeleton 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conditions can be used in condition b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Find the loan numbers of all loans made to Smith, to Jones, or to both joi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57400" y="3309840"/>
            <a:ext cx="68562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dition Box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71200" y="116496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BE supports an interesting syntax for expressing alternative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74680" y="2268360"/>
            <a:ext cx="71406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dition Box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9400" y="895320"/>
            <a:ext cx="767232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account numbers with a balance greater than $1,300 and less than $1,5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9400" y="3724200"/>
            <a:ext cx="814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account numbers with a balance greater than $1,300 and  less than $2,000 but not exactly $1,5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33440" y="1569960"/>
            <a:ext cx="6880320" cy="1928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325520" y="4416480"/>
            <a:ext cx="694548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dition Box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1560" y="1165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branches that have assets greater than those of at least one branch located in Brookly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305000" y="2097000"/>
            <a:ext cx="68133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Result Rel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71200" y="1165320"/>
            <a:ext cx="744228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_number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ll customers who have an account at the Perryridge bra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ee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, account_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complish this w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skeleton table, call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ult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ttribut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, account_number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640" y="9036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ppendix C:  Other Relational Languag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71560" y="9871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-by-Example (Q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Result Rela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71200" y="1165320"/>
            <a:ext cx="68612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ing query 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11120" y="1887480"/>
            <a:ext cx="68518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rdering the Display of Tup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49080" y="1164960"/>
            <a:ext cx="791820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 = ascending order; DO = descending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list in ascending alphabetical order all customers who have an account at the bank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orting on multiple attributes, the sorting order is specified by including with each sort operator (AO or DO) an integer surrounded by parenthe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List all account numbers at the Perryridge branch in ascending alphabetic order with their respective account balances in descending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20760" y="2162160"/>
            <a:ext cx="6875640" cy="1003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282680" y="5191200"/>
            <a:ext cx="704232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ggregate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71560" y="1165320"/>
            <a:ext cx="737064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ggregate operators are AVG, MAX, MIN, SUM, and 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operators must be postfixed with “ALL” (e.g., SUM.ALL. or AVG.ALL._x) to ensure that duplicates are not elimin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Find the total balance of all the accounts maintained at the Perryridge bra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27000" y="3249720"/>
            <a:ext cx="732816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ggregate Operation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71560" y="1164960"/>
            <a:ext cx="8137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Q is used to specify that we want to eliminate duplic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total number of customers having an account at the ba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06360" y="2797200"/>
            <a:ext cx="6677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ry Examp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71560" y="1164960"/>
            <a:ext cx="7029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average balance at each bra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124000"/>
            <a:ext cx="7721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93880" y="2825640"/>
            <a:ext cx="782784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G” in “P.G” is analogous to SQL’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ALL” in the “P.AVG.ALL” entry in th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umn ensures that all balances are conside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ind the average account balance at only those branches where the average account balance is more than  $1,200, we simply add the condition box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58760" y="1673280"/>
            <a:ext cx="7183440" cy="792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16080" y="5038560"/>
            <a:ext cx="468468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ry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1165320"/>
            <a:ext cx="781200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ustomers who have an account at all branches located in Brookly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ach:  for each customer, find the number of branches in Brooklyn at which they have accounts, and compare with total number of branches in Brookly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BE does not provide subquery functionality, so both above tasks have to be combined in a single quer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done for this query, but there are queries that require subqueries and cannot always be expressed in Q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71560" y="4264200"/>
            <a:ext cx="763596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query on the next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T.UNQ.ALL._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ifies the number of distinct branches in Brooklyn.  Note: The variable _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t connected to other variables in the que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T.UNQ.ALL._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ifies the number of distinct branches in Brooklyn at which custom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an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ry Exampl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27280" y="1084320"/>
            <a:ext cx="5838840" cy="28479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952720" y="4667400"/>
            <a:ext cx="330372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18640" y="8532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dification of the Database – Dele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1560" y="11649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ion of tuples from a relation is expressed by use of a D. command.  In the case where we delete information in only some of the columns, null values, specified by –, are inse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customer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 of the branch whose name is “Perryridg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160640" y="2651040"/>
            <a:ext cx="7403760" cy="793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73160" y="4586400"/>
            <a:ext cx="7527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7880" y="88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letion Query Examp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71560" y="1165320"/>
            <a:ext cx="803736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all loans with a loan amount greater than $1300 and  less than $15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onsistency, we have to delete information from loan and borrower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90640" y="4000680"/>
            <a:ext cx="6195960" cy="1977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266840" y="2548080"/>
            <a:ext cx="696276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letion Query Exampl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71560" y="1164960"/>
            <a:ext cx="7029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all accounts at branches located in Brookly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70120" y="2130480"/>
            <a:ext cx="739116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7880" y="98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ry-by-Example (QBE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71560" y="1165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ies on One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ies on Several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dition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ng the Display of 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e Oper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cation of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2400" y="2001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dification of the Database – Inser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71560" y="1164960"/>
            <a:ext cx="7029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is done by placing the I. operator in the query expres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the fact that account A-9732 at the Perryridge branch has a balance of $7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3320" y="4286160"/>
            <a:ext cx="754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44480" y="2949480"/>
            <a:ext cx="75009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90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odification of the Database – Insertion (Cont.)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0960" y="1165320"/>
            <a:ext cx="815184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s a gift for all loan customers of the Perryridge branch, a new $200 savings account for every loan account they have, with the loan number serving as the account number for the new savings account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266840" y="2266920"/>
            <a:ext cx="701028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5200" y="759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dification of the Database – Upda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2040" y="1165320"/>
            <a:ext cx="768348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U. operator to change a value in a tuple without chang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s in the tuple. QBE does not allow users to update the primary key fie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the asset value of the Perryridge branch to $10,000,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all balances by 5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838680"/>
            <a:ext cx="7029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162080" y="2771640"/>
            <a:ext cx="7146720" cy="844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230480" y="4597560"/>
            <a:ext cx="71053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icrosoft Access QB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71200" y="1165320"/>
            <a:ext cx="7442280" cy="46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Access supports a variant of QBE called Graphical Query By Example (GQB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QBE differs from QBE in the following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 of relations are listed vertically, one below the other, instead of horizont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of using variables, lines (links) between attributes are used to specify that their values should be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s are added automatically on the basis of attribute name,  and the user can then add or delete lin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efault, a link specifies an inner join, but can be modified to specify outer jo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s, values to be printed, as well as group by attributes are all specified together in a box called th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sign g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04800" y="95400"/>
            <a:ext cx="8572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An Example Query in Microsoft Access QB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71560" y="1165320"/>
            <a:ext cx="746604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query: Fin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_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accounts at the Perryridge bran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27120" y="2079720"/>
            <a:ext cx="6147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50800" y="84240"/>
            <a:ext cx="835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An Aggregation Query in Access QB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71560" y="1165320"/>
            <a:ext cx="78487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, stre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ll customers who have more than one account at the ban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432080" y="2124000"/>
            <a:ext cx="613404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ggregation in Access QB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71200" y="116496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w label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ttributes are group by attrib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ttributes are to be aggregated upon (and the aggregate function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ttributes that are neither group by nor aggregated, we can still specify conditions by selecting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Total row and listing the conditions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in SQL, if group by is used, only group by attributes and aggregate results can be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lo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71560" y="1165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of Datalog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ntics of Nonrecursive Dat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Operations in Dat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rsion in Dat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wer of Recu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sic Structur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71560" y="1165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624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log-like logic-based language that allows recursive queries; based on first-order log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624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atalog program consists of a se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define view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624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define a view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ining account numbers and balances for accounts at the Perryridge branch with a balance of over $7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624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:– 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ryridge”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7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624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the balance of account number “A-217” in the view rel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v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624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? v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217”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624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ind account number and balance of all account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have a balance greater than 8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?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624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71200" y="1164960"/>
            <a:ext cx="757404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07920"/>
                <a:tab algn="l" pos="165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ule defines a set of tuples that a view relation must co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07920"/>
                <a:tab algn="l" pos="165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:– accou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ryridge”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700    is rea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07920"/>
                <a:tab algn="l" pos="165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,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07920"/>
                <a:tab algn="l" pos="165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“Perryridge”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07920"/>
                <a:tab algn="l" pos="165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, 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07920"/>
                <a:tab algn="l" pos="165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f tuples in a view relation is then defined as the union of all the sets of tuples defined by the rules for the view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07920"/>
                <a:tab algn="l" pos="165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07920"/>
                <a:tab algn="l" pos="165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rest_r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N, 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100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rest_r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N, 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= 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BE — Basic Structur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1165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raphical query language which is based (roughly) on the domain relational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wo dimensional synt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ystem creates templates of relations that are requested by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ies are expressed “by examp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egation in Datalo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71560" y="1165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07920"/>
                <a:tab algn="l" pos="165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 view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contains the names of all customers who have a deposit but no loan at the ban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07920"/>
                <a:tab algn="l" pos="165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,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s_borrow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s_borrow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–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,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07920"/>
                <a:tab algn="l" pos="165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, 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n the first rule results in a different meaning, namely there is some loan L for which N is not a borrow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07920"/>
                <a:tab algn="l" pos="165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event such confusion, we require all variables in negated “predicate” to also be present in non-negated predic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amed Attribute Not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4560" y="1165320"/>
            <a:ext cx="7424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log rules use a positional notation that is convenient for relations with a small number of attrib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easy to extend Datalog to support named attribut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defined using named attributes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_number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alan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:–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_number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ranch_name “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ryridge”, bala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7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04880" y="87120"/>
            <a:ext cx="8362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rmal Syntax and Semantics of Datalo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71200" y="116496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formally define the syntax and semantics (meaning) of Datalog programs, in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fine the syntax of predicates, and then the syntax of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fine the semantics of individual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fine the semantics of non-recursive programs, based on a layering of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possible to write rules that can generate an infinite number of tuples in the view relation. To prevent this, we define what rules are “safe”.  Non-recursive programs containing only safe rules can only generate a finite number of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possible to write recursive programs whose meaning is unclear.  We define what recursive programs are acceptable, and define their mea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yntax of Datalog Ru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71560" y="1165320"/>
            <a:ext cx="784872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itive lite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..., 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name of a relation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either a constant or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gative litera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he 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..., 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operations are treated as positive predic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  &gt; 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eated as a predicate &gt;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,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” is conceptually an (infinite) relation that contains all pairs of values such that the first value is greater than the secon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thmetic operations are also treated as pred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 A = B + C  is treated as +(B, C, A), where the relation “+” contains all triples such that the third value is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of the first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yntax of Datalog Rul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71560" y="1165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ul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built out of literals and have the 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: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ad                  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li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 – the liter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– the rest of the lit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ac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rule with an empty body, written in the 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s tuple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n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log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et of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5234040" y="1479240"/>
            <a:ext cx="165240" cy="1260360"/>
          </a:xfrm>
          <a:custGeom>
            <a:avLst/>
            <a:gdLst>
              <a:gd name="textAreaLeft" fmla="*/ 105480 w 165240"/>
              <a:gd name="textAreaRight" fmla="*/ 165600 w 165240"/>
              <a:gd name="textAreaTop" fmla="*/ 32760 h 1260360"/>
              <a:gd name="textAreaBottom" fmla="*/ 1227600 h 12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3457440" y="1515600"/>
            <a:ext cx="152280" cy="1146240"/>
          </a:xfrm>
          <a:custGeom>
            <a:avLst/>
            <a:gdLst>
              <a:gd name="textAreaLeft" fmla="*/ 97200 w 152280"/>
              <a:gd name="textAreaRight" fmla="*/ 152640 w 152280"/>
              <a:gd name="textAreaTop" fmla="*/ 29880 h 1146240"/>
              <a:gd name="textAreaBottom" fmla="*/ 1116360 h 114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mantics of a Ru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71560" y="1164960"/>
            <a:ext cx="765504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39920"/>
                <a:tab algn="l" pos="3259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ound instanti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of a ru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simply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tanti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the result of replacing each variable in the rule by some cons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139920"/>
                <a:tab algn="l" pos="3259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Rule defin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ctr" pos="3139920"/>
                <a:tab algn="l" pos="3259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–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Perryridge”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, B &gt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139920"/>
                <a:tab algn="l" pos="3259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stantiation above ru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ctr" pos="3139920"/>
                <a:tab algn="l" pos="3259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217”, 750) :–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ount (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A-217”, “Perryridge”, 750)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50 &gt; 7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39920"/>
                <a:tab algn="l" pos="3259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dy of rule instanti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atisfi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set of facts (database instance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ctr" pos="3139920"/>
                <a:tab algn="l" pos="3259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positive liter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,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,n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n the body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’, 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the fa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,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,n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ctr" pos="3139920"/>
                <a:tab algn="l" pos="3259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egative liter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,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,n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n the body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’, 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contain the fa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,n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mantics of a Rul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71200" y="1165320"/>
            <a:ext cx="7450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fine the set of facts that can b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fer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given set of fac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ing r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80316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er(R, l)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there is a ground instanti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head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the body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atisfied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iven an set of rule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, we def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80316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) = inf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ayering of Ru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71200" y="1165320"/>
            <a:ext cx="6861240" cy="23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2532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the interest on each account in Perry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62532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terest(A, l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–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erryridge_accou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,B),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interest_rate(A,R), l = B * R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erryridge_account(A,B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–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Perryridge”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)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terest_rate (A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) :– account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, A, B), B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10000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est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) :– account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, B)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gt;= 10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2532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ering of the view re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522520" y="3662280"/>
            <a:ext cx="277164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ayering Rul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9000" y="1564920"/>
            <a:ext cx="76615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lation is a layer 1 if all relations used in the bodies of rules defining it are stored in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lation is a layer 2 if all relations used in the bodies of rules defining it are either stored in the database, or are in layer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lay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1 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not in layers 1, 2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relations used in the bodies of rules defining 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either stored in the database, or are in layers 1, 2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71560" y="11646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l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mantics of a Progra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4160" y="1982880"/>
            <a:ext cx="686124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set of facts stored in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rsively defi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f facts in the view relations defined by the program (also called the semantics of the program) is given by the set of fac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sponding to the highest lay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76240" y="1145880"/>
            <a:ext cx="67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layers in a given program be 1, 2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Le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note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of all rules defining view relations in lay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45720" y="3735000"/>
            <a:ext cx="64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 Can instead define semantics using view expansion li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elational algebra, but above definition is better for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s such as recu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03240" y="36360"/>
            <a:ext cx="8223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QBE Skeleton Tables for the Bank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06560" y="1577880"/>
            <a:ext cx="721836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afe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71200" y="116496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possible to write rules that generate an infinite number of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65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t(X, Y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_in_lo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, 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lo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, 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65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void this possibility Datalog rules must satisfy the following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65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variable that appears in the head of the rule also appears in a non-arithmetic positive literal in the body of the r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65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ndition can be weakened in special cases based on the semantics of arithmetic predicates, for example to permit the ru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:-  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A = B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65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variable appearing in a negative literal in the body of the rule also appears in some positive literal in the body of the r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al Operations in Datalo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71560" y="1165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0968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out attrib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a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30968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ue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–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N, 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0968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esian product of 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30968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ue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–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0968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ion of relations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30968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ue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:–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ue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:–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0968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differenc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30968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ue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:–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cursion in Datalo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71560" y="1165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we are given a rela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, 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ing pairs of names X, Y such that Y is a manager of X (or equivalently, X is a direct employee of 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anager may have direct employees, as well as indirect employ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 employees of a manager, say Jones, are employees of people who are direct employees of Jones, or recursively, employees of people who are indirect employees of J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we wish to find all (direct and indirect) employees of manager Jones.  We can write a recursive Datalog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_jo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:-  manag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, Jo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_jo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:-  manag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, 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empl_jo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mantics of Recursion in Datalo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71560" y="1165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94040"/>
                <a:tab algn="l" pos="257508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ption (for now): program contains no negative lit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94040"/>
                <a:tab algn="l" pos="257508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iew relations of a recursive program containing a set of rule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defined to contain exactly the set of fac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by the iterative procedu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alog-Fix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994040"/>
                <a:tab algn="l" pos="257508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dure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log-Fixpoi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set of facts in the databa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ld_l = l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 = l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994040"/>
                <a:tab algn="l" pos="257508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i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 = Old_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94040"/>
                <a:tab algn="l" pos="257508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procedur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994040"/>
                <a:tab algn="l" pos="257508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 l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consider the database to be a set of facts that are part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94040"/>
                <a:tab algn="l" pos="257508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alled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xed poin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61560" y="7272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Datalog-FixPoint It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849400" y="990720"/>
            <a:ext cx="3632400" cy="25318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282680" y="4024440"/>
            <a:ext cx="702144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 More General View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71560" y="1164960"/>
            <a:ext cx="739152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624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view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contains every tuple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, 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directly or indirectly manag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624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, 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, 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, Z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emp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, 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624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direct and indirect employees of J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624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? empl (X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Jones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624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define the view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nother way to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624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, 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, 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, 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– empl (X, Z 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, 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624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624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Power of Recurs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71200" y="1165320"/>
            <a:ext cx="7396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rsive views make it possible to write queries, such as transitive closure queries, that cannot be written without recursion or it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uition:  Without recursion, a non-recursive non-iterative program can perform only a fixed number of joins of manager with it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give only a fixed number of levels of manag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program we can construct a database with a greater number of levels of managers on which the program will not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cursion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71200" y="116496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with SQL:1999, SQL permits recursive view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query to find all employee-manager pairs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recur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g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g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nager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g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g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notonicity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1165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iew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aid to b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noton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given any two sets of facts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expression used to defi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t of rules R is said to be monotonic i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mplies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nf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algebra views defined using only the operations: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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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|X|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s well as operations like natural join defined in terms of these operations) are monoton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algebra views defined using set difference (–) may not be monoto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ly, Datalog programs without negation are monotonic, but Datalog programs with negation may not be monoto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on-Monotonic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71200" y="116496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alog-Fix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ound provided the rules in the program are monoto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it may make some inferences in an iteration that cannot be made in a later iteration.   E.g., given the rul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:-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b :-  c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inferred initially, before b is inferred, but not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extend the procedure to handle negation so long as the program is “stratified”:  intuitively, so long as negation is not mixed with recu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BE Skeleton Tabl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84520" y="1073160"/>
            <a:ext cx="544032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on-Monotonicity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200" y="116496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useful queries that cannot be expressed by a stratifie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given information about the number of each subpart in each part, in a part-subpart hierarchy, find the total number of subparts of each p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gram to compute the above query would have to mix aggregation with recu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so long as the underlying data (part-subpart) has no cycles, it is possible to write a program that mixes aggregation with recursion, yet has a clear 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ways to evaluate some such classes of non-stratified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Appendix C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ries on One Rel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71560" y="1164960"/>
            <a:ext cx="7029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loan numbers at the Perryridge bra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04840" y="2886120"/>
            <a:ext cx="74487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085760" indent="-22860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x is a variable (optional; can be omitted in above que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 means print (displ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plicates are removed by de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tain duplicates use P.A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96880" y="4807080"/>
            <a:ext cx="6039000" cy="637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27040" y="1957320"/>
            <a:ext cx="6039000" cy="638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973240" y="2336760"/>
            <a:ext cx="785880" cy="2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65400" y="2255760"/>
            <a:ext cx="10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P._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7600" y="2486160"/>
            <a:ext cx="7386840" cy="780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ries on One Rela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71200" y="1164960"/>
            <a:ext cx="68612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full details of all lo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87800" y="2903400"/>
            <a:ext cx="70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P._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02080" y="2881440"/>
            <a:ext cx="70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P._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37720" y="2882880"/>
            <a:ext cx="69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P._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6160" y="1851120"/>
            <a:ext cx="23986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90560" y="3710160"/>
            <a:ext cx="4348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2: Shorthand n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066680" y="4554360"/>
            <a:ext cx="7386840" cy="781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60600" y="2955960"/>
            <a:ext cx="277560" cy="27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ries on One Rela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88108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names of all branches that are not located in Brookl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92080" y="1165320"/>
            <a:ext cx="7837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loan number of all loans with a loan amount of more than $7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78040" y="1757520"/>
            <a:ext cx="7559640" cy="798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900000" y="3564000"/>
            <a:ext cx="75931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6T14:50:30Z</dcterms:created>
  <dc:creator>Marilyn Turnamian</dc:creator>
  <dc:description/>
  <dc:language>en-US</dc:language>
  <cp:lastModifiedBy>as668</cp:lastModifiedBy>
  <cp:lastPrinted>1999-06-28T19:27:31Z</cp:lastPrinted>
  <dcterms:modified xsi:type="dcterms:W3CDTF">2010-02-10T14:32:27Z</dcterms:modified>
  <cp:revision>398</cp:revision>
  <dc:subject/>
  <dc:title>Chapter 5:  Other Relational Languages</dc:title>
</cp:coreProperties>
</file>