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EDE56-B355-4F43-8BD9-7C3464EA7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5F080-839F-46B0-A2C3-CF3C70A9C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E390C-E1B0-4300-91DF-670697E507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B8094-6A7C-49DD-B308-0CF43C4B8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1448A-A244-4B3B-8A17-739DCFDD8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B0924-5787-4CAC-905C-2105D950B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E7E04-B8A6-4E27-8FB8-A041BD6D3C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8AE13-5BD6-4A34-8F4F-1941F4D916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98133-1BB8-49F6-8DAD-111379B0A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9F1AE-7D19-42E5-B6FF-56F9AB7C6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1840A-1A7D-4075-A5C3-C9B69BC8A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9B24D-1526-4CF7-89F7-4FD50B789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7BE1F-7A9F-4324-9F86-F2251E9F4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C8F64-1B1C-45BD-9EAA-9D9AB545A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427FB-A8A6-4444-9F8E-66C754508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CE333-6FFB-45EC-8586-AD3918E6E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09820-B79F-4BE4-B015-2E35F7F890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15D1D-30A0-4F3D-8C8C-FC975BEC7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07FE9-D33B-4226-A822-96C26AE88C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4C0CF-BA3B-44D3-B6D4-FBCF84576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1117F-A47A-45D0-B229-B9CBDA746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65CED-85B7-4190-B4D3-EC417CD602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703CF-EBF0-41F7-A7FC-C1B8C31E5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E7116-2CC2-4EB6-B147-E4F0E22C8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FB6EE-A802-4271-ADA2-E624B3BA67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5D2BE-6DD1-4198-BE5F-AFE473BF5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9F487-3E90-470F-A2EC-A7C922990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07207-70D1-43CE-BB87-8CF74C59D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DF178-8A37-4CBE-A6EA-66BE9E52FA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B768C-9DBB-468E-9B7E-246E63C83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1C106-E14A-48F7-80A0-2E2AE70FF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F92E9-958E-4C98-9B48-80A89D2D1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22.</a:t>
            </a:r>
            <a:fld id="{F0717C93-83F4-4E28-B23D-F58656D23C11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72952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14212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22: Object-Based Datab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thod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dd a method declaration with a structured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eOn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interval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body is given sepa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 meth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eOn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interval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now find the age of each custo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.lastname, ageOn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_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structor Fun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onstructor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used to create values of structure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st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set 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name = firstname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self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st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stnam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a value of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 u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John’, ‘Smith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used in insert statem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John’, ‘Smith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’20 Main St’, ‘New York’, ‘11001’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1960-8-22’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ype Inheritanc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9280" y="712800"/>
            <a:ext cx="850104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we have the following type definition for peo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eate typ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ers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ame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ddres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ing inheritance to define the student and teacher typ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eate typ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ude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der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ers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gree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partment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eate typ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ach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der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ers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alary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partment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ypes can redefine methods by using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verriding metho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 place of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hod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the method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ple Type Inheritanc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973080"/>
            <a:ext cx="8013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QL:1999 and SQL:2003 do not support multiple 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our type system supports multiple inheritance, we can define a type for teaching assistant as follow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eate typ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aching Assista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der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udent,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avoid a conflict between the two occurrences of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partmen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can rename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eate typ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aching Assista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de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udent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partmen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udent_dep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acher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partmen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acher_dep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value must have a </a:t>
            </a: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most-specific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able Inheritanc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 created from subtypes can further be specified as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ub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s added to a subtable are automatically visible to queries on the super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query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se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ly updates/deletes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result in updates/deletes on sub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verride this behaviour, use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ually, multiple inheritance is possible with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ing_assist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is not supported in SQL 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we cannot create a person (tuple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ho is both a student and a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5200" y="1951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istency Requirements for Subtabl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783612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cy requirements on subtables and super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uple of the supertable (e.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correspond to at most one tuple in each of the subtables (e.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ach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constraint in SQL:1999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uples corresponding to each other (that is, with the same values for inherited attributes) must be derived from one tuple (inserted into one table)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30492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each entity must have a most specific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30492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not have a tuple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sponding to a tuple each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rray and Multiset Types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15920"/>
            <a:ext cx="784872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rray and multiset declaration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blis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_array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0]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b_date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blisher        Publis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yword-set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k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reation of Collection Val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64800"/>
            <a:ext cx="808992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‘Silberschatz’,`Korth’,`Sudarshan’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‘computer’, ‘database’, ‘SQL’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a tuple of the type defined by the books relation: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Compilers’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`Smith’,`Jones’]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`McGraw-Hill’,`New York’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`parsing’,`analysis’ 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sert the preceding tuple into the relation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k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Compilers’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`Smith’,`Jones’]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`McGraw-Hill’,`New York’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ulti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`parsing’,`analysis’ 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ing Collection-Valued Attribu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52600" y="917640"/>
            <a:ext cx="8246880" cy="53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d all books that have the word “database” as a keyword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k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’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n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yword-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access individual elements of an array by using i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: If we know that a particular book has three authors, we could wr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_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_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_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k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`Database System Concept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relation containing pairs of the form “title, author_name” for each book and each author of the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.title, A.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k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ne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.author_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tain ordering information we add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ordin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.title, A.author, A.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k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ne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.author_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ordin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, posi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nest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8800" y="979560"/>
            <a:ext cx="8407440" cy="55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nsformation of a nested relation into a form with fewer (or no) relation-valued attributes us called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nnes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th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sher.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sher.branch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_bran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.keywor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ok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n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.author_arr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th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n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.keyword_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wor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at_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1152360" y="3913200"/>
            <a:ext cx="72709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22: Object-Based Datab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ata Types and Object Ori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d Data Types and Inheritance in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and Multiset Types in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Identity and Reference Types in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O-R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t 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f Object-Oriented and Object-Relational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sting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45760" y="1003320"/>
            <a:ext cx="803916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opposite of unnesting, creating a collection-valued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ing can be done in a manner similar to aggregation, but using the func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 in place of an aggregation operation, to create a multi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nest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at_boo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 on the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yw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blis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b_name, pub_bran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yw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yword_se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at_book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, author, publis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nest on both authors and keywor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_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blis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b_name, pub_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y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yword_se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at_book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st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8040" y="103356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approach to creating nested relations is to use subqueries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, starting from the 4NF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k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.tit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.title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.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_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blis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b-name, pub-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ywo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yword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.title = B.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yword_se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ks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bject-Identity and Reference Typ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5480" y="9774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 fiel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 fiel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s a reference to the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sco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a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o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then create a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fol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omit the declar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o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from the type declaration and instead make an addition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a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sc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d table must have an attribute that stores the identifier, called the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lf-referential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erson_i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genera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itializing Reference-Typed Val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1000" y="9907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a tuple with a reference value, we can first create the tuple with a null reference and then set the reference separate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`CS’,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.person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`John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`C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ser Generated Identifi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4680" y="1015560"/>
            <a:ext cx="810252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ype of the object-identifier must be specified as part of the type definition of the referenced table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ble definition must specify that the reference is user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 using 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_i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reating a tuple, we must provide a unique value for the identifi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son_id, name, addr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‘01284567’, ‘John’, `23 Coyote Run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then use the identifier value when inserting a tuple i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need for a separate query to retrieve the identifi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`CS’, `02184567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ser Generated Identifier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49240" y="86328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an existing primary key value as the identifi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 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_i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nserting a tupl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e can the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val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`CS’,`John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th Expres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and addresses of the heads of all depart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ad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ad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pression such as “hea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” is called a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ath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expressions help avoid explicit j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epartment head were not a reference, a joi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uld be required to get at th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expressing the query much easier for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mplementing O-R Fea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how E-R features are mapped onto relation sch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abl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able stores primary key and those attributes defined in tha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able stores both locally defined and inherited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ersistent Programming Languag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s extended with constructs to handle persist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 can manipulate persistent data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fetch it into memory and store it back to disk (unlike embedded 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t obj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ersistence by 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explicit declaration of pers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ersistence by cre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special syntax to create persist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ersistence by ma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make objects persistent after cre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ersistence by reach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object is persistent if it is declared explicitly to be so or is reachable from a persisten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bject Identity and Point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s of permanence of object 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aproced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nly during execution of a singl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a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nly during execution of a single program or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cross program executions, but not if data-storage format on disk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rprogram, plus persistent across data re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t versions of C++ and Java have been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MG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Database Objects (J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bject-Relational Data Mode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he relational data model by including object orientation and constructs to deal with added data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attributes of tuples to have complex types, including non-atomic values such as nested re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 relational foundations, in particular the declarative access to data, while extending modeling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ward compatibility with existing relational langu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ersistent C++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s of C++ language to support persistent storage of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proposals, ODMG standard proposed, but not much action of 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 poin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.g. d_Ref&lt;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of persistent obj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.g. new (db) 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ext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ccess to all persistent objects of a particula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by pointers stored in related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: consistency of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extension to type system to automatically maintain back-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ato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_modified() function to tell system that a persistent object that was fetched into memory has been up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r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ersistent Java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95024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for adding persistence to Java :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Java Database Objects (J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ce by reach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 code enh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es separately declared as per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 code modifier program modifies class byte code to support pers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Fetch object o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modified objects to be written back to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bjects to be stored in a relational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referenc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fference between in-memory pointer and persistent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technique based on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hollow 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.k.a.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ointer swizz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bject-Relational Mapp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Object-Relational Mapping (OR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s built on top of traditional relational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or provides a mapping from objects to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 are purely transient, no permanent object 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 can be retried from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uses mapping to fetch relevant data from relations and construc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objects are stored back in database by generating corresponding update/insert/delete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Hibern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M system is widel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in Section 9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API to start/end transactions, fetch object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query language operating direcly on 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es translated to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: overheads, especially for bulk upd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arison of O-O and O-R Datab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60240" y="10029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data types, powerful query languages, high pro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istent-programming-language-based OOD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ata types, integration with programming language, high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-relation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ata types, powerful query languages, high pro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-relational mapp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ata types integrated with programming language, but built as a layer on top of a relational databas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Many real systems blur these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persistent programming language built as a wrapper on a relational database offers first two benefits, but may have poor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2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2.0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3454560" y="731880"/>
            <a:ext cx="280008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2.0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1525680" y="765000"/>
            <a:ext cx="577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lex Data Typ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5480" y="1170000"/>
            <a:ext cx="671364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 non-atomic domains (atomi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vi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non-atomic domain:  set of integers,or set of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more intuitive modeling for applications with complex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uitive defin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relations whenever we allow atomic (scalar) values — relations within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ns mathematical foundation of relational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ates first normal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a Nested Re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63640" y="1096560"/>
            <a:ext cx="656424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library inform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book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 (array) of autho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, with subfield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t of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1NF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295200" y="4479840"/>
            <a:ext cx="844704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4NF Decomposition of Nested Re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071360"/>
            <a:ext cx="324972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for simplicity that title uniquely identifies a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al world ISBN is a unique identif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k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 4NF using the sche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, author, posi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, key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tle, pub-name, pub-bran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NF design requires users to include joins in their que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867120" y="898560"/>
            <a:ext cx="46324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lex Types and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5120" y="964800"/>
            <a:ext cx="7435800" cy="54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s introduced in SQL:1999 to support complex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and large object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ed relations are an example of collection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ed record structures like composite attribu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ori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ing object identifiers and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fully implemented in any database system 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ome features are present in each of the major commercial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manual of your database system to see what it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ructured Types and Inheritance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15920"/>
            <a:ext cx="784872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Structured typ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.k.a.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user-defined typ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can be declared and used in 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typ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rs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astname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typ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reet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ity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zipcod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ot fi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dicate whether subtypes can b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ed types can be used to create tables with composite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dres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t notation used to reference components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.first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ructured Typ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User-defined row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 Name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ress Address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hen create a table whose rows are a user-defined typ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using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unna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ow typ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_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w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stnam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w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eet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ipcode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)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2T16:02:45Z</dcterms:created>
  <dc:creator>S. Sudarshan</dc:creator>
  <dc:description/>
  <dc:language>en-US</dc:language>
  <cp:lastModifiedBy>S. Sudarshan</cp:lastModifiedBy>
  <cp:lastPrinted>2005-08-09T20:16:31Z</cp:lastPrinted>
  <dcterms:modified xsi:type="dcterms:W3CDTF">2010-05-08T08:39:02Z</dcterms:modified>
  <cp:revision>541</cp:revision>
  <dc:subject/>
  <dc:title>Chapter 21:Application Development and Administration</dc:title>
</cp:coreProperties>
</file>