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08126-F497-4CC1-93A0-220F7F198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68CF4-8DBA-45C8-BAF7-5C9FAF566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F8ECF-1C66-475A-B8BF-973146A9B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BDD8D-DE9A-409A-8D3C-2CFD6061B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C5216-B94E-4BC4-99E2-D94280CA9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FA3A5-6607-4501-9FA8-A4A879F53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9054-E399-4D74-B295-B17875726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93BF-4BE9-46E9-8AE0-0095635D0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A1DCA-40B3-4C85-9CEB-74B6DD075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284C1-77B3-4AE4-883F-D10F08994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3A354-4ADF-45CC-86CB-E03BE7D12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0446-B90E-4EF2-88FB-AC017EBE2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EE4A5-150A-4802-A68A-D8CC20DF9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C8584-5FAC-4DF9-8B73-5B57A82DE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93CB9-73EB-4315-BFB3-6E72C14A9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B2C7-B39A-42C7-B87E-22F772B94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9B625-46B1-4FF8-A97F-2896C5D16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4364E-3BF0-4D7C-BC47-0240817B4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6AB4A-54A3-46D4-8FFB-1AB990B60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C9671-5574-4210-BCB2-02BC3EA8B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3DBDC-901D-425E-B491-DC506C10E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C6821-E407-4BB6-B80E-E9725FBBD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90F58-60B6-4D18-88C4-EC26A32E0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C2373-F672-46E1-8BA6-BF6492897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12526-6F2F-43BB-A892-7A5DFA5D1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33C3D-98A1-4ED0-9340-6C7BC7703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A0341-FD82-4960-9DA7-2B5C98E81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09C7B-9150-4A5E-A7C9-C0B29E964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1C27B-9255-4F30-86EB-02C0B6CDF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03C1F-554F-41AE-A009-8ED15EADC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86561-CCD8-4182-97F0-BA77F49B5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93538-391A-4F58-9230-9E9E87DD8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E040E-B920-4086-BB2E-B820FC804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DA2B-EE8C-44D1-8242-705A0E4A4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77A29-D10A-4448-A4EB-609BBBE2F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B0F50-E6EE-43CE-B972-056172888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38FA-1970-44A9-B1DD-03A9A5811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583B1-94E1-47E7-93AA-990F05C65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EC22-EA11-4EAC-93F5-71CD8A8A9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D21A4-C5C3-4C30-8E14-B4D34AEC4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DF96-FB11-4E3C-93B4-F037859D0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CC803-E1CB-4F4F-BE39-06C6031D8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CDC54-21B4-472C-8516-2EC811E57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12496-BE84-4D7D-8BB4-D3127CB65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A5F55-556F-41A4-BFF3-A84C749CC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A7B74-7A2E-4F88-AC14-0DCC18B24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87664-EC9B-4705-A925-3423CEAB6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930D7-D626-4A14-AE10-2CFCE210B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A348F-BFF5-40C0-8CB9-DEA38BE03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24.</a:t>
            </a:r>
            <a:fld id="{89CE2ED6-E2E4-4E43-897D-12838B61ABAA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65860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4: Advanced Application Develop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rdware Tuning: One-Minute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quentially accessed data, more pages can be read per second.  Assuming sequential reads of 1MB of data at a time: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-minute r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ly accessed data that is access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or more in  a minute should be kep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s of disk and memory have changed greatly over the years, but the ratios have not changed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ules remain as 5 minute and 1 minute rules, not 1 hour or 1 second ru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2640" y="87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rdware Tuning: Choice of RAID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RAID 1 or RAID 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ratio of reads and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5 requires 2 block reads and 2 block writes to write out one data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pplication requi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1 require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+ 2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/O opera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5 require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+ 4w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pera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sonably large r and w, this requires lots of disks to handle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 5 may require more disks than RAID 1 to handle load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arent saving of number of disks by RAID 5 (by using parity, as opposed to the mirroring done by RAID 1) may be illuso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mb rule: RAID 5 is fine when writes are rare and data is very large, but RAID 1 is preferabl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need more disks to handle I/O load, just mirror them since disk capacities these days are enormo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the 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680" y="1114200"/>
            <a:ext cx="812304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ma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ly partition relations to isolate the data that is accessed most often -- only fetch needed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pl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two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-name need not be fetched unles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erformance by storing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alized relatio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tore join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branch-name and balance information is repeated for each holder of  an account, but join need not be computed repeate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aid:  more space and more work for programmer to keep relation consistent on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o use materialized views (more on this later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together on the same disk page records that wou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in a frequently required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join very efficiently when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the Database Desig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680" y="1343160"/>
            <a:ext cx="81914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ppropriate indices to speed up slow queries/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up slow updates by removing excess indices (tradeoff between queries and upd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ype of index (B-tree/hash) appropriate for most frequent types of 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which index to make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uning wizards look at past history of queries and updates (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k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recommend which indices would be best for the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the Database Desig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784836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s can help speed up certain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ly aggregate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or view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view maintenance: done as part of update tx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overhead paid by updat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view maintenance: done only whe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ransaction is not affected, but system time is spent on view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updated, the view may be out-of-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able to denormalized schema since view maintenan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ystems responsibility, not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inconsistencies caused by errors in updat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the Database Desig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choose set of 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ing one transaction type by introducing a materialized view may hurt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of materialized views depends 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often have no idea of actual cost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manual selection of materialized views is ted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atabase systems provide tools to help DBA choose views to mater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zed view selection wiz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of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99452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pproaches to tuning of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set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lock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ing of queries to improve performance was important in the past, but smart optimizers have made this les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overhead and query handling overheads significant part of cost of each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bine multiple embedded SQL/ODBC/JDBC queries into a single set-oriente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rientation -&gt; fewer calls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une program that computes total salary for each department using a separate SQL query by instead using a single query that computes total salaries for all department at once (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tored proced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voids re-parsing and re-optim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of Transa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lock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ransactions (typically read-only) that examine large parts of a relation result in lock contention with upda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large query to compute bank statistics and regular bank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ulti-version concurrenc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Oracle “snapshots” which support multi-version 2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gree-two consistency (cursor-stability) for long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: result may be approx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of Transa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6920" y="1041120"/>
            <a:ext cx="7994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update transactions cause sever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aust loc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aust lo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greatly increase recovery time after a crash, and may even exhaust log space during recovery if recovery algorithm is badly desig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-bat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o limit number of updates that a single transaction can carry out.  E.g., if a single large transaction updates every record of a very large relation, log may grow too b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plit large transaction into batch of “mini-transactions,'' each performing part of the upd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locks across transactions in a mini-batch to ensure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lock table size is a problem can release locks, but at the cost of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 case of failure during a mini-batch,  must complete i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portion on recovery, to ensure atom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formance Simu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formance sim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queuing model useful to predict bottlenecks as well as the effects of tuning changes, even without access to re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ing model as we saw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ctivities that go on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model is quite detailed, but usually omits some low leve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ic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disregard details of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pproximate disk read time by using an average disk r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 can be run on model, and provide an estimate of measures such as average throughput/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tuned in model and then replicated in re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number of disks, memory, algorithm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240" y="128160"/>
            <a:ext cx="883908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hapter 24: Advanced Application Developmen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90440" y="1020240"/>
            <a:ext cx="77724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Bench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formance Benchmar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es of tasks used to quantify the performance of softwa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comparing database systems, especially as systems become more standards compli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performance meas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ransactions per second, or t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elay from submission of transaction to retur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il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ean time to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formance Benchmar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14560"/>
            <a:ext cx="8382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es of tasks used to characterize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ask not enough for complex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when computing average throughput of different transactio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uppose a system runs transaction type A at 99 tps and transaction type B at 1 t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equal mixture of  types A and B,  throughput i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9+1)/2 = 50 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ne transaction of each type takes time 1+.01 seconds, giving a throughput of 1.98 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ute average throughput, us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monic 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lock contention) makes even this incorrect i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ransaction types run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3494160" y="5245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99120" y="5219640"/>
            <a:ext cx="204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… + 1/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pplication Clas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ine transaction processing (OLTP)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high concurrency and clever techniques to speed up commit processing, to support a high rate of update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ision support application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ine analytical processing, or O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good query evaluation algorithms and query optim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of some database systems tuned to one of the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eradata is tuned to decis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try to balance the two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Oracle, with snapshot support for long read-only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nchmarks Sui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Processing Council (TPC) benchmark suites are widely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mple OLTP application modeling a bank teller application with and without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d any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lex OLTP application modeling an inven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ndard for OLTP 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nchmarks Suit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C benchmarks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lex decision support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ceded by TPC-H and TPC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 for ad hoc) based on TPC-D with some extra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d hoc queries which are not known before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f 22 queries with emphasis on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hibits 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indices only on primary and foreig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 for reporting) same as TPC-H, but without any restrictions on materialized views and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(W for Web) End-to-end Web service benchmark modeling a Web bookstore, with combination of static and dynamically generated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PC Performance Meas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C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s-per-sec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specified constraints on response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s-per-second-per-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unts for cost of owning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C benchmark requires database sizes to be scaled up with increasing transactions-per-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s real world applications where more customers means more database size and more transactions-per-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audit of TPC performance numbers mand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C performance claims can be tr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PC Performance Meas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tests for TPC-H and TPC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ower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uns queries and updates sequentially, then takes mean to find queri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roughput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runs queries and update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treams running in parallel each generates queries, with one parallel updat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mposite query per hour me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quare root of product of power and throughpu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mposite price/perform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Benchmar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DB  transactions require a different set of benchma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7 benchmark has several different operations,  and provides a separate benchmark number for each kind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: hard to define what is a typical OODB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s for XML being discu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ndard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lexity of contemporary database systems and the need for their interoperation require a variety of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and semantics of 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n application program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s (e.g., object oriented/object relational datab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mal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tandards developed by a standards organization (ANSI, ISO), or by industry groups, through a public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 facto stand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generally  accepted as standards without any formal process of 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defined by dominant vendors (IBM, Microsoft) often become de facto stand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acto standards often go through a formal process of recognition and become form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ndard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ticipatory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 the market place, defining features that vendors then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compatibility of future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 times become very large and unwieldy since standards bodies may not pay enough attention to ease of implementation (e.g., SQL-92 or  SQL: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ctionary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standardize features that vendors have already  implemented, possibly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hard to convince vendors to change already implemented features.  E.g., OODB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formance Tun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ing various parameters and design choices to improve system performance for a specific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is best done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bottleneck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une a database system at 3 lev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e.g., add disks to speed up I/O, add memory to increase buffer hits, move to a faster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base system parame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.g., set buffer size to avoid paging of buffer, set checkpointing intervals to limit log size. System may have automatic tu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level databas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ch as the schema, indices and transactions (mor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Standards Hist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developed by IBM in late 70s/early 8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86 first form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AA  standard for SQL in 198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89  added features to SQL-86  that were already implemented in man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a reactionary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92 added many new features to SQL-89 (anticipatory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levels of complianc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ry, intermediate and f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now few database vendors have full SQL-9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Standards Histor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variety of new features --- extended data types, object orientation, procedures, trigg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n into severa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/Framework (Part 1): 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/Foundation (Part 2): types, schemas, tables, query/update statements, securit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/CLI (Call Level Interface) (Part 3):  API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/PSM (Persistent Stored Modules) (Part 4): procedural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/Bindings (Part 5): embedded SQL for different embedd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Standards Histor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arts undergoing standardiz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7: SQL/Temporal:  tempor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9: SQL/MED (Management of External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ing of database to external data 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ther databases, even files, can be viewed as part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10 SQL/OLB (Object Language Bindings):  embedding SQL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 part numbers 6 and 8 cover features that are not near standardization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Connectivity Standar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8008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DataBase Conne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tandard for database inter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Level 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LI) developed by X/Open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application programming interface, and SQL features that must be supported at different levels of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dard used for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/Open X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dards define transaction management standards for supporting distributed 2-phase 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-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PI like ODBC, but intended to support non-database sources of data such as fla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E-DB program can negotiate with data source to find what features are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language may be a subset of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 (Active Data Object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asy-to-use interface to OLE-DB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ject Oriented Databases Standar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Database Management Group (ODMG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dard for object-oriented datab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 in 1993 and version 2 in 1997, version 3 in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language indepen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 Definition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DL) as well as several language specif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Management Group (OMG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dard for distributed software based on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Request Broker (OR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transparent message dispatch to distribute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Definition Language (ID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defining language-independent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Object Request Broker Architecture (CORB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s specifications of ORB and I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-Based Standar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XML based Standards for 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RosettaNet (supply chain), BizTa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catalogs, service descriptions, invoices, purchase ord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rappers are used to export  information from relational databases 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Object Access Protocol (SOAP):  XML based remote procedure cal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XML to encode data, HTTP as transpor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based on SOAP for specific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OLAP and Data Mining standards from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-Commer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commerce is the process of carrying out various activities related to commerce through electronic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ale activities:  catalogs, advertisemen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process:  negotiations on price/quality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place:  e.g., stock exchange, auctions, reverse a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fo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related activities:  electronic shipping, or electronic tracking of order processing/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support and post-sal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-Catalog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catalogs must provide searching and browsing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products into intuitiv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customer with comparison of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ation of 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tiated pricing for specific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iscounts for customers based on past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loyalty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restrictions on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items not exposed to under-age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ation requires extensive customer-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rketpla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9786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places help in negotiating the price of a product when there are multiple sellers and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types of market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world marketplaces can be quite complicated due to produc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e bid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buy/sell bids secu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bids quickly to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can lead to financial loss to some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handle very large volumes of trade a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t the end of an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ypes of Marketpla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verse auction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ngle buyer, multiple sel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er states requirements, sellers bid for supplying items.  Lowest bidder wins.  (also known as tender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n bid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d bi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ltiple buyers, single 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 case: only one instance of each item is being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bidder for an item w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icated with multiple copies, and buyers bid for specific number of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ha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buyers, multiple s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tock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ers specify maximum price, sellers specify minimum 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matches buy and sell bids, deciding on price for the t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verage of buy/sell b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ottlene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of most systems (at least before they are tuned) usually limited by performance of one or a few components: these are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80% of the code may take up  20% of time and 20% of code takes up 80%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th spending most time on 20% of code that take 80%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s may be in hardware (e.g., disks are very busy, CPU is idle), or in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ing one bottleneck often exposes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bottlenecking consists of repeatedly finding bottlenecks, and remov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 Settl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settlement:  payment for goods and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ure means for electronic payment: send credit car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ers may present some one else’s credit card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er has to be trusted to bill only for agreed-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er has to be trusted not to pass on the credit card number to unauthorize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e pay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above-mentione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greater degree of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not reveal buyers identity to 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anyone monitoring the electronic transmissions cannot access critic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ure Payment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819756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formation must be encrypted to prevent eaves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 key encryption 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even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on-in-the-middle attack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omeone impersonates seller or bank/credit card company and fools buyer into revealing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ng messages alone doesn’t solve thi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is i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-way communication between seller, buyer and credit-card company to mak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card company credits amount to 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card company consolidates all payments from a buyer and collects them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via buyer’s bank through physical/electroni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ure Payment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gital certificate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to prevent impersonation/man-in-the 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ion agency creates digital certificat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rypting, e.g., seller’s public key using its own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es sellers identity by external means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er sends certificate to 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uses public key of certification agency to decrypt certificate and find sellers public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-in-the-middle cannot send fake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ers public key used for setting up secur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cure payment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ure Electronic Transaction (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gital Cas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680" y="1114200"/>
            <a:ext cx="799272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-card payment does not provide anony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protocol hides buyers identity from 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ven with SET, buyer can be traced with help of credit car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cash systems provide anonymity similar to that provided by physical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g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encryption techniques that make it impossible to find out who purchased digital cash from the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cash can be spent by purchaser in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writing a check on an account whose owner is anony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gacy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1388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cy systems are older-generation systems that are incompatible with current generation standards and systems but still in productio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pplications written in Cobol that run on main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hot new system is tomorrows legacy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legacy system applications to a more modern environment i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expensive, since legacy system may involve millions of lines of code, written over dec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ogrammers usually no longer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over from old system to new system is a 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pproach: buil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yer on top of legacy application to allow interoperation between newer systems and legac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use ODBC or OLE-DB as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gacy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ing legacy application requires a first phase of understanding what i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gacy code has no documentation or outdated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vers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of going over legacy cod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up with schema designs in ER or O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out what procedures and processes are implemented, to get a high level view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-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verse engineering followed by design of ne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are made on existing system design in th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gacy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over from old to new system is a major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systems are in every day, generating ne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ing the system may bring all of a company’s activities to a halt, causing enormous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ig-bang appro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complete ne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 it with data from old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ransactions while this step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are created to do this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 down old system and start using ne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anger with this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what if new code has bugs or performance problems, or missing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 may be brought to a h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gacy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79801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icken-little appro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legacy system one piece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wrappers to interoperate between legacy and ne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replace front end first, with wrappers on legacy back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ront end can continue working in this phase in case of problems with new fro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back end, one functional uni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arts that share a database may have to be replaced together, or wrapper is needed on database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:  significant extra development effort to build wrappers and ensure smooth inter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worth it if company’s life depends on syst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dentifying Bottlene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9588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request a sequence of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PU, Disk I/O,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oncurrent transactions, transactions may have to wait for a  requested service while other transactions are being ser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odel database a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eueing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queue for each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repeatedly do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a service, wait in queue for the service, and get servi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s in a database system typically show up as very high utilizations (and correspondingly, very long queues) of a particula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isk vs.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utilization leads to very long waiting ti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of thumb: design system for about 70% utilization at pea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tion over 90% should be 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85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ues In A 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Picture 5" descr="allFigures.pdf"/>
          <p:cNvPicPr/>
          <p:nvPr/>
        </p:nvPicPr>
        <p:blipFill>
          <a:blip r:embed="rId1"/>
          <a:stretch/>
        </p:blipFill>
        <p:spPr>
          <a:xfrm>
            <a:off x="655560" y="890640"/>
            <a:ext cx="74073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able Paramet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of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of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of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of materialized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ing of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ning of Hardwa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ell-tuned transactions typically require a few I/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disk supports about 100 random I/O opera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each transaction requires just 2 random I/O operations.  Then to supp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actions per second, we need to stripe data acro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50 disks (ignoring sk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/O operations per transaction can be reduced by keeping more data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data is in memory, I/O needed only fo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frequently used data in memory reduces disk accesses, reducing number of disks required, but has a memory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rdware Tuning: Five-Minute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5440" y="982440"/>
            <a:ext cx="85168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which data to keep in mem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is access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per second, keeping it in memory sa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*        price-per-disk-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s-per-second-per-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keeping page in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-per-MB-of-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s-per-MB-of-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-even point: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which above costs 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cesses are more then saving is greater than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above equation with current disk and memory prices leads to:</a:t>
            </a: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-minute r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ge that is randomly accessed is used more frequently than once in 5 minutes it should be kept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buying sufficient memor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076480" y="2119320"/>
            <a:ext cx="31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1655640" y="3236760"/>
            <a:ext cx="301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6:02:45Z</dcterms:created>
  <dc:creator>S. Sudarshan</dc:creator>
  <dc:description/>
  <dc:language>en-US</dc:language>
  <cp:lastModifiedBy>as668</cp:lastModifiedBy>
  <cp:lastPrinted>2000-07-13T17:21:22Z</cp:lastPrinted>
  <dcterms:modified xsi:type="dcterms:W3CDTF">2010-02-10T14:56:22Z</dcterms:modified>
  <cp:revision>498</cp:revision>
  <dc:subject/>
  <dc:title>Chapter 21:Application Development and Administration</dc:title>
</cp:coreProperties>
</file>