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6F614B-90BF-4759-893D-BDFAC05B0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C4B571-DA0C-40EC-AB83-0322CF538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EFDA00-C835-4825-8144-6D48A77D3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7140F5-80FD-4A3F-8402-424BA8C26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1117C6-B57E-4A91-A930-6F10A242D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7F5508-BF2B-4754-A7D6-9B3344C02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C41200-8647-4995-B562-2FC287A52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5D89DD-EC63-4727-B3D5-8C28116C5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9175D2-80D4-4F0A-BD51-A4812C04F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C18ABF-1197-4A61-A085-43A091838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BA600B-A3E6-49BF-A323-31F82DA48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43EFC1-2675-4EB9-A7F0-29029D544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BF9873-0FD5-4CEF-B8B7-DFA668238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94E12F-96A2-4D64-9103-30E098ABA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C14389-2490-40FB-93A3-0657CFFBD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9EE62F-BB59-4D8B-95F2-FC8DFC4B9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9A4F2F-6B65-4227-B3F9-FF26E855F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D851A2-F9A8-495B-B8AC-E752D7187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E4812F-B362-408B-AF7C-0852164E9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F33DCA-428C-48C8-B8E6-9BD5C6AC6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1818EB-3A9B-4E50-BD30-F8793340B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D3E644-C843-4B61-A0E3-82A55D402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853F01-24AA-4B64-A4F1-68AD8CBFF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A13688-FFAC-44DD-A75F-EE8A5E3E7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4C29EA-1FAB-4B78-B72A-ED18AF884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038D1F-0EE0-43DF-9EEF-EC5861327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0BAEDA-EAB4-47E2-B18A-6881ED807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BAB451-C431-41B6-BE31-ADCEEB1E5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259694-0769-4856-A4D6-A15F91FA6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1B97E9-D1A7-4B77-A51F-EEEF4137B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79A20A-54F5-4ED5-A78F-7B3EF8970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A776EB-E791-4CC1-87C5-849EE3182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C37E8F-02A8-421A-B5B0-C3C20BACA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DFBB5B-B77D-4523-BBB0-7DBDBFAD7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737439-18B6-49F1-95B8-BE28619B3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7ACC37-3171-4B57-91B9-ACC688053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CCABE5-84D9-4F7B-9383-A231F3DC1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9718A5-98D5-4888-870B-EC9FD8BC5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5F7D48-A0D0-421D-9992-0A53D0046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F7BD35-A790-4BD9-A8B8-18B44DFCB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477DDC-6AFA-4844-8C56-D5CC9A725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1CA352-4FA8-4057-9AD4-3C2B4B132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E3F951-B4A1-4266-82B4-BCFD68773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72F3E5-1CCD-454C-A4D9-F06EC5B41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040023-CCF9-4FCB-AB9A-F94B893C4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F95B88-8049-4769-8683-7CDB836C0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620730-3D3D-4548-9198-1B2E3290F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65ABFF-DB61-47E2-A8F6-4CE8171CB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94ABE8-21C9-429C-AD9F-D778C81FA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715EA7-4833-44B9-AAAD-774BC2ABD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356F2D-0B93-4216-AC6A-92F32F470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7253C2-5B33-430D-BDFD-F7EC5A70B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3E95C4-63B0-4FB6-8249-E9DA843F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CE4904-372D-4BD8-8448-EBAF81E2E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06918C-250D-4A14-B221-1CBB6B353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E5B1C7-08A6-494E-8BC6-8D0AD9D20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0E5ED6-5B5F-47D0-BF21-CDD6FBD4B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0CE7-5998-4CC6-A89C-BBE54FE45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1A0A-94C3-4723-9EEF-FEFF4CBA3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71EB-D7F9-4AF5-9C54-49C9914EA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9AB9-9D5F-41F1-8253-F9A7ED31B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614-365F-4506-B327-3425871215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9ED-CBA7-478E-8012-0C00BE770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71C-DE84-4F6B-BD90-6BD9FB4383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40C-DCFD-4ABE-8891-7152940A88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0F5-FA55-4AB5-AB0D-C95897B0A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BF8-7F72-4670-AC57-0C1695A7E1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354-4141-48E7-BD77-73AE845E8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C5A6-158F-40CB-A1AB-E75EFD952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229-929F-41FC-8ECA-AC629714E1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E7D-21F8-4D25-B029-C44CF1426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2A0-3C5A-4F54-8512-5228381B5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04B-C141-4C25-A9E0-F8C816F937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417-47A1-4633-9DF3-14E7F97C8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0C32-06C9-4F9E-9367-22F7DCD06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D0AD-5537-462C-8747-FBBFE3067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6BB5-0ABD-4ABB-ADAC-7FE088444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1A52-1E22-4B7B-997C-75FDD48BB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10EA-B504-4594-BAB7-B6F179660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20A4-7ECC-4AA2-8F9C-97824DAE4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FDE9-F18E-4246-96EA-A7368B58B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F5BB-5D75-497B-A726-13B2CEFD692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2.</a:t>
            </a:r>
            <a:fld id="{209D5183-5737-4F03-8AE8-8070B1E7595D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D2E-F754-419E-B268-534D1F81ED9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2: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7360" y="1047600"/>
            <a:ext cx="8363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File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inear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Scan each file block and test all records to see whether they satisfy the selectio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number of blocks containing records from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lection is on a key attribute, can stop on finding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 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earch can be applied regardles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condition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records in the file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binary search generally does not make sense since data is not stored consecu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when there is an index avail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inary search requires more seeks than index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dex s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earch algorithms that use a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condition must be on search-key of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trieve a single record that satisfies the corresponding equality condi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will be on consecutiv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b = number of blocks containing matchin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a single record if the search-key is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= 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 if search-key is not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ing records may be on a different bloc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)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very expens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Involving Comparis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960" y="980640"/>
            <a:ext cx="8553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lement selections of the for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y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ar file sc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y using indices in the following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lation is sorted 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tup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scan relation sequentially  from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relation sequentially till first tuple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index ent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can index sequentially  from there, to find pointers to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leaf pages of index finding pointers to records, till first entry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case, retrieve records that are poin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 I/O for each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ile scan may be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Complex Sele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7840" y="1165320"/>
            <a:ext cx="8396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junction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njunctive selection using on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combination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gorithms A1 through A7 that results in the least cost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ther conditions on tuple after fetching it into memory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njunctive selection using composit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ppropriate composite (multiple-key) index if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njunctive selection by intersection of identifi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indices with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rresponding index for each condition, and take intersection of all the obtained sets of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fetch records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me conditions do not have appropriate indices, apply tes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lgorithms for Complex Sele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2760" y="1164960"/>
            <a:ext cx="77374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junction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isjunctive selection by union of identif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itions have available indi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use linear s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rresponding index for each condition, and take union of all the obtained sets of record poin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fetch records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on: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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inear scan 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ery few records satisf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n index is applicable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atisfying records using index and fetch 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rt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ay build an index on the relation, and then use the index to read the relation in sorted order.  May lead to one disk block access for each tu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lations that fit in memory, techniques like quicksort can be used.  For relations that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t in memor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-mer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ood cho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363320"/>
            <a:ext cx="81169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so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u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0 initial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do the following till the end of the rel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(a)  Re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s of relation into mem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(b)  Sort the in-memory blo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(c)  Write sorted data to ru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incre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final value 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ge the runs (next slide)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2800" y="98316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 size (in pag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 the runs (N-way mer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(for now)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s of memory to buffer input runs, and 1 block to buffer output. Read the first block of each run into its buff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120" indent="-335880"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rst record (in sort order) among all buffer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120" indent="-335880"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record to the output buffer.  If the output buffer is full write it to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120" indent="-335880"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he record from its input buffer p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uffer page becomes emp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read the next block (if any) of the run into the buff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input buffer pages are emp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Sort-Merg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797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veral mer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pass, contiguous group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 runs are merg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ss reduces the number of runs by a facto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, and creates runs longer by the same fac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 If M=11, and there are 90 runs, one pass reduces the number of runs to 9, each 10 times the size of the initial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passes are performed till all runs have been merged into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2: 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2400" y="1062000"/>
            <a:ext cx="6564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Quer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per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8480" y="152280"/>
            <a:ext cx="7812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: External Sorting Using Sort-Merg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138400" y="712800"/>
            <a:ext cx="51498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block per run leads to too many seeks during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ffer blocks pe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erg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/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runs in on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merge passes required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M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 for initial run creation as well as in each pass is 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nal pass, we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ount write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gnore final write cost for all operations since the output of an operation may be sent to the parent operation without being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total number of block transfers for external sorting: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 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–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 M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: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Merge Sor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run generation: one seek to read each run and one seek to write each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he merg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s for each merge 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the final one which does not require a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seek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M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different algorithms to implement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d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based on cost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use the follow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5,0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o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1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7931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the theta join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i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f they satisfy the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ner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indices and can be used with any kind of joi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ive since it examines every pair of tuples in the two re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28"/>
          <p:cNvSpPr/>
          <p:nvPr/>
        </p:nvSpPr>
        <p:spPr>
          <a:xfrm rot="5400000">
            <a:off x="4957560" y="13129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4520" y="1164960"/>
            <a:ext cx="81151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, if there is enough memory only to hold one block of each relation, the estimated cost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, p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maller relation fits entirely in memory, use that as the inn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co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 and 2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worst case memory availability cost estim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uter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0 + 100 = 2,000,100 block transf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+ 100 = 5100 see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outer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+ 400 = 1,000,400 block transfers and 10,400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aller rel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ts entirely in memory, the cost estimate will be 500 block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ested-loops algorithm (next slide) is pref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185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of nested-loop join in which every block of inner relation is paired with every block of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 the join condi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8320" y="1165320"/>
            <a:ext cx="7888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estimate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transfers + 2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in the inn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ad once 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outer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as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2 s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to nested loop and block nested loop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lock nested-loop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isk blocks as blocking unit for outer relations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emory size in blocks; use remaining two blocks to buffer inner relation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i-join attribute forms a key or inner relation, stop inner loop on firs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ner loop forward and backward alternately, to make use of the blocks remaining in buffer (with LRU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on inner relation if available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ed 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80038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lookups can replace file scans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s an equi-join or natural jo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dex is available on the inner rel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joi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struct an index just to compute a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out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the index to look up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satisfy the join condition wit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:  buffer has space for only one pag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, for each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perform an index lookup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the join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st of traversing index and fetching all match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s for one tuple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estimated as cost of a single selection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the join con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dices are available on join attributes o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lation with fewer tuples as the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Nested-Loop Join Cos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    tak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out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rimary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ex on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ains 20 entries in each index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10,000 tuples, the height of the tree is 4, and one more access is needed to find the actu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5000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block nested loops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*100 + 100 =  40,100 block transfers + 2 * 100 = 200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worst case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significantly less with mor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indexed nested loops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+ 5000 * 5 = 25,100  block transfers and see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cost likely to be less than that for block nested loops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rot="5400000">
            <a:off x="3052440" y="1216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656424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957240" y="2230560"/>
            <a:ext cx="72327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1880" y="845640"/>
            <a:ext cx="78552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-3502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oth relations on their join attribute (if not already sorted on the join attrib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the sorted relations to joi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step is similar to the merge stage of the sort-merge algorith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ifference is handling of duplicate values in join attribute — every pair with same value on join attribute must be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algorithm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4716360" y="3179880"/>
            <a:ext cx="34498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rge-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7720" y="1165320"/>
            <a:ext cx="8315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only for equi-joins and natural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needs to be read only once (assuming all tuples for any given value of the join attributes fit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the cost of merge join i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lock transfers 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the cost of sorting if relations are uns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hybrid merge-jo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relation is sorted, and the other has a secondary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ndex on the joi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the sorted relation with the leaf entries of 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the result on the addresses of the unsorted rel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the unsorted relation in physical address order and merge with previous result, to replace addresses by the actual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can more efficient than random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3560" y="1093320"/>
            <a:ext cx="840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for equi-joins and natural jo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sh fun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partition tuples of both re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Att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to {0, 1, ..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Att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the common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the natural jo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. . .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ote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ut in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= h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JoinAttrs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otes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ut in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= h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JoinAttrs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ok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i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not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666800" y="800280"/>
            <a:ext cx="558324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185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only to be compar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 not be compar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 in any other partitio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and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that satisfy the join condition will have the same value for the join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at value is hashed to some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has to b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Algorith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3960" y="1522440"/>
            <a:ext cx="743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the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hashing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When partitioning a relation, one block of memory is reserved as the output buffer for each par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il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memory and build an in-memory hash index on it using the join attribute.  This hash index uses a different hash function than the earlier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disk one by one.  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cate each matching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the in-memory hash index.  Output the concatenation of their attrib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69520" y="114984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sh-joi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mput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9880" y="5812560"/>
            <a:ext cx="79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build in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be input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-Join algorithm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53768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hash fun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hosen such that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fit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n is chosen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f  where f i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fudge fac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ypically aroun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e relation parti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 not fit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cursive partitio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f number of parti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eater than number of p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partitio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ys, u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M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artitions fo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partiti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artitions using a different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ame partitioning metho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ly required: e.g., with block size of 4 KB, recursive partitioning not needed for relations of &lt; 1GB with memory size of 2MB, or relations of &lt; 36 GB with memory of 12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Overflo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93584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is said to be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ske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some partitions have significantly more tuples than som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-table over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 in parti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fit in memory.  Reasons c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uples in s with same value for join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hash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verflow re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done in build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urther partitioned using different hash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similarly partitio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verflow avo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s partitioning carefully to avoid overflows during build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artition build relation into many partitions, then combin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approaches fail with large numbers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back option: use block nested loops join on overflowed 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st of Hash-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2760" y="1164960"/>
            <a:ext cx="7786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cursive partitioning is not required: cost of hash join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3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cursive partitioning requi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asses required for partition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ss than M blocks per partition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to choose the smaller relation as the build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ost estimate i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/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entire build input can be kept in main memory no partitioning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goes down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Cost of Hash-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3120" y="1611000"/>
            <a:ext cx="7764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memory size is 2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o be used as build input.  Partition it into five partitions, each of size 20 blocks.  This partitioning can be done in one p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five partitions,each of size 80.  This is also done in one p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total cost, ignoring cost of writing partially filled bl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(100 + 400) = 1500 block transfers 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336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077480" y="100872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t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 rot="5400000">
            <a:off x="2349000" y="113652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7080" y="495360"/>
            <a:ext cx="7291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921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query into its internal form.  This is then translated into relational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checks syntax, verifie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-execution engine takes a query-evaluation plan, executes that plan, and returns the answers to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ybrid Hash–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278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memory sized are relatively large, and the build input is bigger tha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feature of hybrid hash jo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the first partition of the build relation in memo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With memory size of 25 block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artitioned into five partitions, each of size 20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partition occupies 20 blocks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lock is used for input, and 1 block each for buffering the other 4 part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imilarly partitioned into five partitions each of size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is used right away for probing, instead of being written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3(80 + 320) + 20 +80 = 1300 block transfer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 hash join, instead of 1500 with plain hash-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hash-join most useful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5391000" y="5877000"/>
                <a:ext cx="506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Joi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807372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with a conjunctive 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use nested loops/block nested loop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ult of one of the simpler jo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sult comprises those tuples in the intermediate result that satisfy the remain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. 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. 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with a disjunctive condi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1049"/>
              </a:spcBef>
              <a:buNone/>
              <a:tabLst>
                <a:tab algn="l" pos="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use nested loops/block nested loop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s the union of the records in individual jo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876"/>
              </a:spcBef>
              <a:buNone/>
              <a:tabLst>
                <a:tab algn="l" pos="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. 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876"/>
              </a:spcBef>
              <a:buNone/>
              <a:tabLst>
                <a:tab algn="l" pos="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 rot="5400000">
            <a:off x="3085920" y="16826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 rot="5400000">
            <a:off x="7032240" y="25430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5400000">
            <a:off x="5397120" y="57848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 rot="5400000">
            <a:off x="3179880" y="450864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 rot="5400000">
            <a:off x="2109600" y="57704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5400000">
            <a:off x="8070480" y="5397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 rot="5400000">
            <a:off x="3425400" y="575604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8991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uplicate elim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mplemented via hashing or s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orting duplicates will come adjacent to each other, and all but one set of duplicates can be dele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timiz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s can be deleted during run generation as well as at intermediate merge steps in external sort-me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ing is similar – duplicates will come into the same bu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j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projection on each tu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duplicate elimin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Aggreg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800" y="1093320"/>
            <a:ext cx="80726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Aggr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implemented in a manner similar to duplicate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ing or hashing can be used to bring tuples in the same group together, and then the aggregate functions can be applied on each group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timiz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uples in the same group during run generation and intermediate merges, by computing partial aggrega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unt, min, max, sum: keep aggregate values on tuples found so far in the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bining partial aggregate for count, add up the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g, keep sum and count, and divide sum by count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200" y="1165320"/>
            <a:ext cx="8101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oper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can either use variant of merge-join after sorting, or variant of hash-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et operations using has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both relations using the same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each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different hashing function, build an in-memory 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604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hash index if they are not already in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8604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 the tuples in the hash index to the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75517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et operations using has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efore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efore, process each part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332640">
              <a:spcBef>
                <a:spcPts val="1049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332640"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6520" indent="-332280">
              <a:spcBef>
                <a:spcPts val="876"/>
              </a:spcBef>
              <a:buClr>
                <a:srgbClr val="ff99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9160" indent="-332640"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upl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 if they are already there in the hash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6520" indent="-332280">
              <a:spcBef>
                <a:spcPts val="876"/>
              </a:spcBef>
              <a:buClr>
                <a:srgbClr val="ff99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9160" indent="-332640"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there in the hash index, delete it from the ind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9160" indent="-332640"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 remaining tuples in the hash index to the resul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34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 jo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uted either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oin followed by addition of null-padded non-participating tu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odifying the join algorith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merge 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n participating tuples are thos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merge-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merging, for every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do not match any tupl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dded with nu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outer-join and full outer-join can be computed simil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4479840" y="3235320"/>
                <a:ext cx="15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2" name="AutoShape 7"/>
          <p:cNvSpPr/>
          <p:nvPr/>
        </p:nvSpPr>
        <p:spPr>
          <a:xfrm rot="5400000">
            <a:off x="7908480" y="317016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2182320" y="3157560"/>
            <a:ext cx="414720" cy="209520"/>
            <a:chOff x="2182320" y="3157560"/>
            <a:chExt cx="414720" cy="209520"/>
          </a:xfrm>
        </p:grpSpPr>
        <p:sp>
          <p:nvSpPr>
            <p:cNvPr id="204" name="AutoShape 9"/>
            <p:cNvSpPr/>
            <p:nvPr/>
          </p:nvSpPr>
          <p:spPr>
            <a:xfrm flipV="1" rot="16200000">
              <a:off x="2387520" y="315756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 flipH="1">
              <a:off x="2187720" y="31604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>
              <a:off x="2182320" y="33559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5292360" y="3543480"/>
            <a:ext cx="414720" cy="209520"/>
            <a:chOff x="5292360" y="3543480"/>
            <a:chExt cx="414720" cy="209520"/>
          </a:xfrm>
        </p:grpSpPr>
        <p:sp>
          <p:nvSpPr>
            <p:cNvPr id="208" name="AutoShape 18"/>
            <p:cNvSpPr/>
            <p:nvPr/>
          </p:nvSpPr>
          <p:spPr>
            <a:xfrm flipV="1" rot="16200000">
              <a:off x="5497560" y="354348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 flipH="1">
              <a:off x="5297760" y="35463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 flipH="1">
              <a:off x="5292360" y="374184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5189040" y="2766960"/>
            <a:ext cx="414720" cy="209520"/>
            <a:chOff x="5189040" y="2766960"/>
            <a:chExt cx="414720" cy="209520"/>
          </a:xfrm>
        </p:grpSpPr>
        <p:sp>
          <p:nvSpPr>
            <p:cNvPr id="212" name="AutoShape 26"/>
            <p:cNvSpPr/>
            <p:nvPr/>
          </p:nvSpPr>
          <p:spPr>
            <a:xfrm flipV="1" rot="16200000">
              <a:off x="5394240" y="276696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7"/>
            <p:cNvSpPr/>
            <p:nvPr/>
          </p:nvSpPr>
          <p:spPr>
            <a:xfrm flipH="1">
              <a:off x="5194440" y="2769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8"/>
            <p:cNvSpPr/>
            <p:nvPr/>
          </p:nvSpPr>
          <p:spPr>
            <a:xfrm flipH="1">
              <a:off x="5189040" y="29653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Operations : Outer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9135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hash join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       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robe relation, output non-match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 padded with nu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uild relation, when probing keep track of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uples match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.  At end 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atch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s padded with nu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95680" y="3282840"/>
                <a:ext cx="15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18" name="Group 25"/>
          <p:cNvGrpSpPr/>
          <p:nvPr/>
        </p:nvGrpSpPr>
        <p:grpSpPr>
          <a:xfrm>
            <a:off x="5052600" y="1274760"/>
            <a:ext cx="414720" cy="209520"/>
            <a:chOff x="5052600" y="1274760"/>
            <a:chExt cx="414720" cy="209520"/>
          </a:xfrm>
        </p:grpSpPr>
        <p:sp>
          <p:nvSpPr>
            <p:cNvPr id="219" name="AutoShape 26"/>
            <p:cNvSpPr/>
            <p:nvPr/>
          </p:nvSpPr>
          <p:spPr>
            <a:xfrm flipV="1" rot="16200000">
              <a:off x="5257800" y="1274760"/>
              <a:ext cx="209520" cy="20952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H="1">
              <a:off x="5058000" y="12776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>
              <a:off x="5052600" y="147312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aluation of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: we have seen algorithms for individu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for evaluating an entire expressio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ater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generate results of an expression whose inputs are relations or are already computed,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ater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ore) it on disk.  Rep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ipel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ass on tuples to parent operations even as an operation is being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udy above alternatives in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7580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aterialized evalu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one operation at a time, starting at the lowest-level.  Use intermediate results materialized into temporary relations to evaluate next-level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n figure below, compute and stor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mpute the store its joi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 compute the projection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2622600"/>
                <a:ext cx="3386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ildin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Wats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partme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Picture 14" descr=""/>
          <p:cNvPicPr/>
          <p:nvPr/>
        </p:nvPicPr>
        <p:blipFill>
          <a:blip r:embed="rId1"/>
          <a:stretch/>
        </p:blipFill>
        <p:spPr>
          <a:xfrm>
            <a:off x="2797200" y="3772080"/>
            <a:ext cx="382752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5960" y="301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: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1149120"/>
            <a:ext cx="802512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onal algebra expression may have many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lational algebra operation can be evaluated using one of several differ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ly, a relational-algebra expression can be evaluated in many w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 expression specifying detailed evaluation strategy is called 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valuation-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 use an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instructors with salary &lt; 75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perform complete relation scan and discard instructors with sala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terial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ized evaluation is always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writing results to disk and reading them back can be quit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ost formulas for operations ignore cost of writing results to disk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cost  =  Sum of costs of individual operations +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cost of writing intermediate results to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ouble buff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two output buffers for each operation, when one is full write it to disk while the other is getting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overlap of disk writes with computation and reduces execu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80899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ipelined evaluatio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valuate several operations simultaneously, passing the results of one operation on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n previous expression tree,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store result of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pass tuples directly to the join..  Similarly,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store result of join, pass tuples directly to proj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cheaper than materialization: no need to store a temporary relation to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ing may not always be possible – e.g., sort, hash-jo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ipelining to be effective, use evaluation algorithms that generate output tuples even as tuples are received for inputs to the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s can be executed in two ways: 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mand dr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ducer driven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2324160" y="2225520"/>
                <a:ext cx="3386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ildin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Watson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partme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52600" y="1165320"/>
            <a:ext cx="822456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mand driv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az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repeatedly requests next tuple  from top leve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peration requests  next tuple from children operations as required, in order to output its next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tween calls, operation has to maintai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it knows what to retur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oducer-dr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 produce tuples eagerly and pass them up to thei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maintained between operators, child puts tuples in buffer, parent removes tuples from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uffer is full, child waits till there is space in the buffer, and then generates more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chedules operations that have space in output buffer and can process more input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name: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 of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pelin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093680"/>
            <a:ext cx="8255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demand-driven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peration is implemented as 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ing the follow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ile scan: initialize file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-2192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pointer to beginning o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merge join: sort rel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-2192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pointers to beginning of sorted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or file scan: Output next tuple, and advance and store file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or merge join:  continue with merge from earlier state ti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output tuple is found.  Save pointers as iterato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valuation Algorithms for Pipelin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8022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lgorithms are not able to output results even as they get input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erge join, or hash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results written to disk and then rea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variants to generate (at least some) results on the fly, as input tuples are rea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hybrid hash join generates output tuples even as probe relation tuples in the in-memory partition (partition 0) are rea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Double-pipelined join tech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ybrid hash join, modified to buffer partition 0 tuples of both relations in-memory, reading them as they become available, and output results of any matches between partition 0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new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 is found, match it with existing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s, output matches, and save it i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ally for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2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2430360" y="1508040"/>
            <a:ext cx="4789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per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3389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-A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inary search)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if selection is an equality comparison on the attribute on which file is orde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blocks of a relation are stored contigu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estimate (number of disk blocks to be scann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locating the first tuple by a binary search on th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multiple records satisfying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 transfer cost 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s containing records that satisfy selection cond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ee how to estimate this cost in Chapter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: Optim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Query Optimizatio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ongst all equivalent evaluation plans choose the one with lowest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estimated using statistical information from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number of tuples in each relation, size of tup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hapter w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easure qu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evaluating relational algebr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mbine algorithms for individual operations in order to evaluate a complet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apter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udy how to optimize queries, that is, how to find an evaluation plan with lowest estimate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8980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generally measured as total elapsed time for answering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tors contribute to ti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k accesses,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even 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isk access is the predominant cost, and is also relatively easy to estimate.   Measured by taking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eeks             * average-seek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read     * average-block-read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written * average-block-write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write a block is greater than cost to read a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read back after being written to ensure that the write was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2760" y="1164960"/>
            <a:ext cx="8073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plicity we just use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block transf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disk an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see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cos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to transfer on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for one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or b block transfers plus S see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S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gnore CPU costs for 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systems do take CPU cost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include cost to writing output to disk in our cost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91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algorithms can reduce disk IO by using extra buffer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real memory available to buffer depends on other concurrent queries and OS processes, known only dur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ften use worst case estimates, assuming only the minimum amount of memory needed for the operatio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data may be buffer resident already, avoiding disk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ard to take into account for co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8:58:38Z</dcterms:created>
  <dc:creator>Silberschatz, Korth and Sudarshan</dc:creator>
  <dc:description/>
  <dc:language>en-US</dc:language>
  <cp:lastModifiedBy>Sudarshan</cp:lastModifiedBy>
  <cp:lastPrinted>1999-06-28T19:27:31Z</cp:lastPrinted>
  <dcterms:modified xsi:type="dcterms:W3CDTF">2012-03-14T15:17:55Z</dcterms:modified>
  <cp:revision>485</cp:revision>
  <dc:subject/>
  <dc:title>Chapter 12: Query Processing</dc:title>
</cp:coreProperties>
</file>