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2.wmf" ContentType="image/x-wmf"/>
  <Override PartName="/ppt/media/image20.jpeg" ContentType="image/jpeg"/>
  <Override PartName="/ppt/media/image31.jpeg" ContentType="image/jpeg"/>
  <Override PartName="/ppt/media/image10.wmf" ContentType="image/x-wmf"/>
  <Override PartName="/ppt/media/image24.jpeg" ContentType="image/jpeg"/>
  <Override PartName="/ppt/media/image23.wmf" ContentType="image/x-wmf"/>
  <Override PartName="/ppt/media/image11.jpeg" ContentType="image/jpeg"/>
  <Override PartName="/ppt/media/image35.wmf" ContentType="image/x-wmf"/>
  <Override PartName="/ppt/media/image5.wmf" ContentType="image/x-wmf"/>
  <Override PartName="/ppt/media/image6.jpeg" ContentType="image/jpeg"/>
  <Override PartName="/ppt/media/image3.jpeg" ContentType="image/jpeg"/>
  <Override PartName="/ppt/media/image28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media/image30.jpeg" ContentType="image/jpeg"/>
  <Override PartName="/ppt/media/image7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18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A162032-97FE-4D82-900E-6C09A957A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95C22DD-189D-4E45-BEBD-7CBAEC725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14C2DB8-F895-4B17-89F3-ACAABFB0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92BD867-A460-490E-8A7C-0DB3EB2D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DDDFB23-1DA5-4E23-A6D0-539CC3679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2F92691-860B-4DDD-BCE6-676C61F8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A62813A-750F-4FC7-A70A-AC9BB3693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657AE06-0102-47BA-9A78-30CC7DD53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FD64E8-4981-44CF-A160-FE7297A5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410B0A8-AF52-42C2-9849-0B25086B7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1155412-1D7D-4B66-81E7-9F5AA2F25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A1E2BB0-68B7-4288-9854-7A69B4A3E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3EFEC55-4115-4876-B8D9-F2DE15B9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A9ADB82-6A45-4944-B9CC-BB19D649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5280B0F-C92A-4AC8-A090-A75E07D01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8D2EE8A-275B-4805-9E05-A8F40B102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74563C5-2FC3-4C8E-8B59-84AED3B3D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A237726-2ED2-4B75-95A1-6D9E7E6B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6432474-E83C-4930-9E73-1209DAE33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C68DB2A-ECC8-42AF-ACB2-1FEA4357D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0970BF8-C858-4AF4-8103-2C24A65F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EB4F921-29D5-4400-A262-F0DB606C2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8256B55-0C1F-4593-B453-D007626A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800A618-FBD1-4FFF-9B7E-4E029506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B60430E-C70B-46EC-A103-D6E1B6B3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07A9BC9-4011-44AE-AC6F-16A272BC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15CAE0A-0BE3-4D04-8044-C12B4ACBC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462F6E7-C3EC-418A-9DC3-2B53C5CC6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3309F1A-7A05-4251-8D2D-ED7E18B8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5488DC6-7794-4C7E-A330-280C5CD0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009721A-3A0B-4C53-9293-7361A15B1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121713D-E6E7-4EEF-A21C-DB2C11B23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18F8C21-10D5-48BF-A4C9-3D3FBFD60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C1CCB1B-D3AC-48F9-AC39-EA1EB8EAC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4D9D619-EDD7-4BD8-A6DC-E8E666CB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2A482FD-86D1-478A-A6AA-26B0D6A3A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053A789-2131-4B04-986B-56367437E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BB959D5-1587-4B86-ADE9-563D2A74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CE3AF65-AB24-47E7-A960-B7EF186CE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33E1D3F-B978-4581-A072-BA932353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D4390A3-2C05-4B29-97F6-E187C9031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2D8BC80-5DF1-41DB-8D73-278D9091C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59F3E29-24A2-4EAB-A526-5DC1146A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337233E-10E6-4269-B418-240D7B7B5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EC76372-D704-4668-85E6-751A64AFA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36A9989-BCC9-4A4D-9CF2-4C0015A9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BB97D11-8281-41D2-9D8F-F6153AD8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4033DA0-C589-4926-AE8B-9390BE9D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50E4A64-1C09-4455-8B89-3931914D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4DF0FDF-3247-472B-BE0E-AA952A68A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765B717-D92D-473B-A180-0AFCC2CCD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5343357-7ADA-4A93-B3DB-7AB71F53D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49264FF-448B-4536-8EB7-72904D159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04F2565-B2E3-4F2E-BB80-13C2C27E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C5503B3-2289-46E6-B155-0159D85E6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2000029-1D64-46AF-86B6-2DE9D797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4C1379F-FA25-46BA-9402-827FAB95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EE575E1-27ED-4A5E-A742-8C9E08CC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3D9A21E-475B-4CEF-AC06-D743C073D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6DCCAE5-2C6D-4AD8-B4F4-D8A9FFD6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9522F2C-6D54-4BDB-90DC-AA871A4B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A77CED4-4A72-4475-B709-206123492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4DAEA82-9D5E-47A9-90BA-B2504A7F2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09E7802-2879-4419-874A-3ED5FC3F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9E679F4-C81B-41BB-B2DA-B3C9942A9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75F959E-662D-4FCF-B8D1-8387A397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E5EED80-43F3-456F-A3C7-FCA59BDB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B2A4A4F-76A8-4B50-8AAF-54B8CD21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2EC8040-978C-4145-BAE2-E61792B87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4038005-A090-43E3-8C89-D2724BD1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6497E17-3DBE-4604-9BFD-214D8D4B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5221044-5E3B-4CF5-94A8-C9CF04437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D2276C4-6D37-4261-8747-76A051135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DFF6612-4B5D-442B-BC12-0FD45FA82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6F30B25-3543-463B-B3AF-EAC920B5D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9AF2BDA-6EDC-4488-A2F1-67A603CC6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566FCA5-F4F2-4D23-9DA2-B0343D67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95EF262-3ECF-4E91-B5B0-CC9104708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D9E3B2B-C05F-4255-A33F-227C907B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60CF09E-5BAC-47A1-8DAF-C2A3E957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1087D03-A861-4649-8F34-FF5577FA5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B007EC9-DD36-4D3E-904C-1C27E459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AF7B02D-6895-4011-A700-9548BC773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2607690-E93D-4F9B-9B38-64DCB0F88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BDD3847-6CEB-4B2A-97D8-C1AA47EC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3E4DB94-A56A-4690-B9DC-233FE9F7F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E9DD27E-6107-4287-B4A8-D863BC48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BCCFB6A-4620-4D11-A752-FE9EA98D6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A506CD8-F67C-4BA7-8159-F16246756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5467BC8-7C6D-474C-940A-BED74552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6317-C4BC-4FC1-AAB0-E3282BBDB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7114-6E5B-4012-BFF2-DA9F396B75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EF47-4476-4F9A-BEC8-4C0CF7A6E2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6BE2-CBAF-41F8-90F6-970401F31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2816-B417-4946-A78F-C52DF518B6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9F48-17A1-498C-BB93-DAC4E1C086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8201-100C-4AE7-B342-818190898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BE3D-CB91-4EDD-AEE0-3E94FF64FE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5E96-4DCF-4CFE-AD9D-480073454D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C685-A4FD-48E8-81D6-E26452E612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7185-665A-4BDF-A91F-48403E7626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5634-4BEA-49B5-ADBB-123AC41ADF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5.</a:t>
            </a:r>
            <a:fld id="{DBCA32BA-2D3D-4678-ABD7-6358513216C0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6A04-00AA-4A38-A7C5-BB4F1BE8EA1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5 : Concurrency Control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conflict serializable schedules that cannot be obtained if two-phase locking is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the absence of extra information (e.g., ordering of  access to data), two-phase locking is needed for conflict serializability in the following se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oes not follow two-phase locking, we can find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uses two-phase locking, and a schedu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not conflict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Conver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with lock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hase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S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X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S to a lock-X (up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X to a lock-S  (down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assures serializability. But still relies on the programmer to insert the various  locking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the standard read/write instruction, without explicit locking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trans. has any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cks are released after commit or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manager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as a separate process to which transactions send lock and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replies to a lock request by sending a lock grant messages (or a message asking the transaction to roll back, in case of  a dead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esting transaction waits until its request is answ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maintains a data-structure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tab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rd granted locks and pend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table is usually implemented as an in-memory hash table indexed on the name of the data item being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10160" y="1079640"/>
            <a:ext cx="41911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rectangles indicate granted locks, white ones indicate waiting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table also records the type of lock granted or requ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quest is added to the end of the queue of requests for the data item, and granted if it is compatible with all earlier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ock requests result in the request being deleted, and later requests are checked to see if they can now be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nsaction aborts, all waiting or granted requests of the transaction are dele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manager may keep a list of locks held by each transaction, to implement this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1"/>
          <a:stretch/>
        </p:blipFill>
        <p:spPr>
          <a:xfrm>
            <a:off x="404640" y="851040"/>
            <a:ext cx="40752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raph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-based protocols are an alternative to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a partial orde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f all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any transaction accessing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ccess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acce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that the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now be viewed as a directed acyclic graph,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ee-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imple kind of graph 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600" y="119160"/>
            <a:ext cx="8076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5120" y="4308120"/>
            <a:ext cx="766116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exclusive lock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lock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on any data item. Subsequently, a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may be unlocked at any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 item that has been locked and un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annot subsequently be re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701800" y="868320"/>
            <a:ext cx="37134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raph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ee protocol ensures conflict serializability as well as freedom from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ing may occur earlier in the tree-locking protocol than in the two-phase locking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waiting times, and increase in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is deadlock-free, no rollback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does not guarantee recoverability or cascade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introduce commit dependencies to ensure recover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may have to lock data items that they do not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locking overhead, and additional wai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decrease in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s not possible under two-phase locking are possible under tree protocol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two trans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 wr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      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with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1"/>
          <a:stretch/>
        </p:blipFill>
        <p:spPr>
          <a:xfrm>
            <a:off x="1644480" y="2847960"/>
            <a:ext cx="41976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5: 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nd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in Ind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deadlocked if there is a set of transactions such that every transaction in the set is waiting for another transaction in the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eadlo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ensure that the system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 into a deadlock state. Some prevention strate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each transaction locks all its data items before it begins execution (predecla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partial ordering of all data items and require that a transaction can lock data items only in the order specified by the partial order (graph-based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Deadlock Prevention Strateg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schemes use transaction timestamps for the sake of deadlock prevention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non-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may wait for younger one to release data item. Younger transactions never wait for older ones; they are rolled back 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die several times before acquiring needed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ces rollback) of younger transaction instead of waiting for it. Younger transactions may wait for older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fewer rollbacks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s, a rolled back transactions is restarted with its original timestamp. Older transactions thus have precedence over newer ones, and starvation is hence avo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imeout-Based Sche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waits for a lock only for a specified amount of time. After that, the wait times out and the transaction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deadlocks are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but starvation is possible. Also difficult to determine good value of the timeout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 can be described as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wait-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onsists of a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vertices (all the transactions in th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edges; each element is an ordered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is a directed edg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mplying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a data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data item currently being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wait-for graph. This edge is removed only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 longer holding a data item nee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deadlock state if and only if the wait-for graph has a cycle.  Must invoke a deadlock-detection algorithm periodically to look for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902880" y="467352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out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278680" y="464040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457200" y="1716120"/>
            <a:ext cx="3608280" cy="2660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2"/>
          <a:stretch/>
        </p:blipFill>
        <p:spPr>
          <a:xfrm>
            <a:off x="5000760" y="1725480"/>
            <a:ext cx="37652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Recov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eadlock is  detect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ransaction will have to rolled back (made a victim) to break deadlock.  Select that transaction as victim that will incur minimum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 -- determine how far to roll back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otal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rt the transaction and then restar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to roll back transaction only as far as necessary to break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ation happens if same transaction is always chosen as victim. Include the number of rollbacks in the cost factor to avoid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 data items to be of various sizes and define a hierarchy of data granularities, where the small granularities are nested within larger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epresented graphically as a tree (but don't confuse with tree-locking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locks a node in the t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s all the node's descendents in the same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nularity of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in tree where locking is do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e granul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ower in tree): high concurrency, high locking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arse granular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igher in tree): low locking overhead, low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Granularity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01720" y="1442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s, starting from the coarsest (top) leve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579600" y="909720"/>
            <a:ext cx="7875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ntion Lock Mo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S and X lock modes, there are three additional lock modes with multiple granula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-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): indicates explicit locking at a lower level of the tree but only with shared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X): indicates explicit locking at a lower level with exclusive or shared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and 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X): the subtree rooted by that node is locked explicitly in shared mode and explicit locking is being done at a lower level with exclusive-mode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 locks allow a higher level node to be locked in S or X mode without having to check all descendent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40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tibility Matrix with Intention Lock Mod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5480" y="124416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atibility matrix for all lock mode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2" descr=""/>
          <p:cNvPicPr/>
          <p:nvPr/>
        </p:nvPicPr>
        <p:blipFill>
          <a:blip r:embed="rId1"/>
          <a:stretch/>
        </p:blipFill>
        <p:spPr>
          <a:xfrm>
            <a:off x="588960" y="2087640"/>
            <a:ext cx="81392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8115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ck is a mechanism to control concurrent access to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can be locked in two mod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xclus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X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be both read as well 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. X-lock is 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har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S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only be read. S-lock 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requests are made to concurrency-control manager. Transaction can proceed only after request is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 Locking Schem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0136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the following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compatibility matrix must b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of the tree must be locked first, and may be locked in any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 or IS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IS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X, SIX, or IX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SIX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only if it has not previously unlocked any node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wo-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none of the childre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locks are acquired in root-to-leaf order, whereas they are released in leaf-to-roo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Lock granularity esca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 case there are too many locks at a particular level, switch to higher granularity S or X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83628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is issued a timestamp when it enters the system. If an old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new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manages concurrent execution such that the time-stamps determine the serializability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assure such behavior, the protocol maintains for each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imestamp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2600" y="3139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661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protocol ensures that any conflic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are executed in timestamp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ad a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hat was already over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ducing was needed previously, and the system assumed that that value would never be produ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2600" y="139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Use of th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27000" y="10857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al schedule for several data items for transaction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s 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776240" y="2041560"/>
            <a:ext cx="4983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rrectness of Timestamp-Ordering Protoco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416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-ordering protocol guarantees serializability since all the arcs in the precedence graph are of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re will be no cycles in the precedenc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protocol ensures freedom from deadlock as no transaction ever wai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schedule may not be cascade-free, and may  not even b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31920" y="1979640"/>
            <a:ext cx="49453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ility and Cascade Freedo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8138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with timestamp-order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s,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ad a data item written by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bort;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been allowed to commit earlier, the schedule is not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, any transaction that has read a data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lead to cascading rollback --- that is, a chain of ro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structured such that its writes are all performed at the end of it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rites of a transaction form an atomic action; no transaction may execute while a transaction is being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aborts is restarted with a new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Limited form of locking: wait for data to be committed before read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 Use commit dependencies to ensure 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omas</a:t>
            </a:r>
            <a:r>
              <a:rPr b="1" lang="ja-JP" sz="3200" spc="-1" strike="noStrike">
                <a:solidFill>
                  <a:srgbClr val="cc33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Write Ru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version of the timestamp-ordering protocol in which obsole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may be ignored under certain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empts to write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rolling bac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timestamp ordering protocol would have done, this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peration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is protocol is the same as the timestamp ordering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' Write Rule allows greater potential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some view-serializable schedules that are not conflict-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56612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wo schedules with the same set of transaction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iew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ollowing three conditions are met, for each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 schedule S,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the initial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the initial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 schedule S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at value was produced by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 any), the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was produced by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) operation o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(if any) that performs the fi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lso perform the fina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an be seen, view equivalence is also based purely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106280"/>
            <a:ext cx="7848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view equivalent to a serial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onflict serializable schedule is also view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a schedule which is view-serializable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serializabl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erial schedule is above equivalent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view serializable schedule that is not conflict serializable h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ind wr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15"/>
          <p:cNvPicPr/>
          <p:nvPr/>
        </p:nvPicPr>
        <p:blipFill>
          <a:blip r:embed="rId1"/>
          <a:stretch/>
        </p:blipFill>
        <p:spPr>
          <a:xfrm>
            <a:off x="2333520" y="2892600"/>
            <a:ext cx="393696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compatibil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granted a lock on an item if the requested lock is compatible with locks already held on the item by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of transactions can hold shared locks on an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any transaction holds an exclusive on the item no other transaction may hold any lock on the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k cannot be granted, the requesting transaction is made to wait till all incompatible locks held by other transactions have been released.  The lock is then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tretch/>
        </p:blipFill>
        <p:spPr>
          <a:xfrm>
            <a:off x="4232160" y="1424160"/>
            <a:ext cx="23688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View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67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cedence graph test for conflict serializability cannot be used directly to test for view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to test for view serializability has cost exponential in the size of the precedenc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of checking if a schedule is view serializable falls in the clas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mplete probl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existence of an efficient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trem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lik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 practical algorithms that just check s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view serializability can still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Notions of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698508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dule below produces same outcome as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, yet is not conflict equivalent or view equivalent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such equivalence requires analysis of operations other than read and wr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-conflicts, operation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15"/>
          <p:cNvPicPr/>
          <p:nvPr/>
        </p:nvPicPr>
        <p:blipFill>
          <a:blip r:embed="rId1"/>
          <a:stretch/>
        </p:blipFill>
        <p:spPr>
          <a:xfrm>
            <a:off x="3154320" y="1927080"/>
            <a:ext cx="26971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-Based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988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one in three ph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ead and execu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es only t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Validation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s a ``validation test'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if local variables can be written without violating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rite 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alidated, the updates are applied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; otherwis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ree phases of concurrently executing transactions can be    interleaved, but each transaction must go through the three phases in tha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simplicity that the validation and write phase occur together, atomically and ser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only one transaction executes validation/write at a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mistic concurrency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ransaction executes fully in the hope that all will go well dur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-Based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3 timest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i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ed its valid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the time 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 its writ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order is determined by timestamp given at validation time,  to increase concurr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TS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given the value of Validation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is useful and gives greater degree of concurrency if probability of conflicts is 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serializability order is not pre-decid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few transactions will have t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alidation Test for Transaction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T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ither one of the following condition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data items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intersect with the set of data items rea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validation succeed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committed.  Otherwise, validation fail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ither the first condition is satisfied, and there is no overlapped execution, or the second condition is satisfie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they occur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finished its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not affect read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read  any item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Produced by Valid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schedule produced using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15"/>
          <p:cNvPicPr/>
          <p:nvPr/>
        </p:nvPicPr>
        <p:blipFill>
          <a:blip r:embed="rId1"/>
          <a:stretch/>
        </p:blipFill>
        <p:spPr>
          <a:xfrm>
            <a:off x="2581200" y="1859040"/>
            <a:ext cx="29448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Schem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 keep old versions of data item to increase concurr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Timestamp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Two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imestamps to label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s issued, select an appropriate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timestamp of the transaction, and return the value of the selected ver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never have to wait as an appropriate version is returned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imestamp Orde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sequence of versions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...., 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 Each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three data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value of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timestamp of the transaction that created (wrote)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- largest timestamp of a transaction that successfully read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 new ver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-timestamp and R-timestamp are initialized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timestamp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pdated whenever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g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imestamp Ordering (Cont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8688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. 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write timestamp is the largest write timestamp less than or equal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returned is the       content of version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content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over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1880" indent="-31212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a new ver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always suc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rite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jected if some oth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(in the serialization order defined by the timestamp values) should rea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write, has already read a version created by a transaction old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guarantees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wo-Phase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s between read-only transactions and updat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Update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quire read and write locks, and hold all locks up to the end of the transaction. That is, update transactions follow rigorous two-phase lo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ccessf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ults in the creation of a new version of the data item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ersion of a data item has a single timestamp whose value is obtained from a coun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incremented during commit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ead-only trans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ssigned a timestamp by reading the current value o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they start execution; they follow the multiversion timestamp-ordering protocol for performing 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8115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transaction performing lo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as above is not sufficient to guarantee serializability —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updated in-between the r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displayed sum would b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ing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rules followed by all transactions while requesting and releasing locks. Locking protocols restrict the set of possi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version Two-Phase Lock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update transaction wants to read a data i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a shared lock on it, and reads the latest ver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wants to write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obtains X lock on; it then creates a new version of the item and sets this version's timestamp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pdate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s, commit processing occ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imestamp on the versions it has create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s upda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transactions that start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ments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-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see the value before the updates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rializable schedules are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VCC: Implementation Iss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multiple versions increases storag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pace in each tuple for storing vers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can, however, be garbage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f Q has two versions Q5 and Q9, and the oldest active transaction has timestamp &gt; 9, than Q5 will never be required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12800" y="1093680"/>
            <a:ext cx="77630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: Decision support queries that read large amounts of data have concurrency conflicts with OLTP transactions that update a few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performanc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  Give logica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tabase state to read only transactions, read-write transactions use normal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2-phase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well, but how does system know a transaction is read on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 Give snapshot of database state to every transaction, updates alone use 2-phase locking to guard against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variety of anomalies such as lost update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solution: snapshot isolation level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by Berenson et al, SIGMOD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ts implemented in many databas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racle, PostgreSQL, SQL Serv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4960" y="1093680"/>
            <a:ext cx="454176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 T1 executing with Snapsho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s snapshot of committed data at 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reads/modifies data in its own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s of concurrent transactions are not visible to T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of T1 complete when it com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-committer-wins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s only if no other concurrent transaction has already written data that T1 intends to wr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37160" y="1144440"/>
          <a:ext cx="3289320" cy="4837320"/>
        </p:xfrm>
        <a:graphic>
          <a:graphicData uri="http://schemas.openxmlformats.org/drawingml/2006/table">
            <a:tbl>
              <a:tblPr/>
              <a:tblGrid>
                <a:gridCol w="1095480"/>
                <a:gridCol w="1252440"/>
                <a:gridCol w="941400"/>
              </a:tblGrid>
              <a:tr h="3888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Y :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X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X:=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Z:=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Z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(Y)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(X:=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-R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30"/>
          <p:cNvSpPr/>
          <p:nvPr/>
        </p:nvSpPr>
        <p:spPr>
          <a:xfrm>
            <a:off x="2047680" y="5165640"/>
            <a:ext cx="336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urrent updates not 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wn updates are 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Not first-committer of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rialization error, T2 is roll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 flipV="1">
            <a:off x="5359320" y="4533480"/>
            <a:ext cx="129564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2"/>
          <p:cNvSpPr/>
          <p:nvPr/>
        </p:nvSpPr>
        <p:spPr>
          <a:xfrm flipV="1">
            <a:off x="5359320" y="4813200"/>
            <a:ext cx="1308240" cy="74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3"/>
          <p:cNvSpPr/>
          <p:nvPr/>
        </p:nvSpPr>
        <p:spPr>
          <a:xfrm flipV="1">
            <a:off x="5359320" y="5143680"/>
            <a:ext cx="129564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4"/>
          <p:cNvSpPr/>
          <p:nvPr/>
        </p:nvSpPr>
        <p:spPr>
          <a:xfrm flipV="1">
            <a:off x="5372280" y="5842080"/>
            <a:ext cx="12952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06040" y="2314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Rea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081080" y="1449360"/>
            <a:ext cx="7661160" cy="4903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1093680" y="865080"/>
            <a:ext cx="76615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updates invisible to snapshot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Write: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First Committer W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720" y="5322600"/>
            <a:ext cx="766116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12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nt: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rst-updater-win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for concurrent updates when write occurs by locking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612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lock should be held till all concurrent transactions have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racle uses this plus some extra fea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612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s only in when abort occurs, otherwise equival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300320" y="1062000"/>
            <a:ext cx="69069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enefits of S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does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block other txn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similar to Read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the usual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ty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o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on-repeatabl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ate based selects are repeatable (no phan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oes not always give 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le: among two concurrent txns, one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: neither sees the effects of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Integrity constraints can be vio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f problem with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: x: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: y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x = 3 and y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execution:  x = ??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transactions start at the same time, with snapshot isolation:  x = ?? , y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kew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 also occurs with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ax order number among all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order with order number = previous ma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napshot Isolation Anomal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breaks serializability when txns modif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, each based on a previous state of the item the other 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very common in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the TPC-C benchmark runs correctly under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xns conflict due to modifying different data, there is usually also a shared item they both modify too (like a total quantity) so SI will abort one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does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developers should be careful about write sk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can also cause a read-only transaction anomaly, where read-only transaction may see an inconsistent state even if updaters are seri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omit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snapshots to verify primary/foreign key integrity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straint checking usually done outside of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 In Oracle and Postgre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4960" y="1093320"/>
            <a:ext cx="82072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 used when isolation level is set to serializable, by Oracle,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 versions prior to 9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mplementation of SI (versions prior to 9.1) described in Section 26.4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implement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updater wi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ule (varian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ommitter wi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writer check is done at time of write, not at comm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ransactions to be rolled back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and PostgreSQL &lt; 9.1 do not support true serializable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greSQL 9.1 introduced new protocol called “Serializable Snapshot Isolation” (S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uarantees true serializabilty including handling predicate reads (coming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tfalls of 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7848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part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make progress —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le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 situation is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ad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ndle a deadlock on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rolled ba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locks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15"/>
          <p:cNvPicPr/>
          <p:nvPr/>
        </p:nvPicPr>
        <p:blipFill>
          <a:blip r:embed="rId1"/>
          <a:stretch/>
        </p:blipFill>
        <p:spPr>
          <a:xfrm>
            <a:off x="2765520" y="1585800"/>
            <a:ext cx="29606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 In Oracle and Postgre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960" y="1093320"/>
            <a:ext cx="82072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destep SI for specific queries b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.. for 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acle and Postgre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derno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value into local variable max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orders (maxorder+1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update (SFU) treats all data read by the query as if it were also updated, preventing concurrent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ways ensure serializability since phantom phenomena can occur (coming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stgreSQL versions &lt; 9.1, SFU locks the data item, but releases locks when the transaction completes, even if other concurrent transactions ar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quite same as SFU in Oracle, which keeps locks until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transactions have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and Delete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-phase locking is us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may be performed only if the transaction deleting the tuple has an exclusive lock on the tuple to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inserts a new tuple into the database is given an X-mode lock on the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s and deletions can lead to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hantom phenome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cans a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find sum of balances of all accounts in Perryrid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transaction that inserts a tuple in the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insert a new account at Perryrid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eptually) conflict in spite of not accessing any tuple in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ly tuple locks are used, non-serializable schedules can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he scan transaction does not see the new account, but reads some other tuple written by the updat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  and Delete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scanning the relation is reading  information that indicates what tuples the relation contains, while a transaction inserting a tuple updates the sam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flict should be detected, e.g. by locking th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a data item with the relation, to represent the information about what tuples the relation co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scanning the relation acquire a shared lock in the data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inserting or deleting a tuple acquire an exclusive lock on the data item. (Note: locks on the data item do not conflict with locks on individual tupl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protocol provides very low concurrency for insertions/dele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s provide higher concurrency whi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ng the phantom phenomenon, by requiring lock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ertain index buck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809316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lock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relation must have at least one inde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can access tuples only after finding them through one or more indices on th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performs a lookup must lock all the index leaf nodes that it accesses, in S-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the leaf node does not contain any tuple satisfying the index lookup (e.g. for a range query, no tuple in a leaf is in the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nserts, updates or deletes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update all indic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obtain exclusive locks on all index leaf nodes affected by the insert/update/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s of the two-phase locking protocol must be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s that phantom phenomenon 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xt-Key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locking protocol to prevent phantoms required locking entire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ult in poor concurrency if there are many ins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: for an index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all values that satisfy index lookup (match lookup value, or fall in lookup 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lock next key value in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mode: S for lookups, X for insert/delete/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s that range queries will conflict with inserts/deletes/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less of which happens first, as long as both are con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in Index Stru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es are unlike other database items in that their only job is to help in ac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-structures are typically accessed very often, much more than other database i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ing index-structures like other database items, e.g. by 2-phase locking of index nodes can lead to low concurrency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everal index concurrency protocols where locks on internal nodes are released early, and not in a two-phase fash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cceptable to have nonserializable concurrent access to an index as long as the accuracy of the index is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ticular, the exact values read in an internal node of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are irrelevant so long as we land up in the correct 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in Index Structur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index concurrency protoc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rabbing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two-phase locking on the nodes of the B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ee, as follows.  During search/insertion/dele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ock the root node in shared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locking all required children of a node in shared mode, release the lock on the n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insertion/deletion, upgrade leaf node locks to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splitting or coalescing requires changes to a parent, lock the parent in exclus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ve protocol can cause excessive dead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es coming down the tree deadlock with updates going up the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bort and restart search, without affecting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protocols are available; see Section 16.9 for one such protocol, the B-link tree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uition: release lock on parent before acquiring lock on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deal with changes that may have happened between lock release and acqu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gree-two 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s from two-phase locking in that S-locks may be released at any time, and locks may be acquired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must b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 is not guaranteed, programmer must ensure that no erroneous database state will occu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sor st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ads, each tuple is locked, read, and lock is immediately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locks are held till end of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 of degree-two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non-serializable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only committed records to be read, and repeating a read should return the same value (so read locks should be retai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phantom phenomenon need not be prev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 may see some records inserted by T2, but may not see others inserted by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ame as degree two consistency, but most systems implement it as cursor-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llows even uncommitted data to b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ny database systems, read committed is the default consisten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explicitly changed to serializable whe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isolation level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7880" y="274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s across User Inte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applications need transaction support across use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use 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want to reserve database connection per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level concurrency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uple has a versio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notes version number when reading tu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.balance, r.vers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A, :vers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tId =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writing tuple, check that current version number is same as the version when tuple was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.balance = r.balance + :deposi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ctId = 2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.version = :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valent to </a:t>
            </a: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optimistic concurrency control without validating read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ternally in Hibernate ORM system, and manually in many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numbering can also be used to support first committer wins check of snapsho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ke SI, reads are not guaranteed to be from a single snapsh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tfalls of 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tential for deadlock exists in most locking protocols. Deadlocks are a necessary e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so possible if concurrency control manager is badly designed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waiting for an X-lock on an item, while a sequence of other transactions request and are granted an S-lock on the same i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transaction is repeatedly rolled back due to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manager can be designed to prevent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Alan Fekete and Sudhir Jorwekar for Snapshot Isolation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5" name="Picture 23" descr=""/>
          <p:cNvPicPr/>
          <p:nvPr/>
        </p:nvPicPr>
        <p:blipFill>
          <a:blip r:embed="rId1"/>
          <a:stretch/>
        </p:blipFill>
        <p:spPr>
          <a:xfrm>
            <a:off x="3270240" y="1697040"/>
            <a:ext cx="3168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7" name="Picture 3" descr="15"/>
          <p:cNvPicPr/>
          <p:nvPr/>
        </p:nvPicPr>
        <p:blipFill>
          <a:blip r:embed="rId1"/>
          <a:stretch/>
        </p:blipFill>
        <p:spPr>
          <a:xfrm>
            <a:off x="2189160" y="1293840"/>
            <a:ext cx="47642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9" name="Picture 3" descr="15"/>
          <p:cNvPicPr/>
          <p:nvPr/>
        </p:nvPicPr>
        <p:blipFill>
          <a:blip r:embed="rId1"/>
          <a:stretch/>
        </p:blipFill>
        <p:spPr>
          <a:xfrm>
            <a:off x="3446640" y="2500200"/>
            <a:ext cx="224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0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1" name="Picture 3" descr="15"/>
          <p:cNvPicPr/>
          <p:nvPr/>
        </p:nvPicPr>
        <p:blipFill>
          <a:blip r:embed="rId1"/>
          <a:stretch/>
        </p:blipFill>
        <p:spPr>
          <a:xfrm>
            <a:off x="3154320" y="2143080"/>
            <a:ext cx="28353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0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3" name="Picture 3" descr="15"/>
          <p:cNvPicPr/>
          <p:nvPr/>
        </p:nvPicPr>
        <p:blipFill>
          <a:blip r:embed="rId1"/>
          <a:stretch/>
        </p:blipFill>
        <p:spPr>
          <a:xfrm>
            <a:off x="3457440" y="2322360"/>
            <a:ext cx="222732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2374920" y="696960"/>
            <a:ext cx="40752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2701800" y="868320"/>
            <a:ext cx="37134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9" name="Picture 3" descr="15"/>
          <p:cNvPicPr/>
          <p:nvPr/>
        </p:nvPicPr>
        <p:blipFill>
          <a:blip r:embed="rId1"/>
          <a:stretch/>
        </p:blipFill>
        <p:spPr>
          <a:xfrm>
            <a:off x="2425680" y="1407960"/>
            <a:ext cx="4292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71" name="Picture 9" descr=""/>
          <p:cNvPicPr/>
          <p:nvPr/>
        </p:nvPicPr>
        <p:blipFill>
          <a:blip r:embed="rId1"/>
          <a:stretch/>
        </p:blipFill>
        <p:spPr>
          <a:xfrm>
            <a:off x="2819520" y="1608120"/>
            <a:ext cx="36082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rotocol which ensures conflict-seri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: Grow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obtain 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: Shrink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obtain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assures serializability. It can be proved that the transactions can be serialized in the order of thei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poin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the point where a transaction acquired its final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1"/>
          <a:stretch/>
        </p:blipFill>
        <p:spPr>
          <a:xfrm>
            <a:off x="2460600" y="1630440"/>
            <a:ext cx="3765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1"/>
          <a:stretch/>
        </p:blipFill>
        <p:spPr>
          <a:xfrm>
            <a:off x="579600" y="909720"/>
            <a:ext cx="7875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77" name="Picture 102" descr=""/>
          <p:cNvPicPr/>
          <p:nvPr/>
        </p:nvPicPr>
        <p:blipFill>
          <a:blip r:embed="rId1"/>
          <a:stretch/>
        </p:blipFill>
        <p:spPr>
          <a:xfrm>
            <a:off x="588960" y="2087640"/>
            <a:ext cx="81392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79" name="Picture 3" descr="15"/>
          <p:cNvPicPr/>
          <p:nvPr/>
        </p:nvPicPr>
        <p:blipFill>
          <a:blip r:embed="rId1"/>
          <a:stretch/>
        </p:blipFill>
        <p:spPr>
          <a:xfrm>
            <a:off x="3306600" y="2322360"/>
            <a:ext cx="252900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1" name="Picture 3" descr="15"/>
          <p:cNvPicPr/>
          <p:nvPr/>
        </p:nvPicPr>
        <p:blipFill>
          <a:blip r:embed="rId1"/>
          <a:stretch/>
        </p:blipFill>
        <p:spPr>
          <a:xfrm>
            <a:off x="3605040" y="2957400"/>
            <a:ext cx="19339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1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3" name="Picture 3" descr="15"/>
          <p:cNvPicPr/>
          <p:nvPr/>
        </p:nvPicPr>
        <p:blipFill>
          <a:blip r:embed="rId1"/>
          <a:stretch/>
        </p:blipFill>
        <p:spPr>
          <a:xfrm>
            <a:off x="3382920" y="2233440"/>
            <a:ext cx="237816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2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5" name="Picture 3" descr="15"/>
          <p:cNvPicPr/>
          <p:nvPr/>
        </p:nvPicPr>
        <p:blipFill>
          <a:blip r:embed="rId1"/>
          <a:stretch/>
        </p:blipFill>
        <p:spPr>
          <a:xfrm>
            <a:off x="3457440" y="2139840"/>
            <a:ext cx="22273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2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36400" y="1179360"/>
            <a:ext cx="86076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2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325440" y="1455840"/>
            <a:ext cx="860904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5.2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1292400" y="1574640"/>
            <a:ext cx="59180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66116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freedom from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roll-back is possible under two-phase locking. To avoid this, follow a modified protocol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ict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Here a transaction must hold all its exclusive locks till it commits/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gorous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ven stricter: 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are held till commit/abort. In this protocol transactions can be serialized in the order in which they co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in-15.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3" name="Picture 4" descr="New PDF from Images Output-1.pdf"/>
          <p:cNvPicPr/>
          <p:nvPr/>
        </p:nvPicPr>
        <p:blipFill>
          <a:blip r:embed="rId1"/>
          <a:stretch/>
        </p:blipFill>
        <p:spPr>
          <a:xfrm>
            <a:off x="1228680" y="1527120"/>
            <a:ext cx="68677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4Z</dcterms:created>
  <dc:creator>Silberschatz, Korth and Sudarshan</dc:creator>
  <dc:description/>
  <dc:language>en-US</dc:language>
  <cp:lastModifiedBy>Sudarshan</cp:lastModifiedBy>
  <dcterms:modified xsi:type="dcterms:W3CDTF">2012-03-14T15:22:18Z</dcterms:modified>
  <cp:revision>255</cp:revision>
  <dc:subject/>
  <dc:title>Chapter 15: Concurrency Control</dc:title>
</cp:coreProperties>
</file>