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997700" cy="9283700"/>
  <p:custShowLst>
    <p:custShow name="Custom Show 1" id="0">
      <p:sldLst>
        <p:sld r:id="rId32"/>
        <p:sld r:id="rId7"/>
        <p:sld r:id="rId28"/>
        <p:sld r:id="rId11"/>
        <p:sld r:id="rId13"/>
        <p:sld r:id="rId39"/>
        <p:sld r:id="rId38"/>
        <p:sld r:id="rId15"/>
        <p:sld r:id="rId67"/>
        <p:sld r:id="rId31"/>
        <p:sld r:id="rId31"/>
        <p:sld r:id="rId41"/>
        <p:sld r:id="rId63"/>
        <p:sld r:id="rId66"/>
        <p:sld r:id="rId74"/>
        <p:sld r:id="rId19"/>
        <p:sld r:id="rId48"/>
        <p:sld r:id="rId49"/>
        <p:sld r:id="rId40"/>
        <p:sld r:id="rId64"/>
        <p:sld r:id="rId65"/>
        <p:sld r:id="rId7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634C77-D733-46E1-B298-E87C1AD84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B09988-E1B0-4266-B3C2-436FDF000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9B7C707-704A-4F67-B76E-7DE935E1F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B9CE13-BD55-4ADB-BFC7-8394AFA45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AF5BFC-2C2A-4336-83B2-88B9C1586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23692F-B3F5-4983-8585-33E8F003B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61C629-6A1B-407F-A922-52BE691DD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C97C41-4327-433A-A53D-A9BD9B574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80EE23-3FDC-47A3-BC39-2466B2943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82AE2B-5830-42BE-8488-B993BFD45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A04308-C7EB-4E17-AF6F-88D6FEC1D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AF016A5-DE87-4773-9CAF-CD01607F3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AE5717A-8490-4926-9C9A-F344D110F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7F9D53-366F-4EE8-BBE2-A1D82FA50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87A058-B03D-4D92-B185-2FA25BD41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45B8447-4342-459C-B01A-00DA24BDD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30601DC-ACB7-409B-9C78-3CEBC4102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499C3D5-01C7-4A05-BE39-DDE0471EF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49F74D-9D06-4FE3-8518-3BB91F4AC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355B67-6754-4E4D-9CBA-ECA132A8A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EA6FCAE-D4BD-4E32-8A69-E6BC0CA58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E987481-A4FA-4D01-BCAF-ACD1EEE63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B7A599-4D3A-47D0-AFEA-B9406AA59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B9DC78-D83D-4905-BDE5-9B679FDF4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198E968-0074-4024-81F9-0A2D6B80C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A5F4CF-109F-4F1F-BBF7-297977B3B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FD28DE-894F-4022-B817-9C5B79BF3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2C014F-08A2-4072-9A44-1B8B023AB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0FB1E68-A0D1-4EFB-9FC1-346C32202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5A52C4-ED6D-4974-B927-F7A8666A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7F7425-0FF3-4F05-BE54-FB15F6D22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9ADF38B-BCEC-4EF8-8DD6-B3EC0D6F3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9A49B6-E69F-44CC-B1B6-DD1ADD431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D6450B-6B74-4920-AD01-AA591AFC7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0683DC-08AE-4100-A680-EFEB895CF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F74F0B-B427-4E86-ACB0-2BD775230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3F47136-0704-4BCC-AEDC-BA71FE6AB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161AA6-9016-4560-8F99-7073D062E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21FE42C-B8F4-4832-8609-6BE096FF3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DC6377-D2C6-469D-BF49-B503826F3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645D47-FECE-4434-A1D8-0F9833D8D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3610CD5-A0F5-4BF3-B0C6-7D072FC35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739A9C-F187-4B67-ADD0-02CE7E15E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F1700B-8F84-4212-B9E7-0D9996A54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FD4F3E-4AE9-4847-8A9E-AAFDA5578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A35ADA-9F8C-4B37-A2B6-F0A6B70B6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690C052-2CC9-46FA-93E6-3E25066D3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FA39C0-B912-4E6F-904B-F8DC2A659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E26F36-DEC5-4A68-B11F-4BFE0DAD8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9D96A9-988E-4DEF-BE0E-F33F127F6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845AD66-C730-42EE-ACDE-8DA6F49DF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7E5968-B135-4F94-95E0-6A224EF70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2B67FC-1C39-4FA4-9DEA-799E483EE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3C9D70-62C4-427F-9915-D0588787E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AE671A-7896-45F4-85BC-8711F238A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F210F4-5145-4478-981E-C1E6EFDED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798A45-8DF9-4B5F-9879-1DA713453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BC2C0C-A6E7-4594-BF07-E3566DE2E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8E4075-28B4-43D0-A40B-144054033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03E6FB-28C7-4D51-AA95-2D30C6F5F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D317923-16CE-45C4-AD23-A864E1859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D9F9F1-D231-4367-8033-F2D1AD3B0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7C5AAC-6856-4F29-8DB1-A062F8490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F0B7B3-1BCB-4C60-AD13-AC5E4265B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AD4414-4807-494E-AE57-DA5213435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B53A02-EEE2-469E-B229-00C8C1999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1CDD-4E2C-4010-B851-343E38E4C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6127-82E1-48B6-A205-30250489F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5AC4-55D4-4C65-B7CA-56C3D6DE8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A48C-B04C-4F01-A9EF-2D1DBAD7C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3F7-119C-419A-B7E3-BF31B05CBA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E4C-137D-4652-8375-7CEDE9D335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50C-453B-4179-A1F6-3F70184929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94B7-E84F-4B51-97FA-0A8449360A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F0F-E81F-46FF-89BA-64C6AB76C4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212-F6A4-41F4-80C7-CDB8D34EE4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D2D6-48E5-4F27-86CB-1C0AB798EB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D3C9-CE56-4C24-9781-4A4426BAE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7D4-D184-46C5-9183-D503875B6C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AE8-D60A-4690-B546-ED1D020B71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3F0-9BF5-4302-B54F-F17B973DB0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819-F882-40AC-A706-E0AEF280E4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DAC-112F-4AC4-B0AA-50899085D8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2C28-6744-4CD8-8F2E-91B38D9E4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8215-2690-4465-923D-A1E121B50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57B1-0E3F-4E5F-9DC5-B7CC90994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3318-B844-48BA-806B-246A096B1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49E9-71B3-4859-BE0F-854CFD841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0813-1AA0-47F6-8537-6577721FC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7D23-8714-4290-A1D1-26CBBF48D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8F83-D5C5-4A90-B958-9E21421173A4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3.</a:t>
            </a:r>
            <a:fld id="{DE6CB7D2-F01A-452B-9723-104836C59B09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>
              <a:gd name="textAreaLeft" fmla="*/ 0 w 227160"/>
              <a:gd name="textAreaRight" fmla="*/ 227160 w 2271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B41E-01BF-4D4E-B532-AE6F6D84964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3: Introduction to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rop and Alter Table Construc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800" y="1106280"/>
            <a:ext cx="738504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rop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s the table and its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lete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s all contents of table, but retain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lter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name of the attribute to be added to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domai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uples in the relation are assign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the value for the new attribut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r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name of an attribute of rela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ping of attributes not supported by many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Query Structure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9800" y="1106280"/>
            <a:ext cx="7640640" cy="48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QL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ata-manipulation language (DM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vides the ability to query information, and insert, delete and update tu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ypical SQL query has the form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9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9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9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predic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 of an SQL query is a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select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1106280"/>
            <a:ext cx="8066160" cy="516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list the attributes desired in the result of a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s to the projection operation of the 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ind the names of all instructor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SQL names are case insensitive (i.e., you may use upper- or lower-case letters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≡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≡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eople use upper case wherever we use bold fo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select Claus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allows duplicates in relations as well as in query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ce the elimination of duplicates, insert the keyword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tinct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ter sel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names of all departments with instructor, and remove 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wor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s that duplicates not be remov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select Claus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sterisk in the select clause denotes “all attribut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 can contain arithmetic expressions involving the operation, +, –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/, and operating on constants or attributes of tu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r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, name, salary/1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return a relation that is the same a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, except that the value of the attribu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ivided by 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where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h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 specifies conditions that the result must satis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s to the selection predicate of the relational algebr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ind all instructors in Comp. Sci. dept with salary &gt; 80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. Sci.'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8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results can be combined using the logical connectiv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, 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s can be applied to results of arithmetic expre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from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400" y="1106640"/>
            <a:ext cx="7971120" cy="50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 lists the relations involved in th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s to the Cartesian product operation of the relational alge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Cartesian produ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X t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, t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every possible instructor – teaches pair, with all attributes from both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sian product not very useful directly, but useful combined with where-clause condition (selection operation in relational algeb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rtesian Product: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instructor X teach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2"/>
          <p:cNvPicPr/>
          <p:nvPr/>
        </p:nvPicPr>
        <p:blipFill>
          <a:blip r:embed="rId1"/>
          <a:srcRect l="0" t="0" r="0" b="56508"/>
          <a:stretch/>
        </p:blipFill>
        <p:spPr>
          <a:xfrm>
            <a:off x="4721400" y="1049400"/>
            <a:ext cx="3890880" cy="1565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2041920" y="67140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382800" y="71424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2"/>
          <p:cNvPicPr/>
          <p:nvPr/>
        </p:nvPicPr>
        <p:blipFill>
          <a:blip r:embed="rId2"/>
          <a:srcRect l="0" t="0" r="0" b="50358"/>
          <a:stretch/>
        </p:blipFill>
        <p:spPr>
          <a:xfrm>
            <a:off x="530280" y="1047600"/>
            <a:ext cx="3882960" cy="1447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3"/>
          <a:stretch/>
        </p:blipFill>
        <p:spPr>
          <a:xfrm>
            <a:off x="853920" y="2689200"/>
            <a:ext cx="73821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1"/>
          <p:cNvGrpSpPr/>
          <p:nvPr/>
        </p:nvGrpSpPr>
        <p:grpSpPr>
          <a:xfrm>
            <a:off x="1343160" y="4516560"/>
            <a:ext cx="6287760" cy="2162880"/>
            <a:chOff x="1343160" y="4516560"/>
            <a:chExt cx="6287760" cy="2162880"/>
          </a:xfrm>
        </p:grpSpPr>
        <p:pic>
          <p:nvPicPr>
            <p:cNvPr id="136" name="Picture 3" descr="allFigures.pdf"/>
            <p:cNvPicPr/>
            <p:nvPr/>
          </p:nvPicPr>
          <p:blipFill>
            <a:blip r:embed="rId1"/>
            <a:srcRect l="3634" t="24235" r="40172" b="45271"/>
            <a:stretch/>
          </p:blipFill>
          <p:spPr>
            <a:xfrm>
              <a:off x="1343160" y="4562640"/>
              <a:ext cx="6278400" cy="196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3" descr="allFigures.pdf"/>
            <p:cNvPicPr/>
            <p:nvPr/>
          </p:nvPicPr>
          <p:blipFill>
            <a:blip r:embed="rId2"/>
            <a:srcRect l="3692" t="24081" r="40079" b="45088"/>
            <a:stretch/>
          </p:blipFill>
          <p:spPr>
            <a:xfrm>
              <a:off x="1348560" y="4551480"/>
              <a:ext cx="6282360" cy="199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7"/>
            <p:cNvSpPr/>
            <p:nvPr/>
          </p:nvSpPr>
          <p:spPr>
            <a:xfrm>
              <a:off x="3573360" y="4516560"/>
              <a:ext cx="1784520" cy="26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8"/>
            <p:cNvSpPr/>
            <p:nvPr/>
          </p:nvSpPr>
          <p:spPr>
            <a:xfrm>
              <a:off x="2763000" y="5101920"/>
              <a:ext cx="3662280" cy="157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0"/>
            <p:cNvSpPr/>
            <p:nvPr/>
          </p:nvSpPr>
          <p:spPr>
            <a:xfrm>
              <a:off x="2761200" y="5101920"/>
              <a:ext cx="3664080" cy="157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14320" y="987120"/>
            <a:ext cx="799632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instructors who have taught some course, find their names and the course ID of the courses they tau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, course_i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, teach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.ID = teaches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course ID, semester, year and title of each course offered by the Comp. Sci.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.course_id, semester, year, titl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, cours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.course_id = course.course_id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‘Comp. Sci.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y Writing Some Queries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 queries to be written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3:  Introduction to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9280" y="1104840"/>
            <a:ext cx="741348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the SQL Query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Quer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Basi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ed Sub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 of the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tural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join matches tuples with the same values for all common attributes, and retains only one copy of each common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ural jo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3"/>
          <p:cNvPicPr/>
          <p:nvPr/>
        </p:nvPicPr>
        <p:blipFill>
          <a:blip r:embed="rId1"/>
          <a:srcRect l="0" t="0" r="0" b="26216"/>
          <a:stretch/>
        </p:blipFill>
        <p:spPr>
          <a:xfrm>
            <a:off x="1173240" y="2955960"/>
            <a:ext cx="657072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tural Joi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31800" y="756720"/>
            <a:ext cx="812160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the names of instructors along with the course ID of the courses that they tau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, teach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.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s.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ourse_i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tural Joi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6760" y="1093320"/>
            <a:ext cx="83962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ger in natural join: beware of unrelated attributes with same name which get equated in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the names of instructors along with the the titles of courses that they tea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rect version (mak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.dept_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instructor.dept_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correc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Rename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8680" y="1106640"/>
            <a:ext cx="8435880" cy="520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QL allows renaming relations and attributes us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d-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ew-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, name, salary/1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nthly_salar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names of all instructors who have a higher salary tha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some instructor in ‘Comp. Sci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. na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, instru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.salary &gt; S.sal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.dept_name = ‘Comp. Sci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ptional and may be omit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 ≡ instru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omitted in 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ring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80960" y="968040"/>
            <a:ext cx="8245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includes a string-matching operator for comparisons on character strings.  The operator “like” uses patterns that are described using two special charac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 (%).  The % character matches any sub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core (_).  The _ character matches any charac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names of all instructors whose name includes the substring “dar”.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dar%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the string “100 %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\%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'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ape 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ring Opera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39800" y="110628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ters are case sensit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tern matching 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%’ matches any string beginning with “Intr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Comp%’ matches any string containing “Comp” as a sub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_ _’ matches any string of exactly three charac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_ _ %’ matches any string of at least three charac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upports a variety of string operations such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enation (using “||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ing from upper to lower case (and vice ver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ing string length, extracting substring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rdering the Display of Tu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14320" y="1107720"/>
            <a:ext cx="7661520" cy="42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in alphabetic order the names of all instructo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ay specify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descending order or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scending order, for each attribute; ascending order is the defa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ort on multiple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,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here Clause Predic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8089920" cy="50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includes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arison op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Find the names of all instructors with salary between $90,000 and $100,000 (that is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90,000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,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ple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ch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’Biolog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uplic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9280" y="109512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lations with duplicates, SQL can define how many copies of tuples appear in the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ultiset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s of some of the relational algebra operators – given multiset rela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here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pies of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tisfies selec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there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copy of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opy of tup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denotes the projection of the single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here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pies of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pies of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re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pies of the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uplicat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3960" y="1104840"/>
            <a:ext cx="699156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uppose multiset rela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re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(1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2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}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(2), (3), (3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ould be {(a), (a)}, whi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ould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2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2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3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3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3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3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duplicate semantic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quivalent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sion of the expre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2682720" y="5108400"/>
                <a:ext cx="3640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isto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Sequel language developed as part of System R project at the IBM San Jose Research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med Structured Query Language (SQ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I and ISO standard SQ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-86, SQL-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-9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:1999, SQL:2003, SQL: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systems offer most, if not all, SQL-92 features, plus varying feature sets from later standards and special proprietary featur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ll examples here may work on your particular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52600" y="3780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7880" y="1108080"/>
            <a:ext cx="766152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1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courses that ran in Fall 2009 or in Spring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48920" y="4414680"/>
            <a:ext cx="6179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courses that ran in Fall 2009 but not in Spring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09480" y="1604880"/>
            <a:ext cx="828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Fall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Spring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04640" y="2722680"/>
            <a:ext cx="58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courses that ran in Fall 2009 and in Spring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579600" y="3168720"/>
            <a:ext cx="82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Fall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se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Spring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77800" y="4843440"/>
            <a:ext cx="835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Fall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Spring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9280" y="109512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perations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n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ters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xc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f the above operations automatically eliminates 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tain all duplicates use the corresponding multiset versions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nion all, intersect 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xcept 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a tuple occur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, it occu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 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on 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,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sect 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(0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 – 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 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ull Val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39440" y="1106640"/>
            <a:ext cx="7689960" cy="51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for tuples to have a null value, denot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some of their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gnifies an unknown value or that a value does not ex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 of any arithmetic expression involv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5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returns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dicat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used to check for null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Find all instructors whose salary is nul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68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ull Values and Three Valued Logi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comparison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5 &lt; null   or   null &lt;&gt; null    or    null =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-valued logic using the truth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: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know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unknown) =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tr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known)  = unknown,   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(fa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known) = false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(unknow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unknown) =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unknown) =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unkn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s to true if predic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aluates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 predicate is treated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 evaluates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01064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functions operate on the multiset of values of a column of a relation, and return a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2222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of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13960" y="1107720"/>
            <a:ext cx="784404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average salary of instructors in the Computer Science depart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v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Comp. Sci.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total number of instructors who teach a course in the Spring 2010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ch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Spring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number of tuples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*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758880" y="2813040"/>
            <a:ext cx="76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 – Group B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0320" y="1053720"/>
            <a:ext cx="793296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average salary of instructors in each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departments with no instructor will not appear in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876"/>
              </a:spcBef>
              <a:buNone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3"/>
          <p:cNvPicPr/>
          <p:nvPr/>
        </p:nvPicPr>
        <p:blipFill>
          <a:blip r:embed="rId1"/>
          <a:stretch/>
        </p:blipFill>
        <p:spPr>
          <a:xfrm>
            <a:off x="820800" y="2930400"/>
            <a:ext cx="4056120" cy="3648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"/>
          <p:cNvPicPr/>
          <p:nvPr/>
        </p:nvPicPr>
        <p:blipFill>
          <a:blip r:embed="rId2"/>
          <a:stretch/>
        </p:blipFill>
        <p:spPr>
          <a:xfrm>
            <a:off x="5197320" y="3535200"/>
            <a:ext cx="37530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 outside of aggregate functions must appear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erroneous query 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23400" y="331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 – Having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4320" y="1193760"/>
            <a:ext cx="7661520" cy="7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names and average salaries of all departments whose average salary is greater than 4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658800" y="3567240"/>
            <a:ext cx="784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predicate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 are applied after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formation of groups whereas predicate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clause are applied before form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677960" y="2114640"/>
            <a:ext cx="58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ing av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gt; 420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ull Values and Aggreg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08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all sa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statement ignores null a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here is no non-null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ggregate operations excep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gnore tuples with null values on the aggregated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collection has only null val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returns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aggregates return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Definition Languag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898640"/>
            <a:ext cx="759636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hema for each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main of values associated with each attrib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it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s we will see later, also other information such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of indices to be maintained for each re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and authorization information for each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hysical storage structure of each relation on d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39800" y="110664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QL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ata-definition language (DD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ows the specification of information about relations,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sted Sub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provides a mechanism for the nesting of subqu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ubqu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-from-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ression that is nested within another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mon use of subqueries is to perform tests for set membership, set comparisons, and set cardin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11080" y="1109160"/>
            <a:ext cx="766152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courses offered in Fall 2009 and in Spring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758880" y="3595680"/>
            <a:ext cx="76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courses offered in Fall 2009 but not in Spring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185840" y="1698480"/>
            <a:ext cx="744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Fall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009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Spring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0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069920" y="4211640"/>
            <a:ext cx="738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Fall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009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Spring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0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39440" y="1106640"/>
            <a:ext cx="7661160" cy="76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4360"/>
                <a:tab algn="l" pos="125100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total number of (distinct) studentswho have taken course sections taught by the instructor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684360"/>
                <a:tab algn="l" pos="125100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43040" y="4610160"/>
            <a:ext cx="805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bove query can be written in a much simpler manner. 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formulation above is simply to illustrate SQL fea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168560" y="2332080"/>
            <a:ext cx="7151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010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52600" y="9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Comparis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661160" cy="76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names of instructors with salary greater than that of some (at least one) instructor in the Biology depar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739800" y="3411360"/>
            <a:ext cx="72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query using 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528920" y="3951360"/>
            <a:ext cx="641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Biolog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569960" y="1957320"/>
            <a:ext cx="66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.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.sal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.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Biology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3520" y="378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finition of  Some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39440" y="1106640"/>
            <a:ext cx="680076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&lt;comp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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(F &lt;comp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&lt;comp&gt; can be: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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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2104920" y="1952640"/>
            <a:ext cx="457200" cy="1066320"/>
            <a:chOff x="2104920" y="1952640"/>
            <a:chExt cx="457200" cy="1066320"/>
          </a:xfrm>
        </p:grpSpPr>
        <p:sp>
          <p:nvSpPr>
            <p:cNvPr id="216" name="Rectangle 5"/>
            <p:cNvSpPr/>
            <p:nvPr/>
          </p:nvSpPr>
          <p:spPr>
            <a:xfrm>
              <a:off x="2104920" y="195264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2104920" y="227268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2104920" y="2646000"/>
              <a:ext cx="457200" cy="372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8"/>
          <p:cNvSpPr/>
          <p:nvPr/>
        </p:nvSpPr>
        <p:spPr>
          <a:xfrm>
            <a:off x="830160" y="22575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638440" y="2257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104920" y="3171960"/>
            <a:ext cx="4572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2104920" y="3476520"/>
            <a:ext cx="457200" cy="297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2104920" y="3930480"/>
            <a:ext cx="457200" cy="308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2638440" y="3416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2104920" y="4235400"/>
            <a:ext cx="457200" cy="308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2104920" y="4772160"/>
            <a:ext cx="457200" cy="307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2104920" y="5076720"/>
            <a:ext cx="457200" cy="309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809640" y="50007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2638440" y="50007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true (since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3738600" y="248616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:  5 &lt; some tuple in the rel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844560" y="340200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2638440" y="4159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885960" y="41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3"/>
          <p:cNvSpPr/>
          <p:nvPr/>
        </p:nvSpPr>
        <p:spPr>
          <a:xfrm>
            <a:off x="738360" y="5472000"/>
            <a:ext cx="68007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 flipH="1">
            <a:off x="2819160" y="5840280"/>
            <a:ext cx="12204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4320" y="1108080"/>
            <a:ext cx="766152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0160"/>
                <a:tab algn="l" pos="183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names of all instructors whose salary is greater than the salary of all instructors in the Biology depar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836720" y="2065320"/>
            <a:ext cx="5961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Biolog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finition of all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3680" y="1122480"/>
            <a:ext cx="663876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&lt;comp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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 &lt;comp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2619360" y="1752480"/>
            <a:ext cx="457200" cy="1067040"/>
            <a:chOff x="2619360" y="1752480"/>
            <a:chExt cx="457200" cy="1067040"/>
          </a:xfrm>
        </p:grpSpPr>
        <p:sp>
          <p:nvSpPr>
            <p:cNvPr id="242" name="Rectangle 5"/>
            <p:cNvSpPr/>
            <p:nvPr/>
          </p:nvSpPr>
          <p:spPr>
            <a:xfrm>
              <a:off x="2619360" y="175248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>
              <a:off x="2619360" y="207252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>
              <a:off x="2619360" y="244620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8"/>
          <p:cNvSpPr/>
          <p:nvPr/>
        </p:nvSpPr>
        <p:spPr>
          <a:xfrm>
            <a:off x="159372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3152880" y="2057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2619360" y="2971800"/>
            <a:ext cx="4572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9360" y="3276720"/>
            <a:ext cx="457200" cy="296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2619360" y="3730680"/>
            <a:ext cx="457200" cy="307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3152880" y="321624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2619360" y="4035600"/>
            <a:ext cx="457200" cy="307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2619360" y="4572000"/>
            <a:ext cx="457200" cy="307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2619360" y="4876920"/>
            <a:ext cx="457200" cy="309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1704960" y="4800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3164040" y="4786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true (since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and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1650960" y="3228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3152880" y="39592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170496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1238400" y="5257800"/>
            <a:ext cx="68007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(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3"/>
          <p:cNvSpPr/>
          <p:nvPr/>
        </p:nvSpPr>
        <p:spPr>
          <a:xfrm flipH="1">
            <a:off x="3015720" y="5603760"/>
            <a:ext cx="109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 for Empty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 returns the val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he argument subquery is nonemp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exis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rrelation Variab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t another way of specifying the query “Find all courses taught in both the Fall 2009 semester and in the Spring 2010 semes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Fall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009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exi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mes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Spring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01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rrelated sub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rrelation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rrelation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ot Exis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39440" y="1106640"/>
            <a:ext cx="766116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61880"/>
                <a:tab algn="l" pos="102708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h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aken all courses offered in the Biology depar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054080" y="1976400"/>
            <a:ext cx="6653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not exi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Biology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004760" y="5048280"/>
            <a:ext cx="68220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– Y = Ø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write this query us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s vari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omain Types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7040" y="1106640"/>
            <a:ext cx="8221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har(n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ixed length character string, with user-specified leng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archar(n)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riable length character strings, with user-specified maximum leng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(a finite subset of the integers that is machine-depend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mallin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mall integer (a machine-dependent subset of the integer domain typ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umeric(p,d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ixed point number, with user-specified precis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gits,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gits to the right of decimal poi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al, double precis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loating point and double-precision floating point numbers, with machine-dependent pr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loat(n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loating point number, with user-specified precision of at lea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g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are covered in Chapter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81200" y="9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 for Absence of Duplicate Tu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3960" y="1112400"/>
            <a:ext cx="78915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q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uct tests whether a subquery has any duplicate tuples in its re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valuates to “true” on an empty 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ourses that were offered at most once i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uniq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e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00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ubqueries in the From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04640" y="1014480"/>
            <a:ext cx="8490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allows a subquery expression to be used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average instructors’ salaries of those departments where the average salary is greater than $42,0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876"/>
              </a:spcBef>
              <a:buNone/>
              <a:tabLst>
                <a:tab algn="l" pos="0"/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g_salar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g_salary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g_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42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we do not need to us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way to write abov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g_salar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av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g_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g_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42000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ubqueries in the From Claus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yet another way to write it: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t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g_salar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I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g_salary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I2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clause permits later par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lateral key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access correlation variables from the earlier 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lateral is part of the SQL standard, but is not supported on many database systems; some databases such as SQL Server offer alternativ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ith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use provides a way of defining a temporary view whose definition is available only to the query in whic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se occu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ll departments with the maximum budget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x_budg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d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dge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x_budge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dg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x_budget.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lex Queries using With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13960" y="1147680"/>
            <a:ext cx="79218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lause is very useful for writing complex 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by most database systems, with minor syntax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ll departments where the total salary is greater than the average of the total salary at all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055520" y="3063960"/>
            <a:ext cx="7659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 _tot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total_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total_av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total.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total_avg.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alar Sub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80568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r subquery is one which is used where a single value is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m_instructor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salary * 10 &gt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d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time error if subquery returns more than one result t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ion of tuples from a given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of new tuples into a given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ing values in some tuples in a given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09720" y="331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 – Dele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74684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all instr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all instructors from the Finance depart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Finance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all tuples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 for those instructors associated with a department located in the Watson buil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ild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’Watson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le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76000" y="1079280"/>
            <a:ext cx="766116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01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all instructors whose salary is less than the average salary of instr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920880" y="2160720"/>
            <a:ext cx="741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v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326880" y="3490920"/>
            <a:ext cx="88171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93800" indent="-336600">
              <a:lnSpc>
                <a:spcPct val="100000"/>
              </a:lnSpc>
              <a:spcBef>
                <a:spcPts val="876"/>
              </a:spcBef>
              <a:buClr>
                <a:srgbClr val="666699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 as we delete tuples from deposit, the average salary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876"/>
              </a:spcBef>
              <a:buClr>
                <a:srgbClr val="666699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used in SQ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First, compu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lary and find all tuples to 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Next, delete all tuples found above (without recompu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retesting the tup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69480" y="17784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 – Inser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tupl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’CS-437’, ’Database Systems’, ’Comp. Sci.’, 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equivalent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’CS-437’, ’Database Systems’, ’Comp. Sci.’, 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tupl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_cre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o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’3003’, ’Green’, ’Finance’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reate Table Construc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3040" y="112680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SQL relation is defined using 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reate 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tegrity-constrain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tegrity-constrain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name of the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attribute name in the schema of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data type of values in the domain of attribu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,2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‘10211’, ’Smith’, ’Biology’, 660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‘10211’, null, ’Biology’, 660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88840" y="203040"/>
            <a:ext cx="8058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er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811512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ll instructors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 with tot_creds set to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, name, dept_name, 0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from 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 is evaluated fully before any of its results are inserted into the relation (otherwise queries lik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cause problems,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ble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d not have any primary key defi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80560" y="378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 – Upd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salaries of instructors whose salary is over $100,000 by 3%, and all others receive a 5% ra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w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1.0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000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1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= 100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der is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better us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(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-50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se Statement for Conditional Upd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9660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query as before but with case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w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= 100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1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1.0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s with Scalar Sub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80200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pute and update tot_creds value for al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 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_c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ural jo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a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gt; ’F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a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not 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t_cre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null for students who have not taken any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when 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not null then 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dvanced SQL Features**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80326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table with the same schema as an existing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_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04" name="Picture 3" descr="3"/>
          <p:cNvPicPr/>
          <p:nvPr/>
        </p:nvPicPr>
        <p:blipFill>
          <a:blip r:embed="rId1"/>
          <a:stretch/>
        </p:blipFill>
        <p:spPr>
          <a:xfrm>
            <a:off x="4025880" y="1940040"/>
            <a:ext cx="109224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06" name="Picture 3" descr="3"/>
          <p:cNvPicPr/>
          <p:nvPr/>
        </p:nvPicPr>
        <p:blipFill>
          <a:blip r:embed="rId1"/>
          <a:stretch/>
        </p:blipFill>
        <p:spPr>
          <a:xfrm>
            <a:off x="4017960" y="1947960"/>
            <a:ext cx="110664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08" name="Picture 3" descr="3"/>
          <p:cNvPicPr/>
          <p:nvPr/>
        </p:nvPicPr>
        <p:blipFill>
          <a:blip r:embed="rId1"/>
          <a:stretch/>
        </p:blipFill>
        <p:spPr>
          <a:xfrm>
            <a:off x="4157640" y="3014640"/>
            <a:ext cx="82728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5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10" name="Picture 3" descr="3"/>
          <p:cNvPicPr/>
          <p:nvPr/>
        </p:nvPicPr>
        <p:blipFill>
          <a:blip r:embed="rId1"/>
          <a:stretch/>
        </p:blipFill>
        <p:spPr>
          <a:xfrm>
            <a:off x="3025800" y="1947960"/>
            <a:ext cx="30909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8360" y="9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egrity Constraints in Create Tab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3680" y="1098360"/>
            <a:ext cx="6638760" cy="12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71480" y="2395440"/>
            <a:ext cx="837252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Decl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primary key 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ull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8,2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04800" y="5229360"/>
            <a:ext cx="817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ation on an attribute automatically ens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7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12" name="Picture 3" descr="3"/>
          <p:cNvPicPr/>
          <p:nvPr/>
        </p:nvPicPr>
        <p:blipFill>
          <a:blip r:embed="rId1"/>
          <a:stretch/>
        </p:blipFill>
        <p:spPr>
          <a:xfrm>
            <a:off x="3605040" y="1682640"/>
            <a:ext cx="193392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8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14" name="Picture 3" descr="3"/>
          <p:cNvPicPr/>
          <p:nvPr/>
        </p:nvPicPr>
        <p:blipFill>
          <a:blip r:embed="rId1"/>
          <a:stretch/>
        </p:blipFill>
        <p:spPr>
          <a:xfrm>
            <a:off x="1628640" y="1596960"/>
            <a:ext cx="58849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09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16" name="Picture 3" descr="3"/>
          <p:cNvPicPr/>
          <p:nvPr/>
        </p:nvPicPr>
        <p:blipFill>
          <a:blip r:embed="rId1"/>
          <a:stretch/>
        </p:blipFill>
        <p:spPr>
          <a:xfrm>
            <a:off x="4111560" y="2900520"/>
            <a:ext cx="9190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10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18" name="Picture 3" descr="3"/>
          <p:cNvPicPr/>
          <p:nvPr/>
        </p:nvPicPr>
        <p:blipFill>
          <a:blip r:embed="rId1"/>
          <a:stretch/>
        </p:blipFill>
        <p:spPr>
          <a:xfrm>
            <a:off x="4125960" y="2500200"/>
            <a:ext cx="89208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1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20" name="Picture 3" descr="3"/>
          <p:cNvPicPr/>
          <p:nvPr/>
        </p:nvPicPr>
        <p:blipFill>
          <a:blip r:embed="rId1"/>
          <a:stretch/>
        </p:blipFill>
        <p:spPr>
          <a:xfrm>
            <a:off x="4100400" y="2392200"/>
            <a:ext cx="9414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1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22" name="Picture 3" descr="3"/>
          <p:cNvPicPr/>
          <p:nvPr/>
        </p:nvPicPr>
        <p:blipFill>
          <a:blip r:embed="rId1"/>
          <a:stretch/>
        </p:blipFill>
        <p:spPr>
          <a:xfrm>
            <a:off x="4132440" y="3135240"/>
            <a:ext cx="87768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1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24" name="Picture 3" descr="3"/>
          <p:cNvPicPr/>
          <p:nvPr/>
        </p:nvPicPr>
        <p:blipFill>
          <a:blip r:embed="rId1"/>
          <a:stretch/>
        </p:blipFill>
        <p:spPr>
          <a:xfrm>
            <a:off x="4132440" y="2989440"/>
            <a:ext cx="8776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1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26" name="Picture 3" descr="3"/>
          <p:cNvPicPr/>
          <p:nvPr/>
        </p:nvPicPr>
        <p:blipFill>
          <a:blip r:embed="rId1"/>
          <a:stretch/>
        </p:blipFill>
        <p:spPr>
          <a:xfrm>
            <a:off x="3757680" y="2828880"/>
            <a:ext cx="162720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17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28" name="Picture 3" descr="3"/>
          <p:cNvPicPr/>
          <p:nvPr/>
        </p:nvPicPr>
        <p:blipFill>
          <a:blip r:embed="rId1"/>
          <a:stretch/>
        </p:blipFill>
        <p:spPr>
          <a:xfrm>
            <a:off x="3675240" y="2722680"/>
            <a:ext cx="179208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nd a Few More Relation Defini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5920" y="824040"/>
            <a:ext cx="8350200" cy="57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 not nul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t_c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ign ke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k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8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8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,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ke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ID, course_id, sec_id, semester, year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ign ke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ign ke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, sec_id, semester,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c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dropped from primary key above, to ensure a student cannot be registered for two sections of the same course in the same sem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nd more stil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88760" y="90792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,0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artment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key declaration can be combined with attribute declaration as shown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Silberschatz, Avi</cp:lastModifiedBy>
  <cp:lastPrinted>2005-01-10T21:51:57Z</cp:lastPrinted>
  <dcterms:modified xsi:type="dcterms:W3CDTF">2013-01-22T15:35:00Z</dcterms:modified>
  <cp:revision>199</cp:revision>
  <dc:subject/>
  <dc:title>Chapter 1:  Introduction</dc:title>
</cp:coreProperties>
</file>