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3A716B-B041-42B6-8EC8-B55118F4B2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5A2B62-C2C4-4BD5-B281-AF14DAF6D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07BD02-2DD5-4726-943D-9C0C45B002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527F37-313F-4F67-ACF8-E95DD4B95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CF51FD-9B96-4AB9-9B81-ED1339D0C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19A5C0-A1C9-476A-A465-9B8708C722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DAD7CB-1A0B-43B4-8B2D-0527CF6FF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CFA8396-38EE-4E38-A6BE-CA8465BC2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2DF667A-471B-4C54-9CB3-9C983EF58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F8B43FB-4BFF-4718-B916-FB78BE8954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70CC5AD-B61B-4D04-9BBE-F23055821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AD9EB0-D1C9-42F7-94E3-783216DE2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2066B2-0E69-4FAD-BFA9-D7221A0187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B7610C-C763-4226-BAF7-E362C3C5C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D50C4B-5F66-4340-950D-BA3668A46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FA6541D-8B93-4442-9B17-C2BD615C3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1FB50D-A7C2-4DD0-98BF-728C527B9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5D8167-8CCC-4816-941E-2FED52456B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F50D86-E6A8-401A-A911-5C9997213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2C5120-7806-497E-94FE-1EDA6425A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8BE3D0-9A71-466E-8818-D3788AD37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F58759-D2E1-4362-B790-52C9F181F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191983-E386-48B2-8A36-4CDCE2491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721F73-B71D-4E02-8999-89EF10F23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496BF6-8330-494B-9598-AFDDC9491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3A64FEF-7F3B-4A75-9536-5F4A420686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A1C5D8-3CFE-4E0F-B2E9-D524C58F9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677209-9AB1-43BD-8584-38AAC131E2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550A08-45A5-4E95-9DE1-7AB3E89E31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782165-4B5F-476B-8443-459B6ED00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1C14A9-CCEF-4D05-ACA8-74949FAA6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10E0433-7265-42B7-B218-FC6EA2DAD9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7D48F0-4C1A-4707-B768-A361E6C7A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B66F57-8883-4875-A091-2B7739ECC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7A1C9E-3AF0-4B1E-A0D0-1F2EFAE9A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1F4A74-6B78-4AA6-AAA5-C60514A17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1D332F-5E53-4E86-98B5-1985C46EA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9301D46-A021-4E50-A642-759FCDD2B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B6250D-6C97-4E31-876D-365B0B1D3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D3C081-BC0A-4BE8-B152-CA7808B92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FFB8B19-10BA-445F-BC31-CE97982148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075137-6D70-4B36-A320-CC9087E68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487194-CE38-4FE3-BB04-08CEB23405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5B564F-8A46-4CC7-81E8-DE58B596A7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FF7000-2635-4D74-9223-C84E7DEC28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F0BB7C-256D-4155-824A-98ECE9107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3DC573-C870-4CC3-958F-80B73192B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E53AE1-1486-4E3B-9727-FAAD2F4803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26F8CF-DA83-42B8-9A22-4780DD628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8C447F-D72C-4966-B274-F6347FC16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791069-ADA9-43BE-A321-22A85D0BD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AB51F9-536A-43BF-95C5-748F27EA1A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36ADA8-4BEE-4ACD-97B9-D4364A290F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FA955CC-D2B7-4EC1-973B-1E18B348BF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3FA8-E77F-4107-8C40-6D80DBAAF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48F5-EBD0-4EC9-BAF5-A65930E1A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8E49-8754-4EA0-A6E3-D5EC476BF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10BF-8F6C-4CEF-958C-02CAAC65D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288-19F8-4F5E-892B-DA09D75F1A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86C-FEA9-45EE-8C75-BD95F53D06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3BE-8D48-4137-A514-256890A174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566-6492-48EA-A605-69412D2A27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723-7770-4F7A-8B2B-DF83249D24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EBC-D34A-4625-9EA2-2C4EDC799B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DDD-8762-4FE4-AFCC-98B42028ED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5CF4-A1B9-437C-9E3C-24C7FCBA5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0A3-D10F-4A5D-9747-C7604B1ECE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F5A-3F24-4E98-BAB5-7D5E11D655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952-86D9-4D31-87A5-AB92B34D50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3AA-E098-4162-A6E8-69ABDDF0DD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782-FB1E-47FB-B8C6-DE7FE043A2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170E-BCD0-4089-835E-971EAEA95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92E9-D49F-464F-9845-1B6C3D006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1ED0-B354-427A-BE40-CF9503E7B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EC84-442F-404A-AEFE-41EB386F8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9476-4CA1-4F10-8BA7-78AAA7A56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D09B-2199-4736-9CBA-90368B04C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D72D-0857-430F-84B5-7C349B6B1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0869-B99E-439D-96A0-F35BD8A8C986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4.</a:t>
            </a:r>
            <a:fld id="{793A4C6E-C425-4E4A-9D3E-6B606E299392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8916840" y="5445000"/>
            <a:ext cx="22716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BFAD-3A52-4E80-8529-C816E33A840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4: Transaction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t Execu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106640"/>
            <a:ext cx="743904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ransactions are allowed to run concurrently in the system.  Advantag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d processor and disk uti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eading to better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ne transaction can be using the CPU while another is reading from or writing to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d average respons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ransactions: short transactions need not wait behind long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currency control schem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echanisms  to achieve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to control the interaction among the concurrent transactions in order to prevent them from destroying the consistency 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tudy in Chapter 16, after studying notion of correctness of concurrent exec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106280"/>
            <a:ext cx="781056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hedul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 sequences of instructions that specify the chronological order in which instructions of concurrent transactions ar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hedule for a set of transactions must consist of all instructions of thos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eserve the order in which the instructions appear in each individual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successfully completes its execution will have a commit instructions as the last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fault transaction assumed to execute commit instruction as its las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fails to successfully complete its execution will have an abort instruction as the last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2630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fer $50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fer 10% of the balance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in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ollow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"/>
          <p:cNvPicPr/>
          <p:nvPr/>
        </p:nvPicPr>
        <p:blipFill>
          <a:blip r:embed="rId1"/>
          <a:stretch/>
        </p:blipFill>
        <p:spPr>
          <a:xfrm>
            <a:off x="2836800" y="2075040"/>
            <a:ext cx="350676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41240" y="1089000"/>
            <a:ext cx="78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rial schedule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ollow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1"/>
          <a:stretch/>
        </p:blipFill>
        <p:spPr>
          <a:xfrm>
            <a:off x="2284560" y="1611360"/>
            <a:ext cx="38271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676584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the transactions defined previousl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following schedule is not a serial schedule, but it is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equivalent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hedul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000080" y="6018120"/>
            <a:ext cx="6724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chedules 1, 2 and 3, the sum A + B is p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"/>
          <p:cNvPicPr/>
          <p:nvPr/>
        </p:nvPicPr>
        <p:blipFill>
          <a:blip r:embed="rId1"/>
          <a:stretch/>
        </p:blipFill>
        <p:spPr>
          <a:xfrm>
            <a:off x="2908440" y="1962000"/>
            <a:ext cx="32731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67248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concurrent schedule does not preserve the value o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"/>
          <p:cNvPicPr/>
          <p:nvPr/>
        </p:nvPicPr>
        <p:blipFill>
          <a:blip r:embed="rId1"/>
          <a:stretch/>
        </p:blipFill>
        <p:spPr>
          <a:xfrm>
            <a:off x="2760840" y="2098800"/>
            <a:ext cx="34192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106280"/>
            <a:ext cx="691524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Assum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ach transaction preserves database consist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serial execution of a set of transactions preserves database consist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possibly concurrent) schedule is serializable if it is equivalent to a serial schedule.  Different forms of schedule equivalence give rise to the notion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Simplified view of transa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149120"/>
            <a:ext cx="67611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ignore operations other th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ssume that transactions may perform arbitrary computations on data in local buffers in between reads and writ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simplified schedules consist of onl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ing Instruction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106640"/>
            <a:ext cx="71470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ectively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and only if there exists some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ed by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at least one of these instructions wro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conflic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They conflic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3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 They confli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4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They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uitively, a conflict betwe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ces a (logical) temporal order between th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onsecutive in a schedule and they do not conflict, their results would remain the same even if they had been interchanged in the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2336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ansformed into a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 series of swaps of non-conflicting instructions, we say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equival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y that a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serializ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it is conflict equivalent to a serial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4:  Transa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65642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Definition in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for Serializ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 Serializabilit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3976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11360"/>
                <a:tab algn="l" pos="326232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3 can be transformed into Schedule 6, a serial schedule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low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series of swaps of non-conflicting instructions.  Therefore Schedule 3 is conflict serializ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640160" y="55864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5929560" y="55926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7" descr=""/>
          <p:cNvPicPr/>
          <p:nvPr/>
        </p:nvPicPr>
        <p:blipFill>
          <a:blip r:embed="rId1"/>
          <a:stretch/>
        </p:blipFill>
        <p:spPr>
          <a:xfrm>
            <a:off x="663480" y="2444760"/>
            <a:ext cx="3849840" cy="31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"/>
          <p:cNvPicPr/>
          <p:nvPr/>
        </p:nvPicPr>
        <p:blipFill>
          <a:blip r:embed="rId2"/>
          <a:stretch/>
        </p:blipFill>
        <p:spPr>
          <a:xfrm>
            <a:off x="4917960" y="2448000"/>
            <a:ext cx="42260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 Serializabilit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699768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schedule that is not conflict serializable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unable to swap instructions in the above schedule to obtain either the serial schedul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, or the serial schedul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1871640" y="1941480"/>
            <a:ext cx="4714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106640"/>
            <a:ext cx="756612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two schedules with the same set of transactions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equival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ollowing three conditions are met, for each data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 schedule S,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the initial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in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read the initial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 schedule S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hat value was produced by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f any), then in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read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was produced by the s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) operation of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action (if any) that performs the fin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peration in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also perform the fina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peration in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can be seen, view equivalence is also based purely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Serializabilit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106280"/>
            <a:ext cx="784872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serializab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view equivalent to a serial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onflict serializable schedule is also view serializ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is a schedule which is view-serializable b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ict serializabl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erial schedule is above equivalent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338560"/>
                <a:tab algn="l" pos="2914560"/>
                <a:tab algn="l" pos="3203640"/>
                <a:tab algn="l" pos="3881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view serializable schedule that is not conflict serializable h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ind wr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New PDF from Images Output-1.pdf"/>
          <p:cNvPicPr/>
          <p:nvPr/>
        </p:nvPicPr>
        <p:blipFill>
          <a:blip r:embed="rId1"/>
          <a:stretch/>
        </p:blipFill>
        <p:spPr>
          <a:xfrm>
            <a:off x="2228760" y="2855880"/>
            <a:ext cx="44290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Notions of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106640"/>
            <a:ext cx="6985080" cy="62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hedule below produces same outcome as the serial schedul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, yet is not conflict equivalent or view equivalent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ing such equivalence requires analysis of operations other than read and wr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120760"/>
                <a:tab algn="l" pos="2568600"/>
                <a:tab algn="l" pos="360036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2944800" y="1938240"/>
            <a:ext cx="34052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ing for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67960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ome schedule of a set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ecedence grap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a directed graph where the vertices are the transactions (n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raw an arc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two transaction conflict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ed the data item on which the conflict arose ear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ay label the arc by the item that was ac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1"/>
          <a:stretch/>
        </p:blipFill>
        <p:spPr>
          <a:xfrm>
            <a:off x="2359080" y="3747960"/>
            <a:ext cx="38764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 for Conflict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4200" y="1106640"/>
            <a:ext cx="507816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hedule is conflict serializable if and only if its precedence graph is acyc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-detection algorithms exist which take or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number of vertices in the grap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etter algorithms take or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umber of edg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ecedence graph is acyclic, the serializability order can be obtained by a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topological sor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gra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linear order consistent with the partial order of the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a serializability order for Schedule A would b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oth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5789520" y="1055520"/>
            <a:ext cx="295452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 for View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106640"/>
            <a:ext cx="767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cedence graph test for conflict serializability cannot be used directly to test for view serializ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to test for view serializability has cost exponential in the size of the precedence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lem of checking if a schedule is view serializable falls in the clas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omplete probl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existence of an efficient algorithm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trem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lik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 practical algorithms that just check s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ffici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view serializability can still b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overable Sched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coverable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hed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if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ds a data item previously written by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commit oper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ears before the commit oper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schedule (Schedule 11) is not recoverable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s immediately after the re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abort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uld have read (and possibly shown to the user) an inconsistent database state.  Hence, database must ensure that schedules are recov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920880" y="1105920"/>
            <a:ext cx="67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address the effect of transaction failures on concurrent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"/>
          <p:cNvPicPr/>
          <p:nvPr/>
        </p:nvPicPr>
        <p:blipFill>
          <a:blip r:embed="rId1"/>
          <a:stretch/>
        </p:blipFill>
        <p:spPr>
          <a:xfrm>
            <a:off x="4116240" y="3090960"/>
            <a:ext cx="3483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scading Rollba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16904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l" pos="2120760"/>
                <a:tab algn="l" pos="2684520"/>
                <a:tab algn="l" pos="3030480"/>
                <a:tab algn="l" pos="37670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scading roll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single transaction failure leads to a series of transaction rollbacks.  Consider the following schedule where none of the transactions has yet committed (so the schedule is recoverable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il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also be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l" pos="2120760"/>
                <a:tab algn="l" pos="2684520"/>
                <a:tab algn="l" pos="3030480"/>
                <a:tab algn="l" pos="37670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ead to the undoing of a significant amount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"/>
          <p:cNvPicPr/>
          <p:nvPr/>
        </p:nvPicPr>
        <p:blipFill>
          <a:blip r:embed="rId1"/>
          <a:stretch/>
        </p:blipFill>
        <p:spPr>
          <a:xfrm>
            <a:off x="1803240" y="2324160"/>
            <a:ext cx="421668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Concep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13960" y="1093320"/>
            <a:ext cx="7386840" cy="48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rogram execution that accesses and  possibly updates various data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ransaction to transfer $50 from account A to account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ain issues to deal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s of various kinds, such as hardware failures and system cra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execution of multipl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scadeless Sched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scadeless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hedu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cascading rollbacks cannot occur; for each pair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ads a data item previously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commit oper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ears before the read oper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ascadeless schedule is also recov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esirable to restrict the schedules to those that are cascad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cy Contr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1106640"/>
            <a:ext cx="793908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atabase must provide a mechanism that will ensure that all possible schedul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conflict or view serializable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recoverable and preferably cascad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licy in which only one transaction can execute at a time generates serial schedules, but provides a poor degree of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erial schedules recoverable/cascadele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schedule for serializabilit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has executed is a little too l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o develop concurrency control protocols that will assure serializ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cy Contro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s must be conflict or view serializable, and recoverable, for the sake of database consistency, and preferably cascadel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licy in which only one transaction can execute at a time generates serial schedules, but provides a poor degree of concurr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-control schemes tradeoff between the amount of concurrency they allow and the amount of overhead that they in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chemes allow only conflict-serializable schedules to be generated, while others allow  view-serializable schedules that are not conflict-serializ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4200" y="200160"/>
            <a:ext cx="77533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currency Control vs. Serializability Test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-control protocols allow concurrent schedules, but ensure that the schedules are conflict/view serializable, and are recoverable and cascadeles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control protocols generally do not examine the precedence graph as it is being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a protocol imposes a discipline that avoids nonseralizable sche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tudy such protocols in Chapter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concurrency control protocols provide different tradeoffs between the amount of concurrency they allow and the amount of overhead that they in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s for serializability help us understand why a concurrency control protocol is correc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ak Levels of Consistenc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pplications are willing to live with weak levels of consistency, allowing schedules that are not serial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a read-only transaction that wants to get an approximate total balance of all accou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database statistics computed for query optimization can be approximate (wh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ransactions need not be serializable with respect to other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off accuracy fo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vels of Consistency in SQL-9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aliz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eatable r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committed records to be read, repeated reads of same record must return same value.  However, a transaction may not be serializable – it may find some records inserted by a transaction but not find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commit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committed records can be read, but successive reads of record may return different (but committed)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uncommit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uncommitted records may be re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25600" y="4398840"/>
            <a:ext cx="75279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degrees of consistency useful for gathering approxim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the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: some database systems do not ensure serializable schedules by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 Oracle and PostgreSQL by default support a level of consistency called snapshot isolation (not part of the SQL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Definition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28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anipulation language must include a construct for specifying the set of actions that comprise a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QL, a transaction begins implici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in SQL ends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 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its current transaction and begins a new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lback 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uses current transaction to ab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all database systems, by default, every SQL statement also commits implicitly if it executes success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commit can be turned off by a database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n JDBC,     connection.setAutoCommit(fal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1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4.0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1"/>
          <a:stretch/>
        </p:blipFill>
        <p:spPr>
          <a:xfrm>
            <a:off x="1430280" y="1182600"/>
            <a:ext cx="584352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4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8" name="Picture 13" descr=""/>
          <p:cNvPicPr/>
          <p:nvPr/>
        </p:nvPicPr>
        <p:blipFill>
          <a:blip r:embed="rId1"/>
          <a:stretch/>
        </p:blipFill>
        <p:spPr>
          <a:xfrm>
            <a:off x="2873520" y="1371600"/>
            <a:ext cx="35067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Fund Transf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106640"/>
            <a:ext cx="76532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to transfer $50 from account A to account 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tomicity requ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transaction fails after step 3 and before step 6, money will be “lost” leading to an inconsistent databas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ure could be due to software or 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ystem should ensure that updates of a partially executed transaction are not reflected in the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urability requ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once the user has been notified that the transaction has completed (i.e., the transfer of the $50 has taken place), the updates to the database by the transaction must persist even if there are software or hardware fail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4.0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0" name="Picture 11" descr=""/>
          <p:cNvPicPr/>
          <p:nvPr/>
        </p:nvPicPr>
        <p:blipFill>
          <a:blip r:embed="rId1"/>
          <a:stretch/>
        </p:blipFill>
        <p:spPr>
          <a:xfrm>
            <a:off x="2975040" y="957240"/>
            <a:ext cx="38275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4.0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2" name="Picture 13" descr=""/>
          <p:cNvPicPr/>
          <p:nvPr/>
        </p:nvPicPr>
        <p:blipFill>
          <a:blip r:embed="rId1"/>
          <a:stretch/>
        </p:blipFill>
        <p:spPr>
          <a:xfrm>
            <a:off x="3130560" y="1185840"/>
            <a:ext cx="32734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4.0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4" name="Picture 15" descr=""/>
          <p:cNvPicPr/>
          <p:nvPr/>
        </p:nvPicPr>
        <p:blipFill>
          <a:blip r:embed="rId1"/>
          <a:stretch/>
        </p:blipFill>
        <p:spPr>
          <a:xfrm>
            <a:off x="2933640" y="939960"/>
            <a:ext cx="34196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4.0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6" name="Picture 17" descr=""/>
          <p:cNvPicPr/>
          <p:nvPr/>
        </p:nvPicPr>
        <p:blipFill>
          <a:blip r:embed="rId1"/>
          <a:stretch/>
        </p:blipFill>
        <p:spPr>
          <a:xfrm>
            <a:off x="2797200" y="1335240"/>
            <a:ext cx="38480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4.0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2401920" y="1338120"/>
            <a:ext cx="484344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4.08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00" name="Picture 18" descr=""/>
          <p:cNvPicPr/>
          <p:nvPr/>
        </p:nvPicPr>
        <p:blipFill>
          <a:blip r:embed="rId1"/>
          <a:stretch/>
        </p:blipFill>
        <p:spPr>
          <a:xfrm>
            <a:off x="2057400" y="1362240"/>
            <a:ext cx="42260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4.09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tretch/>
        </p:blipFill>
        <p:spPr>
          <a:xfrm>
            <a:off x="1871640" y="1941480"/>
            <a:ext cx="4714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4.10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143000" y="2076480"/>
            <a:ext cx="739944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4.1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06" name="Picture 11" descr=""/>
          <p:cNvPicPr/>
          <p:nvPr/>
        </p:nvPicPr>
        <p:blipFill>
          <a:blip r:embed="rId1"/>
          <a:stretch/>
        </p:blipFill>
        <p:spPr>
          <a:xfrm>
            <a:off x="3000240" y="1789200"/>
            <a:ext cx="387684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4.1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>
            <a:off x="3311640" y="735120"/>
            <a:ext cx="295416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Fund Transfer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83720" y="1106640"/>
            <a:ext cx="781236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to transfer $50 from account A to account 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sistency requ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above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um of A and B is unchanged by the execution of the 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eneral, consistency requirements inclu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icitly specified integrity constraints such as primary keys and foreign 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cit integrity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um of balances of all accounts, minus sum of loan amounts must equal value of cash-in-h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ansaction must see a consistent datab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transaction execution the database may be temporarily inconsis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 transaction completes successfully the database must be con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neous transaction logic can lead to inconsist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4.1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0" name="Picture 11" descr=""/>
          <p:cNvPicPr/>
          <p:nvPr/>
        </p:nvPicPr>
        <p:blipFill>
          <a:blip r:embed="rId1"/>
          <a:stretch/>
        </p:blipFill>
        <p:spPr>
          <a:xfrm>
            <a:off x="2984400" y="1359000"/>
            <a:ext cx="34052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4.1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2" name="Picture 11" descr=""/>
          <p:cNvPicPr/>
          <p:nvPr/>
        </p:nvPicPr>
        <p:blipFill>
          <a:blip r:embed="rId1"/>
          <a:stretch/>
        </p:blipFill>
        <p:spPr>
          <a:xfrm>
            <a:off x="2266920" y="1585800"/>
            <a:ext cx="45385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4.1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1384200" y="1460520"/>
            <a:ext cx="681984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4.1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2181240" y="804960"/>
            <a:ext cx="47959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Fund Transfer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1544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solation requir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if between steps 3 and 6, another transaction T2 is allowed to access the partially updated database, it will see an inconsistent database (the sum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+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be less than it should be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1                                       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read(A), read(B), print(A+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ion can be ensured trivially by running transaction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one after the other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executing multiple transactions concurrently has significant benefits, as we will see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CID Propert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080800"/>
            <a:ext cx="78724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omi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ither all operations of the transaction are properly reflected in the database or none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ist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xecution of a transaction in isolation preserves the consistency of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so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though multiple transactions may execute concurrently, each transaction must be unaware of other concurrently executing transactions.  Intermediate transaction results must be hidden from other concurrently executed transac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for every pair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ppear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ed execution bef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 execution af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ur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 transaction completes successfully, the changes it has made to the database persist, even if there are system fail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01800" y="1106280"/>
            <a:ext cx="824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a unit of program execution that accesses and possibly updates various data items.To preserve the integrity of data the database system must ens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Stat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106280"/>
            <a:ext cx="7493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state; the transaction stays in this state while it is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ially committ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final statement has been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il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discovery that normal execution can no longer proc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ort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fter the transaction has been rolled back and the database restored to its state prior to the start of the transaction.  Two options after it has been abor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th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one only if no internal logical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ll th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itt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fter successful comple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Stat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1430280" y="1182600"/>
            <a:ext cx="584352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5:40:23Z</dcterms:created>
  <dc:creator>Silberschatz, Korth and Sudarshan</dc:creator>
  <dc:description/>
  <dc:language>en-US</dc:language>
  <cp:lastModifiedBy>Sudarshan</cp:lastModifiedBy>
  <cp:lastPrinted>1999-06-28T19:27:31Z</cp:lastPrinted>
  <dcterms:modified xsi:type="dcterms:W3CDTF">2012-03-14T15:20:03Z</dcterms:modified>
  <cp:revision>541</cp:revision>
  <dc:subject/>
  <dc:title>Chapter 14: Transaction Processing</dc:title>
</cp:coreProperties>
</file>