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27.jpeg" ContentType="image/jpeg"/>
  <Override PartName="/ppt/media/image6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0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8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319EF-B84D-4C5A-944D-17481A2232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279BF-A117-437B-BBD4-FA38777075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6AAC7-CD32-4673-8895-4E7EF99861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048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50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1432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048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50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6B0E1-2514-4D0C-A4A0-72DA1DFB1C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67880" y="117360"/>
            <a:ext cx="80773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C7198-7C2B-4995-A515-61CCC01D54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4048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950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1432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4048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950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7A8D3-15DC-47B8-AF9B-2E766A1FCE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F96AA-A0D4-444C-A39A-D0D32E44B4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60175-6198-408D-ACDC-D8D4EA9371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7880" y="117360"/>
            <a:ext cx="80773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263B8-2B5D-4B2A-9FDA-EF16220A63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B797B-ECF0-4B8C-879B-A9BE92D9E9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24834-6D9B-4DD9-B810-EBE9EFF2CB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A7B96-1121-4759-82DA-7928DB61C4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db-book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cc33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99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0B7FD-9BE3-43F2-853C-3A37CAE1E440}" type="slidenum"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764760" y="661356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©Silberschatz, Korth and Sudarsh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55200" y="6613560"/>
            <a:ext cx="89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6.</a:t>
            </a:r>
            <a:fld id="{E50A21B6-C21B-4FF9-BC1A-7B3CB0025895}" type="slidenum">
              <a:rPr b="1" lang="en-US" sz="10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560" y="6613560"/>
            <a:ext cx="255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Database System Concepts - 6</a:t>
            </a:r>
            <a:r>
              <a:rPr b="1" lang="en-US" sz="1000" spc="-1" strike="noStrike" baseline="30000">
                <a:solidFill>
                  <a:srgbClr val="cc3300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 Ed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16840" y="5445000"/>
            <a:ext cx="227160" cy="47880"/>
          </a:xfrm>
          <a:custGeom>
            <a:avLst/>
            <a:gdLst/>
            <a:ahLst/>
            <a:rect l="l" t="t" r="r" b="b"/>
            <a:pathLst>
              <a:path w="285" h="61">
                <a:moveTo>
                  <a:pt x="2" y="61"/>
                </a:moveTo>
                <a:lnTo>
                  <a:pt x="0" y="59"/>
                </a:lnTo>
                <a:lnTo>
                  <a:pt x="0" y="55"/>
                </a:lnTo>
                <a:lnTo>
                  <a:pt x="2" y="48"/>
                </a:lnTo>
                <a:lnTo>
                  <a:pt x="5" y="40"/>
                </a:lnTo>
                <a:lnTo>
                  <a:pt x="9" y="34"/>
                </a:lnTo>
                <a:lnTo>
                  <a:pt x="13" y="31"/>
                </a:lnTo>
                <a:lnTo>
                  <a:pt x="17" y="25"/>
                </a:lnTo>
                <a:lnTo>
                  <a:pt x="24" y="21"/>
                </a:lnTo>
                <a:lnTo>
                  <a:pt x="30" y="17"/>
                </a:lnTo>
                <a:lnTo>
                  <a:pt x="40" y="13"/>
                </a:lnTo>
                <a:lnTo>
                  <a:pt x="45" y="10"/>
                </a:lnTo>
                <a:lnTo>
                  <a:pt x="51" y="8"/>
                </a:lnTo>
                <a:lnTo>
                  <a:pt x="57" y="6"/>
                </a:lnTo>
                <a:lnTo>
                  <a:pt x="64" y="6"/>
                </a:lnTo>
                <a:lnTo>
                  <a:pt x="70" y="2"/>
                </a:lnTo>
                <a:lnTo>
                  <a:pt x="78" y="2"/>
                </a:lnTo>
                <a:lnTo>
                  <a:pt x="85" y="0"/>
                </a:lnTo>
                <a:lnTo>
                  <a:pt x="93" y="0"/>
                </a:lnTo>
                <a:lnTo>
                  <a:pt x="100" y="0"/>
                </a:lnTo>
                <a:lnTo>
                  <a:pt x="110" y="0"/>
                </a:lnTo>
                <a:lnTo>
                  <a:pt x="118" y="0"/>
                </a:lnTo>
                <a:lnTo>
                  <a:pt x="129" y="0"/>
                </a:lnTo>
                <a:lnTo>
                  <a:pt x="137" y="0"/>
                </a:lnTo>
                <a:lnTo>
                  <a:pt x="146" y="2"/>
                </a:lnTo>
                <a:lnTo>
                  <a:pt x="154" y="2"/>
                </a:lnTo>
                <a:lnTo>
                  <a:pt x="163" y="4"/>
                </a:lnTo>
                <a:lnTo>
                  <a:pt x="173" y="6"/>
                </a:lnTo>
                <a:lnTo>
                  <a:pt x="182" y="8"/>
                </a:lnTo>
                <a:lnTo>
                  <a:pt x="192" y="8"/>
                </a:lnTo>
                <a:lnTo>
                  <a:pt x="201" y="12"/>
                </a:lnTo>
                <a:lnTo>
                  <a:pt x="209" y="12"/>
                </a:lnTo>
                <a:lnTo>
                  <a:pt x="216" y="13"/>
                </a:lnTo>
                <a:lnTo>
                  <a:pt x="224" y="15"/>
                </a:lnTo>
                <a:lnTo>
                  <a:pt x="234" y="17"/>
                </a:lnTo>
                <a:lnTo>
                  <a:pt x="239" y="19"/>
                </a:lnTo>
                <a:lnTo>
                  <a:pt x="247" y="21"/>
                </a:lnTo>
                <a:lnTo>
                  <a:pt x="254" y="23"/>
                </a:lnTo>
                <a:lnTo>
                  <a:pt x="260" y="25"/>
                </a:lnTo>
                <a:lnTo>
                  <a:pt x="266" y="25"/>
                </a:lnTo>
                <a:lnTo>
                  <a:pt x="270" y="27"/>
                </a:lnTo>
                <a:lnTo>
                  <a:pt x="273" y="27"/>
                </a:lnTo>
                <a:lnTo>
                  <a:pt x="279" y="29"/>
                </a:lnTo>
                <a:lnTo>
                  <a:pt x="283" y="31"/>
                </a:lnTo>
                <a:lnTo>
                  <a:pt x="285" y="32"/>
                </a:lnTo>
                <a:lnTo>
                  <a:pt x="279" y="44"/>
                </a:lnTo>
                <a:lnTo>
                  <a:pt x="277" y="44"/>
                </a:lnTo>
                <a:lnTo>
                  <a:pt x="273" y="42"/>
                </a:lnTo>
                <a:lnTo>
                  <a:pt x="268" y="42"/>
                </a:lnTo>
                <a:lnTo>
                  <a:pt x="260" y="40"/>
                </a:lnTo>
                <a:lnTo>
                  <a:pt x="251" y="38"/>
                </a:lnTo>
                <a:lnTo>
                  <a:pt x="241" y="36"/>
                </a:lnTo>
                <a:lnTo>
                  <a:pt x="235" y="34"/>
                </a:lnTo>
                <a:lnTo>
                  <a:pt x="230" y="34"/>
                </a:lnTo>
                <a:lnTo>
                  <a:pt x="224" y="32"/>
                </a:lnTo>
                <a:lnTo>
                  <a:pt x="218" y="32"/>
                </a:lnTo>
                <a:lnTo>
                  <a:pt x="213" y="31"/>
                </a:lnTo>
                <a:lnTo>
                  <a:pt x="207" y="31"/>
                </a:lnTo>
                <a:lnTo>
                  <a:pt x="201" y="29"/>
                </a:lnTo>
                <a:lnTo>
                  <a:pt x="196" y="29"/>
                </a:lnTo>
                <a:lnTo>
                  <a:pt x="190" y="27"/>
                </a:lnTo>
                <a:lnTo>
                  <a:pt x="182" y="27"/>
                </a:lnTo>
                <a:lnTo>
                  <a:pt x="178" y="25"/>
                </a:lnTo>
                <a:lnTo>
                  <a:pt x="173" y="25"/>
                </a:lnTo>
                <a:lnTo>
                  <a:pt x="167" y="23"/>
                </a:lnTo>
                <a:lnTo>
                  <a:pt x="163" y="23"/>
                </a:lnTo>
                <a:lnTo>
                  <a:pt x="158" y="21"/>
                </a:lnTo>
                <a:lnTo>
                  <a:pt x="154" y="21"/>
                </a:lnTo>
                <a:lnTo>
                  <a:pt x="148" y="19"/>
                </a:lnTo>
                <a:lnTo>
                  <a:pt x="142" y="19"/>
                </a:lnTo>
                <a:lnTo>
                  <a:pt x="144" y="48"/>
                </a:lnTo>
                <a:lnTo>
                  <a:pt x="110" y="15"/>
                </a:lnTo>
                <a:lnTo>
                  <a:pt x="118" y="48"/>
                </a:lnTo>
                <a:lnTo>
                  <a:pt x="83" y="21"/>
                </a:lnTo>
                <a:lnTo>
                  <a:pt x="91" y="48"/>
                </a:lnTo>
                <a:lnTo>
                  <a:pt x="59" y="29"/>
                </a:lnTo>
                <a:lnTo>
                  <a:pt x="57" y="29"/>
                </a:lnTo>
                <a:lnTo>
                  <a:pt x="53" y="31"/>
                </a:lnTo>
                <a:lnTo>
                  <a:pt x="49" y="31"/>
                </a:lnTo>
                <a:lnTo>
                  <a:pt x="43" y="34"/>
                </a:lnTo>
                <a:lnTo>
                  <a:pt x="38" y="36"/>
                </a:lnTo>
                <a:lnTo>
                  <a:pt x="32" y="38"/>
                </a:lnTo>
                <a:lnTo>
                  <a:pt x="26" y="42"/>
                </a:lnTo>
                <a:lnTo>
                  <a:pt x="23" y="44"/>
                </a:lnTo>
                <a:lnTo>
                  <a:pt x="15" y="50"/>
                </a:lnTo>
                <a:lnTo>
                  <a:pt x="7" y="55"/>
                </a:lnTo>
                <a:lnTo>
                  <a:pt x="4" y="59"/>
                </a:lnTo>
                <a:lnTo>
                  <a:pt x="2" y="61"/>
                </a:lnTo>
                <a:lnTo>
                  <a:pt x="2" y="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-3240" y="0"/>
            <a:ext cx="668520" cy="816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748960" y="5726160"/>
            <a:ext cx="3545640" cy="7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Database System Concepts, 6</a:t>
            </a:r>
            <a:r>
              <a:rPr b="1" lang="en-US" sz="1600" spc="-1" strike="noStrike" baseline="30000">
                <a:solidFill>
                  <a:srgbClr val="cc3300"/>
                </a:solidFill>
                <a:latin typeface="Arial"/>
              </a:rPr>
              <a:t>th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 Ed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©Silberschatz, Korth and Sudarshan</a:t>
            </a:r>
            <a:br>
              <a:rPr sz="1200"/>
            </a:b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See </a:t>
            </a:r>
            <a:r>
              <a:rPr b="0" lang="en-US" sz="1200" spc="-1" strike="noStrike" u="sng">
                <a:solidFill>
                  <a:srgbClr val="ff9900"/>
                </a:solidFill>
                <a:uFillTx/>
                <a:latin typeface="Arial"/>
                <a:hlinkClick r:id="rId2"/>
              </a:rPr>
              <a:t>www.db-book.com</a:t>
            </a:r>
            <a:r>
              <a:rPr b="0" lang="en-US" sz="1200" spc="-1" strike="noStrike" u="sng">
                <a:solidFill>
                  <a:srgbClr val="cc3300"/>
                </a:solidFill>
                <a:uFillTx/>
                <a:latin typeface="Arial"/>
              </a:rPr>
              <a:t> for conditions on re-u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92120" cy="17002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7160" algn="ctr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00240" algn="ctr"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42960" algn="ctr">
              <a:spcBef>
                <a:spcPts val="788"/>
              </a:spcBef>
              <a:buClr>
                <a:srgbClr val="cc3300"/>
              </a:buClr>
              <a:buSzPct val="75000"/>
              <a:buFont typeface="Helvetic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42960">
              <a:spcBef>
                <a:spcPts val="451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42960">
              <a:spcBef>
                <a:spcPts val="451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hapter 6: Formal Relational Query Languages 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404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et difference of two relatio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98120" y="1077480"/>
            <a:ext cx="6861240" cy="3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98480" y="3220920"/>
            <a:ext cx="702936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  – 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921040" y="1211400"/>
            <a:ext cx="2554200" cy="32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et Difference Opera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98120" y="1077480"/>
            <a:ext cx="649908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atio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 –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d 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 – 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= {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 differences must be taken between 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compatib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la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ust have the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s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 domains of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st be compat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to find all courses taught in the Fall 2009 semester, but not in the Spring 2010 semest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course_i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semester=“Fall”  </a:t>
            </a:r>
            <a:r>
              <a:rPr b="0" i="1" lang="el-GR" sz="2400" spc="-1" strike="noStrike" baseline="-25000">
                <a:solidFill>
                  <a:srgbClr val="000000"/>
                </a:solidFill>
                <a:latin typeface="Arial"/>
              </a:rPr>
              <a:t>Λ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 year=2009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  −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course_i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semester=“Spring”  </a:t>
            </a:r>
            <a:r>
              <a:rPr b="0" i="1" lang="el-GR" sz="2400" spc="-1" strike="noStrike" baseline="-25000">
                <a:solidFill>
                  <a:srgbClr val="000000"/>
                </a:solidFill>
                <a:latin typeface="Arial"/>
              </a:rPr>
              <a:t>Λ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 year=201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87320" y="19368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artesian-Product Operation –  Exampl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98480" y="1077840"/>
            <a:ext cx="7029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cc3300"/>
              </a:buClr>
              <a:buFont typeface="Monotype Sorts" charset="2"/>
              <a:buChar char=""/>
              <a:tabLst>
                <a:tab algn="ctr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, 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98480" y="3135240"/>
            <a:ext cx="7029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cc3300"/>
              </a:buClr>
              <a:buFont typeface="Monotype Sorts" charset="2"/>
              <a:buChar char=""/>
              <a:tabLst>
                <a:tab algn="ctr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913120" y="1076400"/>
            <a:ext cx="243216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artesian-Product Opera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88560" y="1077480"/>
            <a:ext cx="5621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atio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d 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ctr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{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 q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that attributes of r(R) and s(S) are disjoint. (That is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ttributes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(R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(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are not disjoint, then renaming must b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omposition of Operatio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1760" y="762120"/>
            <a:ext cx="7848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uild expressions using multiple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=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 x 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 x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=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 x 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451320" y="2916360"/>
                <a:ext cx="139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2438280" y="5610240"/>
            <a:ext cx="184320" cy="36684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544840" y="1949400"/>
            <a:ext cx="175716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Rename Opera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98480" y="107748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us to name, and therefore to refer to, the results of relational-algebra express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us to refer to a relation by more than one na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s the express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nder the nam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relational-algebra express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s arit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s the result of express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nder the nam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with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ributes renamed 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….,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671920" y="3944880"/>
                <a:ext cx="297972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 Query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13960" y="1093680"/>
            <a:ext cx="7907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the largest salary in the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1: find instructor salaries that are less than some other instructor salary (i.e. not maximu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876"/>
              </a:spcBef>
              <a:buClr>
                <a:srgbClr val="ff99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a copy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a new nam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nstructor.sala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nstructor.salary &lt; d,salary  </a:t>
            </a:r>
            <a:br>
              <a:rPr sz="2400"/>
            </a:b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 x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i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2: Find the largest sal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salar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instructor) –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nstructor.sala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nstructor.salary &lt; d,salary  </a:t>
            </a:r>
            <a:br>
              <a:rPr sz="2400"/>
            </a:b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 x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i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 Queri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98480" y="1077840"/>
            <a:ext cx="815328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he names of all instructors in the Physics department, along with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urse_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all courses they have ta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30080" y="1841400"/>
            <a:ext cx="86616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93800" indent="-336600">
              <a:lnSpc>
                <a:spcPct val="120000"/>
              </a:lnSpc>
              <a:spcBef>
                <a:spcPts val="876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ry 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nstructor.ID,course_i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dept_name=“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hysics”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nstructor.ID=teaches.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each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57160" y="3427560"/>
            <a:ext cx="86616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93800" indent="-336600">
              <a:lnSpc>
                <a:spcPct val="120000"/>
              </a:lnSpc>
              <a:spcBef>
                <a:spcPts val="876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ry 2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nstructor.ID,course_i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nstructor.ID=teaches.I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dept_name=“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hysics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each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ormal Defini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98480" y="107748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1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basic expression in the relational algebra consists of either one of the follow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1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relation in the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1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onstant re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be relational-algebra expressions; the following are all relational-algebra express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10000"/>
              </a:lnSpc>
              <a:spcBef>
                <a:spcPts val="1049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10000"/>
              </a:lnSpc>
              <a:spcBef>
                <a:spcPts val="1049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10000"/>
              </a:lnSpc>
              <a:spcBef>
                <a:spcPts val="1049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10000"/>
              </a:lnSpc>
              <a:spcBef>
                <a:spcPts val="1049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predicate on attributes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10000"/>
              </a:lnSpc>
              <a:spcBef>
                <a:spcPts val="1049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list consisting of some of the attributes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10000"/>
              </a:lnSpc>
              <a:spcBef>
                <a:spcPts val="1049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x is the new name for the result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dditional Operatio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98480" y="1077480"/>
            <a:ext cx="7848720" cy="30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define additional operations that do not add any power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al algebra, but that simplify common quer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inter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al jo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g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er jo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47640" y="4248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hapter 6:  Formal  Relational Query Languages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71560" y="11653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al Alge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ple Relational Calc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ain Relational Calc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et-Intersection Opera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98480" y="107748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ation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d 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{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ve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ame ar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ributes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e compat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4040" y="2340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et-Intersection Operation – Exampl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98480" y="150984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, 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874960" y="1550880"/>
            <a:ext cx="2657520" cy="34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808920" y="1103400"/>
            <a:ext cx="212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ation:  r     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Natural-Join Opera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98480" y="1495440"/>
            <a:ext cx="821520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 relations on schem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spectively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,  r     s  is a relation on schem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btained as follow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each pair of tupl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ve the same value on each of the attributes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dd a tup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to the result, 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s the same value 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s the same value 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, B, C, 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, B, 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 schema =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, B, C, D, 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defined as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r.A, r.B, r.C, r.D, s.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r.B = s.B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 r.D = s.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 rot="16200000">
            <a:off x="2514240" y="1218600"/>
            <a:ext cx="152280" cy="15228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 rot="16200000">
            <a:off x="1787400" y="5650560"/>
            <a:ext cx="152280" cy="15264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 rot="16200000">
            <a:off x="2095200" y="1893240"/>
            <a:ext cx="152280" cy="15228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Natural Join Exampl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98480" y="1077480"/>
            <a:ext cx="684360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s r, 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819000" y="3654360"/>
            <a:ext cx="7029360" cy="996120"/>
            <a:chOff x="819000" y="3654360"/>
            <a:chExt cx="7029360" cy="996120"/>
          </a:xfrm>
        </p:grpSpPr>
        <p:sp>
          <p:nvSpPr>
            <p:cNvPr id="158" name=""/>
            <p:cNvSpPr/>
            <p:nvPr/>
          </p:nvSpPr>
          <p:spPr>
            <a:xfrm>
              <a:off x="819000" y="3654360"/>
              <a:ext cx="7029360" cy="99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88"/>
                </a:spcBef>
                <a:buClr>
                  <a:srgbClr val="cc3300"/>
                </a:buClr>
                <a:buSzPct val="90000"/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     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 rot="16200000">
              <a:off x="998640" y="4134240"/>
              <a:ext cx="370080" cy="152280"/>
            </a:xfrm>
            <a:prstGeom prst="flowChartCollat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913120" y="1170000"/>
            <a:ext cx="4276800" cy="46418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 flipV="1" rot="16200000">
            <a:off x="1428480" y="3761640"/>
            <a:ext cx="152280" cy="15228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Natural Join and Theta Joi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61680" y="1093680"/>
            <a:ext cx="817884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he names of all instructors in the Comp. Sci. department together with the course titles of all the courses that the instructors t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name, tit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dept_nam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=“Comp. Sci.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ruc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each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ur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al join is associ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ructor      teach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ur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is equivalent to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ruc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eaches     cour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al join is commut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ruct     teach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is equivalent to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eaches     i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heta jo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peration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    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is defined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     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 rot="16200000">
            <a:off x="3823560" y="2744640"/>
            <a:ext cx="152640" cy="15228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 rot="16200000">
            <a:off x="7619760" y="1966320"/>
            <a:ext cx="152280" cy="15228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 rot="16200000">
            <a:off x="6491160" y="1950120"/>
            <a:ext cx="152280" cy="15264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 rot="16200000">
            <a:off x="2590560" y="2742480"/>
            <a:ext cx="152280" cy="15228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 rot="16200000">
            <a:off x="2576160" y="2971080"/>
            <a:ext cx="152280" cy="15228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 rot="16200000">
            <a:off x="3825720" y="3016800"/>
            <a:ext cx="152280" cy="15264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 rot="16200000">
            <a:off x="2330280" y="3734280"/>
            <a:ext cx="152280" cy="15264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 rot="16200000">
            <a:off x="2361960" y="4007880"/>
            <a:ext cx="152280" cy="15228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 rot="16200000">
            <a:off x="1766520" y="4861800"/>
            <a:ext cx="152280" cy="15228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 rot="16200000">
            <a:off x="3871800" y="4394880"/>
            <a:ext cx="152280" cy="15264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ssignment Opera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109160"/>
            <a:ext cx="720432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ssignment operation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provides a convenient way to express complex queri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query as a sequential program consisting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eries of assign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lowed by an expression whose value is displayed as a result of the que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gnment must always be made to a temporary relation vari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Outer Joi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98480" y="107748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extension of the join operation that avoids loss of in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s the join and then adds tuples form one relation that does not match tuples in the other relation to the result of the joi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u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al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ul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ifies that the value is unknown or does not exi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comparisons involving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u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e (roughly speaking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 defini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shall study precise meaning of comparisons with nulls l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Outer Join – Exampl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98120" y="1077840"/>
            <a:ext cx="68612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ructo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98480" y="3581280"/>
            <a:ext cx="70293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eache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2438280" y="4089240"/>
            <a:ext cx="3276720" cy="1219320"/>
            <a:chOff x="2438280" y="4089240"/>
            <a:chExt cx="3276720" cy="1219320"/>
          </a:xfrm>
        </p:grpSpPr>
        <p:sp>
          <p:nvSpPr>
            <p:cNvPr id="182" name=""/>
            <p:cNvSpPr/>
            <p:nvPr/>
          </p:nvSpPr>
          <p:spPr>
            <a:xfrm>
              <a:off x="2438280" y="4089240"/>
              <a:ext cx="1676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114800" y="4089240"/>
              <a:ext cx="1600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course_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438280" y="4470480"/>
              <a:ext cx="167652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1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12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676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114800" y="4470480"/>
              <a:ext cx="16002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S-1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N-2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IO-1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2044800" y="1951200"/>
            <a:ext cx="4292640" cy="1223640"/>
            <a:chOff x="2044800" y="1951200"/>
            <a:chExt cx="4292640" cy="1223640"/>
          </a:xfrm>
        </p:grpSpPr>
        <p:sp>
          <p:nvSpPr>
            <p:cNvPr id="187" name=""/>
            <p:cNvSpPr/>
            <p:nvPr/>
          </p:nvSpPr>
          <p:spPr>
            <a:xfrm>
              <a:off x="5194440" y="2336760"/>
              <a:ext cx="11430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mp. Sci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na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usi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044800" y="1955880"/>
              <a:ext cx="15714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189400" y="1955880"/>
              <a:ext cx="112248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dep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044800" y="2336760"/>
              <a:ext cx="1571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1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12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515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621240" y="1951200"/>
              <a:ext cx="1573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621240" y="2332080"/>
              <a:ext cx="15732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rinivas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oza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885960" y="3408480"/>
            <a:ext cx="423540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 Outer Jo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ructor          tea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20840" y="3868560"/>
            <a:ext cx="414360" cy="209520"/>
            <a:chOff x="2220840" y="3868560"/>
            <a:chExt cx="414360" cy="209520"/>
          </a:xfrm>
        </p:grpSpPr>
        <p:sp>
          <p:nvSpPr>
            <p:cNvPr id="195" name=""/>
            <p:cNvSpPr/>
            <p:nvPr/>
          </p:nvSpPr>
          <p:spPr>
            <a:xfrm flipV="1" rot="16200000">
              <a:off x="2425680" y="3868560"/>
              <a:ext cx="209520" cy="209520"/>
            </a:xfrm>
            <a:prstGeom prst="flowChartCollat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2225160" y="3871800"/>
              <a:ext cx="20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2220840" y="4067280"/>
              <a:ext cx="20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Outer Join – Exampl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98120" y="1077840"/>
            <a:ext cx="6991560" cy="8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in </a:t>
            </a:r>
            <a:br>
              <a:rPr sz="1800"/>
            </a:br>
            <a:br>
              <a:rPr sz="16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ructor      tea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 rot="16200000">
            <a:off x="2309400" y="1640880"/>
            <a:ext cx="152280" cy="15228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508040" y="2149560"/>
            <a:ext cx="1204920" cy="3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327560" y="2149560"/>
            <a:ext cx="1325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t_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08040" y="2530440"/>
            <a:ext cx="12337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1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327560" y="2530440"/>
            <a:ext cx="13572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. Sc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621400" y="2149560"/>
            <a:ext cx="1463760" cy="3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urse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635800" y="2530440"/>
            <a:ext cx="14619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-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-2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727360" y="2149560"/>
            <a:ext cx="1600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727360" y="2530440"/>
            <a:ext cx="16002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inivas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33600" y="4302000"/>
            <a:ext cx="1204920" cy="3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352760" y="4302000"/>
            <a:ext cx="1325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t_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33600" y="4683240"/>
            <a:ext cx="1233360" cy="85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1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15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352760" y="4683240"/>
            <a:ext cx="1357560" cy="84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. Sc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646600" y="4302000"/>
            <a:ext cx="1463760" cy="3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urse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710320" y="4683240"/>
            <a:ext cx="1412640" cy="84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-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-2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752560" y="4302000"/>
            <a:ext cx="1600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752560" y="4668840"/>
            <a:ext cx="1600200" cy="87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inivas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z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Outer Join – Exampl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06400" y="3405240"/>
            <a:ext cx="407052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 Outer Jo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ructor         tea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2139480" y="3898800"/>
            <a:ext cx="387720" cy="152640"/>
            <a:chOff x="2139480" y="3898800"/>
            <a:chExt cx="387720" cy="152640"/>
          </a:xfrm>
        </p:grpSpPr>
        <p:sp>
          <p:nvSpPr>
            <p:cNvPr id="220" name=""/>
            <p:cNvSpPr/>
            <p:nvPr/>
          </p:nvSpPr>
          <p:spPr>
            <a:xfrm flipV="1" rot="16200000">
              <a:off x="2253600" y="3898800"/>
              <a:ext cx="152640" cy="152280"/>
            </a:xfrm>
            <a:prstGeom prst="flowChartCollat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2144880" y="3908520"/>
              <a:ext cx="10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2139480" y="4046400"/>
              <a:ext cx="10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2425680" y="4046400"/>
              <a:ext cx="10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2406240" y="3898800"/>
              <a:ext cx="10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849240" y="1103400"/>
            <a:ext cx="407052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Outer Jo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ructor        tea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2242800" y="1565280"/>
            <a:ext cx="264960" cy="157320"/>
            <a:chOff x="2242800" y="1565280"/>
            <a:chExt cx="264960" cy="157320"/>
          </a:xfrm>
        </p:grpSpPr>
        <p:sp>
          <p:nvSpPr>
            <p:cNvPr id="227" name=""/>
            <p:cNvSpPr/>
            <p:nvPr/>
          </p:nvSpPr>
          <p:spPr>
            <a:xfrm flipV="1" rot="16200000">
              <a:off x="2242440" y="1566720"/>
              <a:ext cx="152640" cy="152280"/>
            </a:xfrm>
            <a:prstGeom prst="flowChartCollat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2406240" y="1565280"/>
              <a:ext cx="10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2406240" y="1722600"/>
              <a:ext cx="10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685880" y="2028960"/>
            <a:ext cx="120492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05400" y="2028960"/>
            <a:ext cx="13381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t_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85880" y="2398680"/>
            <a:ext cx="1233360" cy="86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1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676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05400" y="2397240"/>
            <a:ext cx="1357200" cy="86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. Sc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838840" y="2028960"/>
            <a:ext cx="142380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urse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862600" y="2397240"/>
            <a:ext cx="1413000" cy="86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-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-2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O-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905200" y="2028960"/>
            <a:ext cx="1600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905200" y="2395440"/>
            <a:ext cx="1600200" cy="87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inivas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838160" y="4365720"/>
            <a:ext cx="120492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657680" y="4365720"/>
            <a:ext cx="13384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t_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38160" y="4735440"/>
            <a:ext cx="1233720" cy="11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1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15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676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657680" y="4734000"/>
            <a:ext cx="1357200" cy="11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. Sc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991120" y="4365720"/>
            <a:ext cx="142416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urse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014880" y="4734000"/>
            <a:ext cx="1413000" cy="110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-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-2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O-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057480" y="4365720"/>
            <a:ext cx="1600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57480" y="4732200"/>
            <a:ext cx="1600200" cy="11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inivas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z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Relational Algebra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98480" y="1077480"/>
            <a:ext cx="76154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dural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 basic oper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: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on: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difference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tesian product: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ame: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perators take one or  two relations as inputs and produce a new relation as a resu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Outer Join using Joi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er join can be expressed using basic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r      s can be written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      s)  U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∏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      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 x {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ull, …, nu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2176200" y="1568520"/>
            <a:ext cx="307800" cy="193680"/>
            <a:chOff x="2176200" y="1568520"/>
            <a:chExt cx="307800" cy="193680"/>
          </a:xfrm>
        </p:grpSpPr>
        <p:sp>
          <p:nvSpPr>
            <p:cNvPr id="249" name=""/>
            <p:cNvSpPr/>
            <p:nvPr/>
          </p:nvSpPr>
          <p:spPr>
            <a:xfrm flipV="1" rot="16200000">
              <a:off x="2309400" y="1587600"/>
              <a:ext cx="193680" cy="155520"/>
            </a:xfrm>
            <a:prstGeom prst="flowChartCollat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2179440" y="1571400"/>
              <a:ext cx="150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2176200" y="1752120"/>
              <a:ext cx="150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 flipV="1" rot="16200000">
            <a:off x="2064600" y="1962000"/>
            <a:ext cx="152640" cy="15228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 rot="16200000">
            <a:off x="4016160" y="1977480"/>
            <a:ext cx="152280" cy="15228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Null Valu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7720" y="1063800"/>
            <a:ext cx="7620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possible for tuples to have a null value, denoted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u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for some of their 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u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ignifies an unknown value or that a value does not exi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sult of any arithmetic expression involving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u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u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gregate functions simply ignore null values (as in SQ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duplicate elimination and grouping, null is treated like any other value, and two nulls are assumed to be  the same (as in SQ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Null Valu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18640" y="1104480"/>
            <a:ext cx="779148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ons with null values return the special truth value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nkn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as used instead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nkn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n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ot (A &lt; 5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would not be equivalent to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 &gt;=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-valued logic using the truth valu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nkn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: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nkn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       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nkn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      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nknow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nknow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unkn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= unkn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: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nkn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= unknown,  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nkn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= false,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nknow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unkn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= unkn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unkn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= unkn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SQL 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unkn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es to true if predicat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valuates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nkn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 of sele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edicate is treated 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als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it evaluates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nkn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ivision Operator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109520"/>
            <a:ext cx="7858080" cy="51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relations r(R) and s(S), such that S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, 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 is the largest relation t(R-S) such that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t x s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let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D, course_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D, course_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ak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an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s(course_id)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course_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ept_name=“Biology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urs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 gives us students who have taken all courses in the Biology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 writ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3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emp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R-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emp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R-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emp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–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R-S,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sul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emp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tem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82600">
              <a:lnSpc>
                <a:spcPct val="13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sult to the right of th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ssigned to the relation variable on the left of th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82600">
              <a:lnSpc>
                <a:spcPct val="13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use variable in subsequent express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30088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tended Relational-Algebra-Operatio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98120" y="1077480"/>
            <a:ext cx="7661160" cy="17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ized Proj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gregate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Generalized Projec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98480" y="1077480"/>
            <a:ext cx="7848720" cy="55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3195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s the projection operation by allowing arithmetic functions to be used in the projection list.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3195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ny relational-algebra ex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3195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19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are arithmetic expressions involving constants and attributes in the schema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3195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rela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ructor(ID, name, dept_name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ary) where salary is annual salary, get the same information but with monthly sala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ctr" pos="3195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0" i="1" lang="en-US" sz="2300" spc="-1" strike="noStrike" baseline="-25000">
                <a:solidFill>
                  <a:srgbClr val="000000"/>
                </a:solidFill>
                <a:latin typeface="Arial"/>
              </a:rPr>
              <a:t>ID, name, dept_name, salary/1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(instruct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3517920" y="2179800"/>
                <a:ext cx="95076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∏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,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e>
                    </m:nary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,</m:t>
                        </m:r>
                      </m:e>
                      <m: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</m:sSub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06040" y="174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ggregate Functions and Operatio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798480" y="1077480"/>
            <a:ext cx="7848720" cy="52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119320"/>
                <a:tab algn="ctr" pos="268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Aggregation fun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akes a collection of values and returns a single value as a resu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88"/>
              </a:spcBef>
              <a:buNone/>
              <a:tabLst>
                <a:tab algn="l" pos="0"/>
                <a:tab algn="l" pos="2119320"/>
                <a:tab algn="ctr" pos="268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average valu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minimum valu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maximum valu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sum of valu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number of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119320"/>
                <a:tab algn="ctr" pos="268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Aggregate oper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relational algeb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88"/>
              </a:spcBef>
              <a:buNone/>
              <a:tabLst>
                <a:tab algn="l" pos="0"/>
                <a:tab algn="l" pos="2119320"/>
                <a:tab algn="ctr" pos="268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88"/>
              </a:spcBef>
              <a:buNone/>
              <a:tabLst>
                <a:tab algn="l" pos="0"/>
                <a:tab algn="l" pos="2119320"/>
                <a:tab algn="ctr" pos="268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ny relational-algebra ex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2119320"/>
                <a:tab algn="ctr" pos="268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…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list of attributes on which to group (can be emp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2119320"/>
                <a:tab algn="ctr" pos="268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an aggregate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2119320"/>
                <a:tab algn="ctr" pos="268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an attribute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119320"/>
                <a:tab algn="ctr" pos="268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Some books/articles us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stead of      (Calligraphic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1889280" y="3438360"/>
                <a:ext cx="370332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/>
                      <m:sub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  <m: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68" name="" descr=""/>
          <p:cNvPicPr/>
          <p:nvPr/>
        </p:nvPicPr>
        <p:blipFill>
          <a:blip r:embed="rId1"/>
          <a:srcRect l="0" t="0" r="88994" b="0"/>
          <a:stretch/>
        </p:blipFill>
        <p:spPr>
          <a:xfrm>
            <a:off x="2930400" y="3514680"/>
            <a:ext cx="336600" cy="42552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rcRect l="0" t="0" r="88994" b="0"/>
          <a:stretch/>
        </p:blipFill>
        <p:spPr>
          <a:xfrm>
            <a:off x="5649840" y="5724360"/>
            <a:ext cx="336600" cy="4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ggregate Operation – Exampl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98480" y="1077840"/>
            <a:ext cx="17654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886200" y="1447920"/>
            <a:ext cx="4572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343400" y="1447920"/>
            <a:ext cx="4572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86200" y="2057400"/>
            <a:ext cx="4572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343400" y="2057400"/>
            <a:ext cx="4572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800600" y="1447920"/>
            <a:ext cx="4572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800600" y="2057400"/>
            <a:ext cx="4572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98480" y="4343400"/>
            <a:ext cx="2013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sum(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962520" y="4343400"/>
            <a:ext cx="914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962520" y="4876920"/>
            <a:ext cx="914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88994" b="0"/>
          <a:stretch/>
        </p:blipFill>
        <p:spPr>
          <a:xfrm>
            <a:off x="1165320" y="4383000"/>
            <a:ext cx="336600" cy="4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ggregate Operation – Exampl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2600" y="1118880"/>
            <a:ext cx="6862680" cy="16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he average salary in each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dept_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av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salar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ruc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066680" y="3835440"/>
            <a:ext cx="70297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652320" y="2571840"/>
            <a:ext cx="4056120" cy="364788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5629320" y="3122640"/>
            <a:ext cx="2411280" cy="267012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7129440" y="3228840"/>
            <a:ext cx="882720" cy="2134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vg_sal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3"/>
          <a:srcRect l="829" t="0" r="90241" b="0"/>
          <a:stretch/>
        </p:blipFill>
        <p:spPr>
          <a:xfrm>
            <a:off x="2455920" y="1589040"/>
            <a:ext cx="272880" cy="4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ggregate Function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98480" y="107748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 of aggregation does not have a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use rename operation to give it a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convenience, we permit renaming as part of aggregate oper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8680" y="2717640"/>
            <a:ext cx="66546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dept_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av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(salary) 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a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 avg_s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rcRect l="829" t="0" r="90241" b="0"/>
          <a:stretch/>
        </p:blipFill>
        <p:spPr>
          <a:xfrm>
            <a:off x="2913120" y="2795760"/>
            <a:ext cx="272880" cy="42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elect Operation – Exampl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98480" y="1077840"/>
            <a:ext cx="163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498840" y="1449360"/>
            <a:ext cx="1887480" cy="3876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040400" y="3721680"/>
            <a:ext cx="1900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30040" indent="-230040" algn="ctr">
              <a:lnSpc>
                <a:spcPct val="100000"/>
              </a:lnSpc>
              <a:spcBef>
                <a:spcPts val="1500"/>
              </a:spcBef>
              <a:buClr>
                <a:srgbClr val="cc33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=B ^ D &gt; 5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odification of the Databas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798480" y="1077480"/>
            <a:ext cx="71661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ntent of the database may be modified using the following opera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e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these operations can be expressed using the assignment op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ultiset Relational Algebra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re relational algebra removes all duplic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after proj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set relational algebra retains duplicates, to match SQL seman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 duplicate retention was initially for efficiency, but is now a 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set relational algebra defined as foll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ion: has as many duplicates of a tuple as in  the input, if the tuple satisfies the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ion: one tuple per input tuple, even if it is a duplic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oss product:  If there are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pies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pies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re a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pies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1.t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operators similarly defin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union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 copies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rsection: min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, 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copi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difference: min(0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QL and Relational Algebra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1, A2, .. A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1, r2, …, r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equivalent to the following expression in multiset relational alge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A1, .., 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r2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.. x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1, A2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A3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1, r2, …, r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P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oup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1, A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equivalent to the following expression in multiset relational alge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1, A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u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A3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r2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.. x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rcRect l="829" t="0" r="90241" b="0"/>
          <a:stretch/>
        </p:blipFill>
        <p:spPr>
          <a:xfrm>
            <a:off x="2806560" y="4557600"/>
            <a:ext cx="273240" cy="4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QL and Relational Algebra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generally, the non-aggregated attributes in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lause may be a subset of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oup b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ttributes, in which case the equivalence is as follows: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1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A3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1, r2, …, r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P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oup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1, A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equivalent to the following expression in multiset relational alge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A1,sumA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1,A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u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A3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a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sumA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r2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.. x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rcRect l="829" t="0" r="90241" b="0"/>
          <a:stretch/>
        </p:blipFill>
        <p:spPr>
          <a:xfrm>
            <a:off x="3332160" y="3867120"/>
            <a:ext cx="272880" cy="4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67880" y="24411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ple Relational Calculu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ple Relational Calculu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71560" y="1165320"/>
            <a:ext cx="8137440" cy="31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3195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onprocedural query language, where each query is of the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ctr" pos="3195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3195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the set of all tupl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uch that predicat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rue f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3195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uple vari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 denotes the value of tup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 attribut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3195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notes that tup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in rela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3195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ormul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to that of the predicate calc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Predicate Calculus Formula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71560" y="11653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of attributes and cons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of comparison operators:  (e.g.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of connectives:  and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or (v)‚ not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ication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: x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y, if x if true, then y is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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of quantifi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there exists” a tuple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rela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such that predicat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is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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rue “for all” tupl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rela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 Queri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6240" y="1165320"/>
            <a:ext cx="759312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3195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D, name, dept_name, salary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instructors whose salary is greater than $8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71560" y="2755800"/>
            <a:ext cx="7412040" cy="33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in the previous query, but output only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ttribute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s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or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alar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80000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 that a relation on schema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is implicitly defined by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736360" y="2030400"/>
            <a:ext cx="432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alar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80000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 Queri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1164960"/>
            <a:ext cx="784872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he names of all instructors whose department is in the Watson bui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414440" y="4160880"/>
            <a:ext cx="713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c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urse_i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urse_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]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m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 = “Fall”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year]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= 200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v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c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urse_i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urse_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]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m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 = “Spring”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year]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= 2010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68320" y="3238560"/>
            <a:ext cx="810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he set of all courses taught in the Fall 2009 semester, or i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the Spring 2010 semester, or bo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554120" y="2090880"/>
            <a:ext cx="666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ructo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am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am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artm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t_nam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t_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 “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uild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 = “Watson” )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 Queri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351080" y="2017800"/>
            <a:ext cx="713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c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urse_i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urse_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]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m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 = “Fall”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year]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= 200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c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urse_i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urse_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]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m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 = “Spring”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year]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= 2010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04960" y="1095480"/>
            <a:ext cx="810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he set of all courses taught in the Fall 2009 semester, and i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the Spring 2010 seme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328760" y="4614840"/>
            <a:ext cx="713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c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urse_i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urse_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]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m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 = “Fall”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year]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= 200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c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urse_i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urse_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]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m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 = “Spring”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year]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= 2010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82640" y="3692520"/>
            <a:ext cx="810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he set of all courses taught in the Fall 2009 semester, but not i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the Spring 2010 seme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elect Opera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98120" y="1077840"/>
            <a:ext cx="686124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658880"/>
                <a:tab algn="ctr" pos="3149640"/>
                <a:tab algn="l" pos="3425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ation:  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658880"/>
                <a:tab algn="ctr" pos="3149640"/>
                <a:tab algn="l" pos="3425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called the 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selection predic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658880"/>
                <a:tab algn="ctr" pos="3149640"/>
                <a:tab algn="l" pos="3425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d as: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= {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(t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658880"/>
                <a:tab algn="ctr" pos="3149640"/>
                <a:tab algn="l" pos="3425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 formula in propositional calculus consisting of 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terms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nected by :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ter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one of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1658880"/>
                <a:tab algn="ctr" pos="3149640"/>
                <a:tab algn="l" pos="3425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attribute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o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attribute&gt; or &lt;consta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658880"/>
                <a:tab algn="ctr" pos="3149640"/>
                <a:tab algn="l" pos="3425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o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one of:  =,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&gt;,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&lt;.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658880"/>
                <a:tab algn="ctr" pos="3149640"/>
                <a:tab algn="l" pos="3425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 of selection: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dept_name=“Physics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afety of Expressio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71560" y="11653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possible to write tuple calculus expressions that generate infinite rel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xample, { t |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results in an infinite relation if the domain of any attribute of rela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infin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guard against the problem, we restrict the set of allowable expressions to safe express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expression {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}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tuple relational calculus i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a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f every component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ppears in one of the relations, tuples, or constants that appear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this is more than just a syntax condi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{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 = 5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} is not safe --- it defines an infinite set with attribute values that do not appear in any relation or tuples or constants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Universal Quantifica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all students who have taken all courses offered in the Biology depar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ude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ur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_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=“Biology”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ak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]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urse_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urse_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))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 that without the existential quantification on student, the above query would be unsafe if the Biology department has not offered any cours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67880" y="24411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omain Relational Calculu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omain Relational Calculu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71560" y="11653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onprocedural query language equivalent in power to the tuple relational calc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query is an expression of the for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…, x</a:t>
            </a:r>
            <a:r>
              <a:rPr b="0" i="1" lang="en-US" sz="19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…, x</a:t>
            </a:r>
            <a:r>
              <a:rPr b="0" i="1" lang="en-US" sz="19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}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…, x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present domain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presents a formula similar to that of the predicate calc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 Queri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76240" y="1164960"/>
            <a:ext cx="770112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3195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D, name, dept_name, salary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instructors whose salary is greater than $8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ctr" pos="3195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&lt; i, n, d, s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&lt; i, n, d, s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ruc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80000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3195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in the previous query, but output only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ttribute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ctr" pos="3195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&lt; i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|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&lt; i, n, d, s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ruc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80000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3195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he names of all instructors whose department is in the Watson bui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ctr" pos="3195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&lt; n 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, d, s (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, n, d, 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gt;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ructo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, a (&lt;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d, b, a&gt;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artment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“Watson” ))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ctr" pos="3195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ctr" pos="3195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ctr" pos="3195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ctr" pos="3195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871560" y="2755800"/>
            <a:ext cx="7412040" cy="15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 Queri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247760" y="1784520"/>
            <a:ext cx="713412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&lt;c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a, s, y, b, r, t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&lt;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, a, s, y, b, 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gt;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ction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“Fall”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= 200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v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, s, y, b, r, 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, a, s, y, b, 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gt;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“Spring”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0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68320" y="1079640"/>
            <a:ext cx="810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he set of all courses taught in the Fall 2009 semester, or i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the Spring 2010 semester, or bo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554120" y="2090880"/>
            <a:ext cx="6662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338120" y="3056040"/>
            <a:ext cx="713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ase can also be written a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&lt;c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a, s, y, b, r, t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&lt;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, a, s, y, b, 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gt;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ction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(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“Fall”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= 200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)  v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“Spring”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0)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58880" y="4044960"/>
            <a:ext cx="810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he set of all courses taught in the Fall 2009 semester, and i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the Spring 2010 seme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244520" y="4883040"/>
            <a:ext cx="713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&lt;c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a, s, y, b, r, t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&lt;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, a, s, y, b, 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gt;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ction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“Fall”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= 200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, s, y, b, r, 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&lt;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, a, s, y, b, 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gt;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]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“Spring”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0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afety of Expressio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71560" y="11653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635040"/>
                <a:tab algn="ctr" pos="3195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xpress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635040"/>
                <a:tab algn="ctr" pos="3195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…, x</a:t>
            </a:r>
            <a:r>
              <a:rPr b="0" i="1" lang="en-US" sz="19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…, x</a:t>
            </a:r>
            <a:r>
              <a:rPr b="0" i="1" lang="en-US" sz="19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}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635040"/>
                <a:tab algn="ctr" pos="3195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safe if all of the following hol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Helvetica"/>
              <a:buAutoNum type="arabicPeriod"/>
              <a:tabLst>
                <a:tab algn="l" pos="635040"/>
                <a:tab algn="ctr" pos="3195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values that appear in tuples of the expression are valu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1800" spc="-1" strike="noStrike">
                <a:solidFill>
                  <a:srgbClr val="cc3300"/>
                </a:solidFill>
                <a:latin typeface="Arial"/>
              </a:rPr>
              <a:t>do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that is, the values appear either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in a tuple of 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 mentioned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Helvetica"/>
              <a:buAutoNum type="arabicPeriod"/>
              <a:tabLst>
                <a:tab algn="l" pos="635040"/>
                <a:tab algn="ctr" pos="3195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very “there exists” subformula of the form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), th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formula is true if and only if there is a value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ch th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is tr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Helvetica"/>
              <a:buAutoNum type="arabicPeriod"/>
              <a:tabLst>
                <a:tab algn="l" pos="635040"/>
                <a:tab algn="ctr" pos="3195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very “for all” subformula of the form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), the subformula is true if and only 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is true for all valu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Universal Quantifica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79520" y="1231920"/>
            <a:ext cx="80280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all students who have taken all courses offered in the Biology depar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&lt;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|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, d, t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 &lt;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, n, d, t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udent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i, ti, dn, c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&lt;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i, ti, dn, c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ur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“Biology”              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si, se, y, 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&lt;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, ci, si, se, y, 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ak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 that without the existential quantification on student, the above query would be unsafe if the Biology department has not offered any cours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868840" y="5537160"/>
            <a:ext cx="496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Above query fixes bug in page 246, last 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nd of Chapter 6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6.01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2639880" y="1971720"/>
            <a:ext cx="386424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Project Operation – Exampl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78000" y="1077840"/>
            <a:ext cx="244152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90720" y="4114800"/>
            <a:ext cx="70293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3962520"/>
            <a:ext cx="702936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4114800"/>
            <a:ext cx="70293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7880" y="4140360"/>
            <a:ext cx="702972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4640" y="3659040"/>
            <a:ext cx="2057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443320" y="1189080"/>
            <a:ext cx="2708280" cy="44305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723960" y="3597120"/>
            <a:ext cx="146844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,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6.02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3294000" y="3065400"/>
            <a:ext cx="2556000" cy="7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6.03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3597120" y="2189160"/>
            <a:ext cx="1947960" cy="24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6.04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1482840" y="1668600"/>
            <a:ext cx="6176880" cy="35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6.05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4151160" y="2550960"/>
            <a:ext cx="841680" cy="17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6.06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151160" y="3090960"/>
            <a:ext cx="841680" cy="6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6.07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2625840" y="1625760"/>
            <a:ext cx="3890880" cy="36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6.08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2295360" y="804960"/>
            <a:ext cx="518004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6.09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414440" y="1457280"/>
            <a:ext cx="6313680" cy="39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6.10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3782880" y="3179880"/>
            <a:ext cx="1578240" cy="49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6.11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4257720" y="2368440"/>
            <a:ext cx="627120" cy="21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Project Opera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98480" y="107748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3257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atio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88"/>
              </a:spcBef>
              <a:buNone/>
              <a:tabLst>
                <a:tab algn="l" pos="0"/>
                <a:tab algn="ctr" pos="3257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e attribute names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relation na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3257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sult is defined as the relation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lumns obtained by erasing the columns that are not li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3257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plicate rows removed from result, since relations are 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3257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To eliminate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t_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ttribute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ructor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D, name, sala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440160" y="1224000"/>
                <a:ext cx="19144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∏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</m:e>
                    </m:nary>
                    <m:r>
                      <m:t xml:space="preserve">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6.12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4265640" y="3186000"/>
            <a:ext cx="612720" cy="4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6.13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4208400" y="3186000"/>
            <a:ext cx="727200" cy="4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6.14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628640" y="1596960"/>
            <a:ext cx="5884920" cy="36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6.15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3782880" y="1992240"/>
            <a:ext cx="157824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6.16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3147840" y="2633760"/>
            <a:ext cx="2848320" cy="15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6.17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1711440" y="1311120"/>
            <a:ext cx="5719680" cy="42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6.18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1636560" y="1319040"/>
            <a:ext cx="5870880" cy="42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6.19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3179880" y="2182680"/>
            <a:ext cx="2784240" cy="24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6.20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3846600" y="2625840"/>
            <a:ext cx="144936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6.21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4208400" y="3008160"/>
            <a:ext cx="727200" cy="8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Union Operation – Example 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98120" y="1077480"/>
            <a:ext cx="6861240" cy="3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, 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98480" y="3238560"/>
            <a:ext cx="7029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986200" y="1138320"/>
            <a:ext cx="2357280" cy="42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ele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98120" y="1077480"/>
            <a:ext cx="708012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313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elete request is expressed similarly to a query, except instead of displaying tuples to the user, the selected tuples are removed from the datab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313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delete only whole tuples; cannot delete values on only particular 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313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eletion is expressed in relational algebra b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ctr" pos="313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ctr" pos="313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relation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relational algebra que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eletion Exampl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798120" y="1077480"/>
            <a:ext cx="7255080" cy="5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09368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ete all account records in the Perryridge bran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826920" y="3467160"/>
            <a:ext cx="808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ete all accounts at branches located in Needha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225440" y="3859200"/>
            <a:ext cx="6031080" cy="2366280"/>
            <a:chOff x="1225440" y="3859200"/>
            <a:chExt cx="6031080" cy="2366280"/>
          </a:xfrm>
        </p:grpSpPr>
        <p:sp>
          <p:nvSpPr>
            <p:cNvPr id="394" name=""/>
            <p:cNvSpPr/>
            <p:nvPr/>
          </p:nvSpPr>
          <p:spPr>
            <a:xfrm flipV="1" rot="16200000">
              <a:off x="5449680" y="4833360"/>
              <a:ext cx="152280" cy="152280"/>
            </a:xfrm>
            <a:prstGeom prst="flowChartCollate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 rot="16200000">
              <a:off x="5382720" y="4046400"/>
              <a:ext cx="152640" cy="152280"/>
            </a:xfrm>
            <a:prstGeom prst="flowChartCollate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25440" y="3859200"/>
              <a:ext cx="6031080" cy="23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branch_city = “Needham”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account      branch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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account_number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branch_name, balanc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3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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customer_name, account_number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depositor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account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account –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depositor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depositor –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833400" y="2247840"/>
            <a:ext cx="636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e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loan records with amount in the range of 0 to 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338120" y="2676600"/>
            <a:ext cx="5631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oa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o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amount 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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and amount 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 5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o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367640" y="1432080"/>
            <a:ext cx="671688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ccoun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ccou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branch_name = “Perryridge”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ccou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Inser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8080" y="11426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insert data into a relation, we eith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ctr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y a tuple to be inse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ctr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a query whose result is a set of tuples to be inse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relational algebra, an insertion is expressed b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ctr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ctr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relation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relational algebra expre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sertion of a single tuple is expressed by letting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be a constant relation containing one tup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Insertion Exampl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98120" y="1077480"/>
            <a:ext cx="76611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information in the database specifying that Smith has $1200 in account A-973 at the Perryridge bran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97040" y="3289320"/>
            <a:ext cx="743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as a gift for all loan customers in the Perryrid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branch, a $200 savings account.  Let the loan number serv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as the account number for the new savings accou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247040" y="1925640"/>
            <a:ext cx="6240240" cy="8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ccoun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accou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{(“A-973”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Perryridge”, 1200)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osito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deposi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{(“Smith”, “A-973”)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1495800" y="4376880"/>
            <a:ext cx="5580360" cy="1356480"/>
            <a:chOff x="1495800" y="4376880"/>
            <a:chExt cx="5580360" cy="1356480"/>
          </a:xfrm>
        </p:grpSpPr>
        <p:sp>
          <p:nvSpPr>
            <p:cNvPr id="407" name=""/>
            <p:cNvSpPr/>
            <p:nvPr/>
          </p:nvSpPr>
          <p:spPr>
            <a:xfrm flipV="1" rot="16200000">
              <a:off x="5493960" y="4526640"/>
              <a:ext cx="139320" cy="152280"/>
            </a:xfrm>
            <a:prstGeom prst="flowChartCollat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495800" y="4376880"/>
              <a:ext cx="5580360" cy="135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Arial"/>
                </a:rPr>
                <a:t>branch_name = “Perryridge”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borrower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oan)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account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account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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Arial"/>
                </a:rPr>
                <a:t>loan_number, </a:t>
              </a:r>
              <a:r>
                <a:rPr b="0" i="1" lang="en-US" sz="1600" spc="-1" strike="noStrike" baseline="-25000">
                  <a:solidFill>
                    <a:srgbClr val="000000"/>
                  </a:solidFill>
                  <a:latin typeface="Arial"/>
                </a:rPr>
                <a:t>branch_name,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Arial"/>
                </a:rPr>
                <a:t>200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epositor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depositor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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Arial"/>
                </a:rPr>
                <a:t>customer_name, loan_number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Updating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1426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echanism to change a value in a tuple without charging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alues in the tu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generalized projection operator to do this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ctr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eith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ctr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ttribute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if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ribute is not updated, o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ctr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attribute is to be updated F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n expression, involving only constants and the attributes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hich gives the new value for the attrib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2568600" y="2386080"/>
                <a:ext cx="212868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←</m:t>
                    </m:r>
                    <m:nary>
                      <m:naryPr>
                        <m:chr m:val="∏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</m:e>
                    </m:nary>
                    <m:r>
                      <m:t xml:space="preserve">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Update Exampl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37720" y="1177920"/>
            <a:ext cx="815364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interest payments by increasing all balances by 5 perc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57160" y="3022560"/>
            <a:ext cx="76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 all accounts with balances over $10,000 6 percent interest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and pay all others 5 perc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143000" y="3984480"/>
            <a:ext cx="7696080" cy="11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account_numbe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branch_nam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balance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* 1.06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BAL 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 1000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account_numbe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branch_nam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balance 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.0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BAL 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 1000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1066680" y="1676520"/>
            <a:ext cx="7570440" cy="928080"/>
            <a:chOff x="1066680" y="1676520"/>
            <a:chExt cx="7570440" cy="928080"/>
          </a:xfrm>
        </p:grpSpPr>
        <p:sp>
          <p:nvSpPr>
            <p:cNvPr id="417" name=""/>
            <p:cNvSpPr/>
            <p:nvPr/>
          </p:nvSpPr>
          <p:spPr>
            <a:xfrm>
              <a:off x="1549080" y="1676520"/>
              <a:ext cx="6948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account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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Arial"/>
                </a:rPr>
                <a:t>account_numbe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Arial"/>
                </a:rPr>
                <a:t>branch_name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Arial"/>
                </a:rPr>
                <a:t>balance 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* 1.05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account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066680" y="2238120"/>
              <a:ext cx="75704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587600" y="114120"/>
            <a:ext cx="6781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 Queri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98480" y="1077840"/>
            <a:ext cx="75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he names of all customers who have a loan and an account at ban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914400" y="1828800"/>
            <a:ext cx="75693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customer_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orrow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customer_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osi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798480" y="2895120"/>
            <a:ext cx="78487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he name of all customers who have a loan at the bank and the loan am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952560" y="3809880"/>
            <a:ext cx="756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customer_name, loan_number, amoun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borrower     loa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 rot="16200000">
            <a:off x="6492600" y="3945960"/>
            <a:ext cx="152280" cy="18396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609480" y="1676520"/>
            <a:ext cx="8077320" cy="14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92280" indent="-235080">
              <a:lnSpc>
                <a:spcPct val="10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ry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spcBef>
                <a:spcPts val="788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customer_nam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Arial"/>
              </a:rPr>
              <a:t>branch_name 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= “Downtow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”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osi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spcBef>
                <a:spcPts val="788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Arial"/>
              </a:rPr>
              <a:t>customer_nam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Arial"/>
              </a:rPr>
              <a:t>branch_name 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= “Uptow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”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osi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838080" y="3276720"/>
            <a:ext cx="7054920" cy="2216160"/>
            <a:chOff x="838080" y="3276720"/>
            <a:chExt cx="7054920" cy="2216160"/>
          </a:xfrm>
        </p:grpSpPr>
        <p:sp>
          <p:nvSpPr>
            <p:cNvPr id="427" name=""/>
            <p:cNvSpPr/>
            <p:nvPr/>
          </p:nvSpPr>
          <p:spPr>
            <a:xfrm flipV="1" rot="16200000">
              <a:off x="5719320" y="3862080"/>
              <a:ext cx="196560" cy="152280"/>
            </a:xfrm>
            <a:prstGeom prst="flowChartCollat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38080" y="3276720"/>
              <a:ext cx="7054920" cy="22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736560" indent="-279360">
                <a:lnSpc>
                  <a:spcPct val="120000"/>
                </a:lnSpc>
                <a:spcBef>
                  <a:spcPts val="788"/>
                </a:spcBef>
                <a:buClr>
                  <a:srgbClr val="cc6600"/>
                </a:buClr>
                <a:buSzPct val="80000"/>
                <a:buFont typeface="Monotype Sort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uery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36560" indent="-279360">
                <a:lnSpc>
                  <a:spcPct val="120000"/>
                </a:lnSpc>
                <a:spcBef>
                  <a:spcPts val="7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</a:t>
              </a:r>
              <a:r>
                <a:rPr b="0" i="1" lang="en-US" sz="2300" spc="-1" strike="noStrike" baseline="-25000">
                  <a:solidFill>
                    <a:srgbClr val="000000"/>
                  </a:solidFill>
                  <a:latin typeface="Arial"/>
                </a:rPr>
                <a:t>customer_name, branch_name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deposito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account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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r>
                <a:rPr b="0" i="1" lang="en-US" sz="2200" spc="-1" strike="noStrike" baseline="-25000">
                  <a:solidFill>
                    <a:srgbClr val="000000"/>
                  </a:solidFill>
                  <a:latin typeface="Arial"/>
                </a:rPr>
                <a:t>temp(branch_name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{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“Downtown”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“Uptown”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}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36560" indent="-279360">
                <a:lnSpc>
                  <a:spcPct val="120000"/>
                </a:lnSpc>
                <a:spcBef>
                  <a:spcPts val="7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ote that Query 2 uses a constant relation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335240" y="117360"/>
            <a:ext cx="7510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 Queri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798120" y="1077840"/>
            <a:ext cx="76611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all customers who have an account from at least the “Downtown” and the Uptown” branch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V="1" rot="16200000">
            <a:off x="6872760" y="2270160"/>
            <a:ext cx="152280" cy="18252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 rot="16200000">
            <a:off x="7026120" y="2802600"/>
            <a:ext cx="152280" cy="18432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/>
          </p:nvPr>
        </p:nvSpPr>
        <p:spPr>
          <a:xfrm>
            <a:off x="798480" y="1077480"/>
            <a:ext cx="78487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all customers who have an account at all branches located in Brooklyn c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Bank Example Queri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851040" y="1824120"/>
            <a:ext cx="7486560" cy="1092600"/>
            <a:chOff x="851040" y="1824120"/>
            <a:chExt cx="7486560" cy="1092600"/>
          </a:xfrm>
        </p:grpSpPr>
        <p:sp>
          <p:nvSpPr>
            <p:cNvPr id="436" name=""/>
            <p:cNvSpPr/>
            <p:nvPr/>
          </p:nvSpPr>
          <p:spPr>
            <a:xfrm rot="16200000">
              <a:off x="6139800" y="2068200"/>
              <a:ext cx="149400" cy="174240"/>
            </a:xfrm>
            <a:prstGeom prst="flowChartCollat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51040" y="1824120"/>
              <a:ext cx="7486560" cy="109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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customer_name, branch_nam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depositor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account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br>
                <a:rPr sz="20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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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branch_name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branch_cit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 = “Brooklyn”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branch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)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Union Opera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98480" y="107748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2965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ation: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2965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d a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88"/>
              </a:spcBef>
              <a:buNone/>
              <a:tabLst>
                <a:tab algn="l" pos="0"/>
                <a:tab algn="ctr" pos="2965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{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2965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be val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88"/>
              </a:spcBef>
              <a:buNone/>
              <a:tabLst>
                <a:tab algn="l" pos="0"/>
                <a:tab algn="ctr" pos="2965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ust have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ame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ar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same number of attribu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88"/>
              </a:spcBef>
              <a:buNone/>
              <a:tabLst>
                <a:tab algn="l" pos="0"/>
                <a:tab algn="ctr" pos="2965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The attribute domains must be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compati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example: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lum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als with the same type of values as does the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column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40000"/>
              </a:lnSpc>
              <a:spcBef>
                <a:spcPts val="1049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2965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to find all courses taught in the Fall 2009 semester, or in the Spring 2010 semester, or in bot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course_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semester=“Fall”  </a:t>
            </a:r>
            <a:r>
              <a:rPr b="0" i="1" lang="el-GR" sz="2800" spc="-1" strike="noStrike" baseline="-25000">
                <a:solidFill>
                  <a:srgbClr val="000000"/>
                </a:solidFill>
                <a:latin typeface="Arial"/>
              </a:rPr>
              <a:t>Λ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 year=2009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)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course_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semester=“Spring”  </a:t>
            </a:r>
            <a:r>
              <a:rPr b="0" i="1" lang="el-GR" sz="2800" spc="-1" strike="noStrike" baseline="-25000">
                <a:solidFill>
                  <a:srgbClr val="000000"/>
                </a:solidFill>
                <a:latin typeface="Arial"/>
              </a:rPr>
              <a:t>Λ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 year=201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spcBef>
                <a:spcPts val="788"/>
              </a:spcBef>
              <a:buNone/>
              <a:tabLst>
                <a:tab algn="ctr" pos="2965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spcBef>
                <a:spcPts val="788"/>
              </a:spcBef>
              <a:buNone/>
              <a:tabLst>
                <a:tab algn="l" pos="0"/>
                <a:tab algn="ctr" pos="2965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6T14:50:30Z</dcterms:created>
  <dc:creator>Marilyn Turnamian</dc:creator>
  <dc:description/>
  <dc:language>en-US</dc:language>
  <cp:lastModifiedBy> Avi Silberschatz</cp:lastModifiedBy>
  <cp:lastPrinted>1999-06-28T19:27:31Z</cp:lastPrinted>
  <dcterms:modified xsi:type="dcterms:W3CDTF">2011-02-03T20:55:56Z</dcterms:modified>
  <cp:revision>351</cp:revision>
  <dc:subject/>
  <dc:title>Chapter 5:  Other Relational Languages</dc:title>
</cp:coreProperties>
</file>