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ECF9-0465-459D-A07E-F695FBEAC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C8BC-DDDA-4043-82F1-CEB4B963B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756E-9857-4996-BC35-739F51A59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8553-0EB9-440D-9996-03E076043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DD9-4F2E-4842-8C84-05CD6695A7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8C0-5E19-4BC7-92A8-F07DBF73BB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380-EDA4-4FBA-A8EE-C5DAF3C6E6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043-2861-4B0F-9D1D-68FB344D31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1E4-8215-4DB3-A0B9-B385097095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E85-FF92-4F99-A902-9CAC405F89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6B8-7E1E-4EB0-A801-DDF11F60C2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4917-EEB5-4EA7-A13E-91582D107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BF6-926F-4544-A7A8-CE685DF4AB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0DB-A8D2-4E3A-9D84-2226E72038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AEC-B9E1-4B90-8A98-A17FDDBA84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884-2394-4060-9D93-A986237BA1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C4A-AD46-4921-94A6-5C34BF87E9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69BA-AA58-4D36-8B5B-C4742F357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A802-BB01-44F9-BC7F-94869B714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B066-FB02-4B48-B7AA-584D3947F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DA40-4FB9-4EE5-974F-B6B0AF52C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3889-FA26-4065-8961-E65FF1AF5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9D46-610A-405B-AE9C-857C646A6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0E49-D4DD-407F-98D8-12EE130C4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85AB-E8C7-4523-9E27-AB0755C914AF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23.</a:t>
            </a:r>
            <a:fld id="{36020E58-466B-4735-A8D6-E7E166D370F9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B592-5996-4CF3-8C76-2B803B838F7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8960" y="5726160"/>
            <a:ext cx="35456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ale.edu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23:  XM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tivation for Nest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96284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ing of data is useful in data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elements represen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sted within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em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ing is not supported, or discouraged, in relational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ultiple orders, customer name and address are stored redunda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replaces nested structures in each order by foreign key into table storing customer name and addres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ing is supported in object-relational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nesting is appropriate when transfer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application does not have direct access to data referenced by a foreig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ucture of XML Data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886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ture of text with sub-elements is legal in X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This course is being offered for the first time in 2009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&lt;course id&gt; BIO-399 &lt;/course id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&lt;title&gt; Computational Biology &lt;/title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&lt;dept name&gt; Biology &lt;/dept name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&lt;credits&gt; 3 &lt;/credits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/cour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document markup, but discouraged for data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can have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ttributes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_id= “CS-101”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title&gt; Intro. to Computer Science&lt;/title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dept name&gt; Comp. Sci. &lt;/dept name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credits&gt; 4 &lt;/credits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&lt;/cour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are specified by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=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irs inside the starting tag of an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ement may have several attributes, but each attribute name can only occur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_id = “CS-101”  credits=“4”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ttributes vs. Subelemen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ction between subelement and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ontext of documents, attributes are part of markup, while subelement contents are part of the basic document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ontext of data representation, the difference is unclear and may be conf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information can be represented in two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_id= “CS-101”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gt; … &lt;/cour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&gt; 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&lt;course_id&gt;CS-101&lt;/course_id&gt; …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&lt;/cour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: use attributes for identifiers of elements, and use subelements for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mespa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96284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data has to be exchanged between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tag name may have different meaning in different organizations, causing confusion on exchang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ing a unique string as an element name avoids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solution: use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unique-name:element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using long unique names all over document by using XML Name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university xmlns:yale=“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http://www.yale.edu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”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yale:cour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yale:course_id&gt; CS-101 &lt;/yale:course_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yale:title&gt; Intro. to Computer Science&lt;/yale: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yale:dept_name&gt; Comp. Sci. &lt;/yale:dept_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yale:credits&gt; 4 &lt;/yale:credi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/yale:course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/univers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on XML Syntax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without subelements or text content can be abbreviated by ending the start tag with a  /&gt;  and deleting the end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  course_id=“CS-101” Title=“Intro. To Computer Science”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  dept_name = “Comp. Sci.” credits=“4” 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ore string data that may contain tags, without the tags being interpreted as subelements, use CDATA as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[CDATA[&lt;course&gt; … &lt;/course&gt;]]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, &lt;course&gt; and &lt;/course&gt; are treated as just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ATA stands for “character d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ML Document Schem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chemas constrain what information can be stored, and the data types of store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documents are not required to have an associated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chemas are very important for XML data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a site cannot automatically interpret data received from another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echanisms for specifying XML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cument Type Definition (DT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XML Schema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er, increasing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cument Type Definition (DTD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 of an XML document can be specified using a 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 constraints structure of XM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lements can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ttributes can/must an element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ubelements can/must occur inside each element, and how many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 does not constrain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values represented as strings in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ELEMENT element (subelements-specification)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ATTLIST   element (attributes) 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lement Specification in DT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elements can be specified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 of elements,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PCDATA (parsed character data), i.e., character str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TY (no subelements) or ANY (anything can be a subel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&lt;! ELEMENT department (dept_name  building, budget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&lt;! ELEMENT dept_name (#PCDATA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&lt;! ELEMENT budget (#PCDATA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element specification may have regular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ELEMENT university ( ( department | course | instructor | teaches )+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”   -  altern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”  -  1 or more occur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”   -  0 or more occur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versity DT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DOCTYPE  university [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university ( (department|course|instructor|teaches)+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department ( dept name, building, budget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course ( course id, title, dept name, credits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instructor (IID, name, dept name, salary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teaches (IID, course id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dept name( #PCDATA 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building( #PCDATA 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budget( #PCDATA 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course id ( #PCDATA 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title ( #PCDATA 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credits( #PCDATA 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IID( #PCDATA 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name( #PCDATA )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ELEMENT salary( #PCDATA 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M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of XM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Document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ing and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Interfaces t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of XM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ttribute Specification in DT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specification : for each attribu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attrib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(identifier) or IDREF (ID reference) or IDREFS (multiple IDREF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this l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(#REQUI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default value (valu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neither (#IMPL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ATTLIST course course_id CDATA #REQUIRED&gt;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ATTLIST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_id     ID          #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_name  IDREF   #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ors    IDREFS #IMPLIED  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Ds and IDREF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ement can have at most one attribute of typ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D attribute value of each element in an XML document must be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the ID attribute value is an object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ttribute of type IDREF must contain the ID value of an element in the sam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ttribute of type IDREFS contains a set of (0 or more) ID values.  Each ID value must contain the ID value of an element in the sam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versity DTD with 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DTD with ID and IDREF attribute types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!DOCTY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-3 [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&lt;!ELEMENT university ( (department|course|instructor)+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&lt;!ELEMENT department ( building, budget 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&lt;!ATTLIST depart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dept_name ID #REQUIRED 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&lt;!ELEMENT course (title, credits 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&lt;!ATTLIST cour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course_id ID #REQU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dept_name IDREF #REQU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instructors IDREFS #IMPLIED 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&lt;!ELEMENT instructor ( name, salary )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&lt;!ATTLIST instruc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IID ID #REQUIR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dept_name IDREF #REQUIRED 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· · · declarations for title, credits, building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budget, name and salary · · ·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ML data with ID and IDREF attribut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838080"/>
            <a:ext cx="7010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&lt;university-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department dept name=“Comp. Sci.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 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building&gt; Taylor &lt;/build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 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budget&gt; 100000 &lt;/budg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/depart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department dept name=“Biology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 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building&gt; Watson &lt;/build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 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budget&gt; 90000 &lt;/budg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/depart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IN" sz="1800" spc="-1" strike="noStrike">
                <a:solidFill>
                  <a:srgbClr val="008000"/>
                </a:solidFill>
                <a:latin typeface="Arial"/>
              </a:rPr>
              <a:t>&lt;course course id=“CS-101” dept name=“Comp. Sc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8000"/>
                </a:solidFill>
                <a:latin typeface="Arial"/>
              </a:rPr>
              <a:t>                         </a:t>
            </a:r>
            <a:r>
              <a:rPr b="0" lang="en-IN" sz="1800" spc="-1" strike="noStrike">
                <a:solidFill>
                  <a:srgbClr val="008000"/>
                </a:solidFill>
                <a:latin typeface="Arial"/>
              </a:rPr>
              <a:t>instructors=“10101 83821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IN" sz="1800" spc="-1" strike="noStrike">
                <a:solidFill>
                  <a:srgbClr val="008000"/>
                </a:solidFill>
                <a:latin typeface="Arial"/>
              </a:rPr>
              <a:t>&lt;title&gt; Intro. to Computer Science 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IN" sz="1800" spc="-1" strike="noStrike">
                <a:solidFill>
                  <a:srgbClr val="008000"/>
                </a:solidFill>
                <a:latin typeface="Arial"/>
              </a:rPr>
              <a:t>&lt;credits&gt; 4 &lt;/credi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IN" sz="1800" spc="-1" strike="noStrike">
                <a:solidFill>
                  <a:srgbClr val="008000"/>
                </a:solidFill>
                <a:latin typeface="Arial"/>
              </a:rPr>
              <a:t>&lt;/cour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IN" sz="1800" spc="-1" strike="noStrike">
                <a:solidFill>
                  <a:srgbClr val="006666"/>
                </a:solidFill>
                <a:latin typeface="Arial"/>
              </a:rPr>
              <a:t>&lt;instructor IID=“10101” dept name=“Comp. Sci.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0" lang="en-IN" sz="1800" spc="-1" strike="noStrike">
                <a:solidFill>
                  <a:srgbClr val="006666"/>
                </a:solidFill>
                <a:latin typeface="Arial"/>
              </a:rPr>
              <a:t>&lt;name&gt; Srinivasan 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0" lang="en-IN" sz="1800" spc="-1" strike="noStrike">
                <a:solidFill>
                  <a:srgbClr val="006666"/>
                </a:solidFill>
                <a:latin typeface="Arial"/>
              </a:rPr>
              <a:t>&lt;salary&gt; 65000 &lt;/salar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0" lang="en-IN" sz="1800" spc="-1" strike="noStrike">
                <a:solidFill>
                  <a:srgbClr val="006666"/>
                </a:solidFill>
                <a:latin typeface="Arial"/>
              </a:rPr>
              <a:t>&lt;/instructo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university-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imitations of DTD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yping of text elements an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values are strings, no integers, rea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specify unordered sets of sub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is usually irrelevant in databases (unlike in the document-layout environment from which XML e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| B)* allows specification of an unordered set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ensure that each of A and B occurs only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s and IDREFs are unty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 of an course may contain a reference to another course, which is meaning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 should ideally be constrained to refer to instructor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ML Schem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 is a more sophisticated schema language which addresses the drawbacks of DTDs. 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ng of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nteger, string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constraints on min/max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defined, comlex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ore features,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ness and foreign key constraints, inheri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 is itself specified in XML syntax, unlike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-standard representation, but ver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e is integrated with namesp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:  XML Schema is significantly more complicated than DT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ML Schema Version of Univ. DT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990720"/>
            <a:ext cx="77724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Arial"/>
              </a:rPr>
              <a:t>&lt;xs:schema xmlns:xs=“</a:t>
            </a:r>
            <a:r>
              <a:rPr b="0" lang="en-IN" sz="1600" spc="-1" strike="noStrike">
                <a:solidFill>
                  <a:srgbClr val="ff9900"/>
                </a:solidFill>
                <a:latin typeface="Arial"/>
              </a:rPr>
              <a:t>http://www.w3.org/2001/XMLSchema</a:t>
            </a:r>
            <a:r>
              <a:rPr b="0" lang="en-IN" sz="16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Arial"/>
              </a:rPr>
              <a:t>&lt;xs:element name=“university” type=“universityType”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&lt;xs:element name=“department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&lt;xs:element name=“dept name” type=“xs:string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&lt;xs:element name=“building” type=“xs:string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&lt;xs:element name=“budget” type=“xs:decimal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&lt;/xs: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&lt;/xs: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993300"/>
                </a:solidFill>
                <a:latin typeface="Arial"/>
              </a:rPr>
              <a:t>&lt;/xs:ele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element name=“instructor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element name=“IID” type=“xs:string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element name=“name” type=“xs:string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element name=“dept name” type=“xs:string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element name=“salary” type=“xs:decimal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/xs: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/xs: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/xs:ele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on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ML Schema Version of Univ. DTD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990720"/>
            <a:ext cx="7772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IN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complexType name=“UniversityType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element ref=“department” minOccurs=“0” maxOccurs=“unbounded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element ref=“course” minOccurs=“0” maxOccurs=“unbounded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element ref=“instructor” minOccurs=“0” maxOccurs=“unbounded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xs:element ref=“teaches” minOccurs=“0” maxOccurs=“unbounded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/xs: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8000"/>
                </a:solidFill>
                <a:latin typeface="Arial"/>
              </a:rPr>
              <a:t>&lt;/xs: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962520"/>
            <a:ext cx="76611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ce of “xs:” was ours -- any other namespace prefix could be ch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 “university” has type “universityType”, which is defined separ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:complexType is used later to create the named complex type “UniversityTyp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features of XML Schem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specified by xs:attribute t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xs:attribute name = “dept_name”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the attribute use = “required” means value must b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constraint: “department names form a key for department elements under the root university el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xs:key name = “deptKey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xs:selector xpath = “/university/department”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xs:field xpath = “dept_name”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\xs:ke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key constraint from course to depart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xs:keyref name = “courseDeptFKey” refer=“deptKey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xs:selector xpath = “/university/course”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xs:field xpath = “dept_name”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\xs:keyref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ing and Transforming XML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 of information from one XML schema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ing on XM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two are closely related, and handled by the sam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XML querying/translation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language consisting of path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language designed for translation from XML to XML and XML t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XML query language with a rich set of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11548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:  Extensible Markup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by the WWW Consortium (W3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d from SGML (Standard Generalized Markup Language), but simpler to use than SG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have tags giving extra information about sections of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title&gt; XML &lt;/title&gt;  &lt;slide&gt; Introduction …&lt;/sli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nlike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add new tags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parat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y how the tag should be handled for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 Model of XML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819144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and transformation languages are based on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ree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M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XML document is modeled as a tree, with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sponding to elements an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 nodes have child nodes, which can be attributes or sub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n element is modeled as a text node child of the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of a node are ordered according to their order in the XM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 and attribute nodes (except for the root node) have a single parent, which is an elemen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ot node has a single child, which is the root element of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Pat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Path is used to address (select) parts of documents us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ath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th expression is a sequence of steps separated by “/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of file names in a directory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of path expression:  set of values that along with their containing elements/attributes match the specified p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3/instructor/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valuated on the university-3 data we saw earlie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ame&gt;Srinivasan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ame&gt;Brandt&lt;/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3/instructor/name/text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same names, but without the enclosing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Path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“/” denotes root of the document (above the top-level t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expressions are evaluated 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ep operates on the set of instances produced by the previous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predicates may follow any step in a path, in [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3/course[credits &gt;= 4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account elements with a balance value greater than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3/course[credits]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account elements containing a credits sub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are accessed using “@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3/course[credits &gt;= 4]/@course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course identifiers of courses with credits &gt;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EF attributes are not dereferenced automatically (more on this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nctions in XPat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Path provides sever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un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t the end of a path counts the number of elements in the set generated by th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2/instructor[count(./teaches/course)&gt; 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instructors teaching more than 2 courses (on university-2 sche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function for testing position (1, 2, ..) of node w.r.t. sib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connectives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unctio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not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in pred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EFs can be referenced using functio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d()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d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also be applied to sets of references such as IDREFS and even to strings containing multiple references separated by bl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3/course/id(@dept_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all department elements referred to from the dept_name attribute of course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XPath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 “|” used to implement un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3/course[@dept name=“Comp. Sci”]   |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/university-3/course[@dept name=“Biology”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union of Comp. Sci. and Biology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“|” cannot be nested inside other opera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” can be used to skip multiple levels of n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3//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ny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y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the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ement, regardless of the element in which it is conta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ep in the path can go to parents, siblings, ancestors and descendants  of the nodes generated by the previous step, not just to the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”, described above, is a short from for specifying “all descenda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” specifies th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(name) returns the root of a name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Query is a general purpose query language for XML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being standardized by the World Wide Web Consortium (W3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book description is based on a January 2005 draft of the standard.  The final version may differ, but major features likely to stay un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Query is derived from the Quilt query language, which itself borrows from SQL, XQL and XML-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Query uses a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for … let … where … order by …result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…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emporary variables, and has no equivalent in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LWOR Syntax in XQuery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lause uses XPath expressions, and variable in for clause ranges over values in the set returned by X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LWOR expression in XQu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ourses with credits &gt; 3, with each result enclosed in an &lt;course_id&gt; .. &lt;/course_id&gt; tag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for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$x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3/course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et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courseId := $x/@course_id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x/credits &gt; 3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_id&gt; { $courseId } &lt;/course 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are XML text unless enclosed in {}, in which case they are evalu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clause not really needed in this query, and selection can be done In XPath.  Query can be written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x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-3/course[credits &gt; 3]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_id&gt; { $x/@course_id } &lt;/course_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notation for constructing 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turn element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urse_id {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element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$x/@course_id }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8487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s are specified in a manner very similar to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c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/course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$i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/instructor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$t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/teaches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c/course_id= $t/course id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t/IID = $i/IID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_instructor&gt; { $c $i } &lt;/course_instruct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query can be expressed with the selections specified as XPath sel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c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/course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$i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/instructor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$t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/teaches[ $c/course_id= $t/course_id 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t/IID = $i/IID]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_instructor&gt; { $c $i } &lt;/course_instruct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query converts data from the flat structure for university  information into the nested structure used 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university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university-1&g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university/depart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partm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{ $d/*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university/course[dept name = $d/dept name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c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&lt;/departm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university/instruc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structo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{ $i/*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university/teaches[IID = $i/IID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c/course id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&lt;/instructo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university-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c/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all the children of the node to which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bound, without the enclosing top-level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rouping and Aggreg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 queries are used for 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167652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993300"/>
                </a:solidFill>
                <a:latin typeface="Arial"/>
              </a:rPr>
              <a:t>for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$d </a:t>
            </a:r>
            <a:r>
              <a:rPr b="1" lang="en-IN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/university/de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9933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department-total-salar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dept_name&gt; { $d/dept name } &lt;/dept_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total_salary&gt; { fn:sum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993300"/>
                </a:solidFill>
                <a:latin typeface="Arial"/>
              </a:rPr>
              <a:t>                  </a:t>
            </a:r>
            <a:r>
              <a:rPr b="1" lang="en-IN" sz="1800" spc="-1" strike="noStrike">
                <a:solidFill>
                  <a:srgbClr val="993300"/>
                </a:solidFill>
                <a:latin typeface="Arial"/>
              </a:rPr>
              <a:t>for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$i </a:t>
            </a:r>
            <a:r>
              <a:rPr b="1" lang="en-IN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/university/instructor[dept_name = $d/dept_nam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993300"/>
                </a:solidFill>
                <a:latin typeface="Arial"/>
              </a:rPr>
              <a:t>                  </a:t>
            </a:r>
            <a:r>
              <a:rPr b="1" lang="en-IN" sz="1800" spc="-1" strike="noStrike">
                <a:solidFill>
                  <a:srgbClr val="993300"/>
                </a:solidFill>
                <a:latin typeface="Arial"/>
              </a:rPr>
              <a:t>return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$i/sal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) } </a:t>
            </a:r>
            <a:br>
              <a:rPr sz="1800"/>
            </a:b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      &lt;/total_salar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0" lang="en-IN" sz="1800" spc="-1" strike="noStrike">
                <a:solidFill>
                  <a:srgbClr val="993300"/>
                </a:solidFill>
                <a:latin typeface="Arial"/>
              </a:rPr>
              <a:t>&lt;/department-total-salary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ML Introduc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819144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ility to specify new tags, and to create nested tag structures make XML a great way to exchan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t just doc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ch of the use of XML has been in data exchange applications, not as a replacement for 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s make data (relatively) self-documen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&lt;university&gt;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 &lt;department&gt;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    &lt;dept_name&gt; Comp. Sci. &lt;/dept_name&gt;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    &lt;building&gt; Taylor &lt;/building&gt;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    &lt;budget&gt; 100000 &lt;/budget&gt;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&lt;/department&gt;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&lt;course&gt;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     &lt;course_id&gt; CS-101 &lt;/course_id&gt;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     &lt;title&gt; Intro. to Computer Science &lt;/title&gt;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     &lt;dept_name&gt; Comp. Sci &lt;/dept_name&gt;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     &lt;credits&gt; 4 &lt;/credits&gt;</a:t>
            </a:r>
            <a:br>
              <a:rPr sz="16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  &lt;/cours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&lt;/universi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orting in XQuery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der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can be used at the end of any expression.  E.g. to return instructors sorted by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$i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/university/instructor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order by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$i/name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return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&lt;instructor&gt; { $i/* } &lt;/instructo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order by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i/name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desce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ort in descend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ort at multiple levels of nesting (sort departments  by dept_name, and by courses sorted to course_id within each depart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university-1&gt; {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d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/department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order by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d/dept name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turn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department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    { $d/* }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    {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c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/course[dept name = $d/dept name]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order by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c/course id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&gt; { $c/* } &lt;/course&gt; }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&lt;/department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} &lt;/university-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nctions and Other XQuery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115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fined functions with the type system of XMLSchema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declare functio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ocal:dept_courses($iid as xs:string) 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s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element(course)* 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i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/instructor[IID = $iid]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$c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/university/courses[dept_name = $i/dept name]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$c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are optional for function parameter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* (as in decimal*) indicates a sequence of values of tha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and existential quantification in where clause pred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isf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isf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fn:exists($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event empty $e from satisfy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Query also supports If-then-else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SL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tyleshe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res formatting options for a document, usually separately from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an HTML style sheet may specify font colors and sizes for heading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XML Stylesheet Language (XSL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originally designed for generating HTML from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 is a general-purpose transformation langu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ranslate XML to XML, and XML t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 transformations are expressed using rules called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s combine selection using XPath with construction of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pplication Program Interfa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96284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standard application program interfaces to XML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mple API for X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parser model, user provides event handlers for parsing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tart of element, end of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ocument Object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s parsed into a tree re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ety of functions provided for traversing the DOM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  Java DOM API provides Node class with metho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getParentNode( ), getFirstChild( ), getNextSibling( )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getAttribute( ), getData( ) (for text node)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getElementsByTagName( )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provides functions for updating DOM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orage of XML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628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data can be stor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relational data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for storing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has all problems discussed in Chapter 1 (no concurrency, no recovery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built specifically for storing XML data, supporting DOM model and declarative quer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no commercial-grad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al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ust be translated into relation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:  mature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s: overhead of translating data and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orage of XML in Relational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to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ing Represent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84872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each top level element as a string field of a tuple in a relational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ingle relation to store all elements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separate relation for each top-level eleme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account, customer, depositor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ith a string-valued attribute to store the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values of subelements/attributes to be indexed as extra fields of the relation, and build indices on thes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ustomer_name or account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database systems support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unction indic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use the result of a function as the key val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should return the value of the required subelement/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ing Represent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ore any XML data even without 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long as there are many top-level elements in a document, strings are small compared to full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ast access to individual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b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 to parse strings to access values inside th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ing is s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 Represent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391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e representation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XML data as tree and store using rel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nodes(id, parent_id, type, label, value)</a:t>
            </a:r>
            <a:br>
              <a:rPr sz="1800"/>
            </a:b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lement/attribute is given a unique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ndicates element/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specifies the tag name of the element/name of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is the text value of the element/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dd an extra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cord ordering of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349800" y="1828800"/>
            <a:ext cx="4781160" cy="1671120"/>
            <a:chOff x="3349800" y="1828800"/>
            <a:chExt cx="4781160" cy="1671120"/>
          </a:xfrm>
        </p:grpSpPr>
        <p:sp>
          <p:nvSpPr>
            <p:cNvPr id="185" name=""/>
            <p:cNvSpPr/>
            <p:nvPr/>
          </p:nvSpPr>
          <p:spPr>
            <a:xfrm>
              <a:off x="5562720" y="2171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3600" y="255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48520" y="3009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520" y="255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88" idx="7"/>
              <a:endCxn id="185" idx="3"/>
            </p:cNvCxnSpPr>
            <p:nvPr/>
          </p:nvCxnSpPr>
          <p:spPr>
            <a:xfrm flipV="1">
              <a:off x="5235480" y="2301840"/>
              <a:ext cx="34992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5" idx="5"/>
              <a:endCxn id="186" idx="1"/>
            </p:cNvCxnSpPr>
            <p:nvPr/>
          </p:nvCxnSpPr>
          <p:spPr>
            <a:xfrm>
              <a:off x="5692320" y="2301840"/>
              <a:ext cx="273960" cy="27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6" idx="5"/>
              <a:endCxn id="187" idx="1"/>
            </p:cNvCxnSpPr>
            <p:nvPr/>
          </p:nvCxnSpPr>
          <p:spPr>
            <a:xfrm>
              <a:off x="6073920" y="2682720"/>
              <a:ext cx="1972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2" name=""/>
            <p:cNvSpPr/>
            <p:nvPr/>
          </p:nvSpPr>
          <p:spPr>
            <a:xfrm>
              <a:off x="4800600" y="3009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57800" y="3009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15000" y="3009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2" idx="7"/>
              <a:endCxn id="188" idx="3"/>
            </p:cNvCxnSpPr>
            <p:nvPr/>
          </p:nvCxnSpPr>
          <p:spPr>
            <a:xfrm flipV="1">
              <a:off x="4930920" y="2682360"/>
              <a:ext cx="1972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6" name=""/>
            <p:cNvCxnSpPr>
              <a:stCxn id="188" idx="5"/>
              <a:endCxn id="193" idx="0"/>
            </p:cNvCxnSpPr>
            <p:nvPr/>
          </p:nvCxnSpPr>
          <p:spPr>
            <a:xfrm>
              <a:off x="5235480" y="2682360"/>
              <a:ext cx="99360" cy="32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7" name=""/>
            <p:cNvCxnSpPr>
              <a:stCxn id="186" idx="3"/>
              <a:endCxn id="194" idx="7"/>
            </p:cNvCxnSpPr>
            <p:nvPr/>
          </p:nvCxnSpPr>
          <p:spPr>
            <a:xfrm flipH="1">
              <a:off x="5844600" y="2682720"/>
              <a:ext cx="1213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8" name=""/>
            <p:cNvSpPr/>
            <p:nvPr/>
          </p:nvSpPr>
          <p:spPr>
            <a:xfrm>
              <a:off x="5155920" y="182880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versity (id: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42760" y="2362320"/>
              <a:ext cx="14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urse (id: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96880" y="232416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partment (id: 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49800" y="2857320"/>
              <a:ext cx="11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urse_i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id: 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2857320"/>
              <a:ext cx="132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pt_nam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id: 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 Represent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: Can store any XML data, even without D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bac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s broken up into too many pieces, increasing space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simple queries require a large number of joins, which can be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ML: Motiv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8868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rchange is critical in today’s networked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:  funds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processing (especially inter-company ord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ti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stry:  ChemML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s:    BSML (Bio-Sequence Markup Language)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flow of information between organizations is being replaced by electronic flow of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pplication area has its own set of standards for represen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s become the basis for all new generation data interchange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pping XML Data t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3916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created for each element type whose schema is kno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d attribute to store a unique id for each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tion attribute corresponding to each element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_id attribute to keep track of paren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n the tree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information (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hild) can be store t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belements that occur only once can become relation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ext-valued subelements, store the text as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mplex subelements, can store the id of the sub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elements that can occur multiple times represented in a separ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handling of multivalued attributes when converting ER diagrams to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oring XML Data in Relational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above ideas to department elements in university-1 schema, with nested course elements, we g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ent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ublis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 of converting relational data to an XML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hred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 of converting an XML document into a set of tuples to be inserted into one or more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-enabled database systems support automated publishing and shr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ystems off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ive sto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ML data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type.  Special internal data structures and indices are used for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/XM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tandard SQL extension that allows creation of nested XML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utput tuple is mapped to an XML el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university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&lt;department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&lt;row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&lt;dept name&gt; Comp. Sci. &lt;/dept name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&lt;building&gt; Taylor &lt;/building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&lt;budget&gt; 100000 &lt;/budget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&lt;/ro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more rows if there are more output tupl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/department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… other relations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/univers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 Exten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ele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XM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attribu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select xmlelement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“course”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xmlattributes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course id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course id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dept name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dept name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)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xmlelement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“title”,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)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xmlelement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“credits”,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credits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))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agg creates a forest of XM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select xmlelement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“department”, 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     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xmlagg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xmlforest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order by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course_id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))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course</a:t>
            </a:r>
            <a:br>
              <a:rPr sz="1800"/>
            </a:b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group by 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dep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ML Applic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ing and exchanging data with compl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pen Document Format (ODF) format standard for storing Open Office and Office Open XML (OOXML) format standard for storing Microsoft Office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ous other standards for a variety of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ML, Math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for data exchange for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method invocation over HTTP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e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 representation format to bridge differ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b Serv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mple Object Access Protocol (SOAP) stand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cation of procedures across applications with distinct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used to represent procedur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b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ite providing a collection of SOAP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using the Web Services Description Language (WS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of Web services are described using the Universal Description, Discovery, and Integration (UDDI)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2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ML Motiv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ier generation formats were based on plain text with line headers indicating the meaning of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in concept to email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low for nested structures, no standard “type”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d too closely to low level document structure (lines, space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XML based standard defines what are valid elements,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ype specification languages to specify th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D (Document Type Descrip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textual descriptions of the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llows new tags to be defined a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is may be constrained by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de variety of tools is available for parsing, browsing and querying XML documents/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arison with Relational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icient: tags, which in effect represent schema information, are rep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than relational tuples as a data-exchange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ke relational tuples, XML data is self-documenting due to presence of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igid format: tags can be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nested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 acceptance, not only in database systems, but also in browsers, tools, and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ucture of XML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label for a section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ction of data beginning with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g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nd ending with matching &lt;/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g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must be properly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n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 n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&gt; … &lt;title&gt;  …. &lt;/title&gt; &lt;/cours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per ne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course&gt; … &lt;title&gt;  …. &lt;/course&gt; &lt;/tit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ly:  every start tag must have a unique matching end tag, that is in the context of the same parent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document must have a single top-level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Nested Elemen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purchase_order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&lt;identifier&gt; P-101 &lt;/identifier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&lt;purchaser&gt;  …. &lt;/purchaser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&lt;itemlist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&lt;item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identifier&gt; RS1 &lt;/identifier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description&gt; Atom powered rocket sled &lt;/description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quantity&gt; 2 &lt;/quantity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price&gt; 199.95 &lt;/price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&lt;/item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&lt;item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identifier&gt; SG2 &lt;/identifier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description&gt; Superb glue &lt;/description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quantity&gt; 1 &lt;/quantity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unit-of-measure&gt; liter &lt;/unit-of-measure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     &lt;price&gt; 29.95 &lt;/price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   &lt;/item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   &lt;/itemlist&gt;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&lt;/purchase_order&g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9:26:30Z</dcterms:created>
  <dc:creator>Marilyn Turnamian</dc:creator>
  <dc:description/>
  <dc:language>en-US</dc:language>
  <cp:lastModifiedBy>Sudarshan</cp:lastModifiedBy>
  <cp:lastPrinted>1999-06-28T19:27:31Z</cp:lastPrinted>
  <dcterms:modified xsi:type="dcterms:W3CDTF">2010-05-10T04:31:59Z</dcterms:modified>
  <cp:revision>319</cp:revision>
  <dc:subject/>
  <dc:title>Module 1:   Introduction</dc:title>
</cp:coreProperties>
</file>