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</p:sldIdLst>
  <p:sldSz cx="9144000" cy="6858000"/>
  <p:notesSz cx="6997700" cy="9283700"/>
  <p:custShowLst>
    <p:custShow name="Custom Show 1" id="0">
      <p:sldLst>
        <p:sld r:id="rId5"/>
        <p:sld r:id="rId40"/>
        <p:sld r:id="rId39"/>
        <p:sld r:id="rId50"/>
        <p:sld r:id="rId20"/>
        <p:sld r:id="rId21"/>
        <p:sld r:id="rId6"/>
        <p:sld r:id="rId37"/>
        <p:sld r:id="rId38"/>
        <p:sld r:id="rId5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86C9D93-281D-4CDE-8914-838101771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FACB1A2-E77E-4C5A-BE8F-06EE1C314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419D971-9ABC-4D5A-B676-92C9C064F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F2308D7-0417-41E9-8F34-A171A9F40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401A21B-98A9-4DB4-806C-601BF93C4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9F0EB8B-7590-4878-BB6B-15F1766C2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DE73786-F972-4E86-AF93-F8A70F3DD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334EA77-0D44-4CD8-823F-3972A9037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43C856D-A771-4EF0-86D7-9A082DBC3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8809B09-A286-4EEA-8D78-02802D7CE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337F3CD-494A-4E7F-8AE0-58AADA21F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03F515-48DF-46CD-B6EE-04B9DCAB3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1676AEA-A9C6-4927-BD77-084412E7B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66FE20-D57F-41D6-B4C9-58D213498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3D435C-2158-4FDD-B79F-5E4719D51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631123-42A3-43FF-9D1E-921406AFD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4CFC14-613D-4C96-904E-D8E5FC024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27B40BC-FAD1-45CB-B797-FCC83F5FC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F1E775-BBBA-427E-BE7D-5E57EDBF8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1D8B5E0-352D-4E6A-BE49-F0E01CC77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DA9F031-56F1-49F3-94F0-A9DCBC202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E369821-F51D-4F31-9D07-DDA8D5027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0643C02-0854-4E15-97EC-DD79272D6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0880499-50C7-495A-A3AB-986621801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C15060-4ABA-4C68-BA57-4D48706E1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E6183D-A914-4424-AB74-BFEA731EF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C4642A-B130-49C8-9368-BD6AD12B9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F09AF8A-8283-4656-9751-070022136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9C87C46-8BF6-4D69-85B6-1645AD6FE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FD901B8-AA28-4AC7-9A5A-DDFD030EE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00392E-5EBA-4E51-978A-8D4B8023A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471947-EAB8-4F0A-977D-F01365EBA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C673725-45BE-4DE0-BDFD-A45591C0D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746487-1E5B-4B0C-AD2E-4CCB8C500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0B65D5-1031-4800-A1C2-E0CE5F4E6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C98E480-6104-4570-BFDA-D5BD316C2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25182BD-6AAC-4B44-A04E-325BFD0C8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BB136C5-A506-4A9D-99B8-8E3C4F6CC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6286020-F58D-420E-BD45-4145E6CED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17303AE-1E03-464A-8895-F6906F9DD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F2E3AB-4901-4422-B626-B3E02FD4B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9EA49BF-C5FE-4F24-80AF-76AACA9E2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776ABD-6CCE-4A5E-802A-64B371496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0D56859-6926-474B-A744-33D614053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CD27F3-94B2-41F8-957E-34E265327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57B4E71-3FC7-457F-A0CD-7A14C7148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A8D5F2-B7D4-48DD-91D6-E4EEAB405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0097BA-E851-4464-87D1-81B2A88CF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866510A-14AE-4F71-B61E-DD4022936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E973B98-B267-4D40-B624-1F62E1869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465EF6C-1F00-45AB-8747-6C8890C78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020C28E-AE95-4842-8D42-805E108EF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190A31-074B-4E56-9841-04A7F08A4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655968-A3C3-4A2F-AEAD-BB2ECF468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67D85A0-ADC4-447F-BC2F-E62869CAC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960E365-E5A9-4F60-96F6-6D1C6BF70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4640D75-599F-430B-9430-AEF23C43A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7846ED-AFB8-469F-A99B-E454DCF77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067C1AE-D9A8-4FA4-82DD-41B1D7A6D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FE5752-9940-4B40-AF6D-9BAFD7225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C5EBC0-915F-4D7B-9F97-F06035A13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DA72596-3B32-4397-8C65-C02DA0641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ECA1CCD-FE7E-40E7-8D7E-562D94F21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FAB0CAB-D9E4-461F-AD6A-AB2EDA58D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229E468-D73F-4243-85A6-F3403D024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AC58B8A-EC78-49B9-81A4-62F878331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5BD330-5F06-4BFA-B396-5AE3F431D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732232-360A-4A43-BCA9-66553DE19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2552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5.</a:t>
            </a:r>
            <a:fld id="{1736850C-D963-4567-8CEA-7347C95C2874}" type="slidenum">
              <a:rPr b="1" lang="en-US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900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8916840" y="5445000"/>
            <a:ext cx="227160" cy="4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5: Advanced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tadata Fea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et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after executing query to get a ResultSet 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ResultSetMetaData rsmd = rs.getMetaData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for(int i = 1; i &lt;= rsmd.getColumnCount()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ystem.out.println(rsmd.getColumnName(i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ystem.out.println(rsmd.getColumnTypeName(i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this usef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tadata (Cont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9280" y="1108080"/>
            <a:ext cx="84218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DatabaseMetaData dbmd = conn.getMetaData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ResultSet rs = dbmd.getColumns(null, "univdb", "department", "%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//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Arguments to getColumns: Catalog, Schema-pattern, Table-patter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// and Column-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// Returns: One row for each column; row has a number of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// such as COLUMN_NAME, TYPE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while( rs.next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ystem.out.println(rs.getString("COLUMN_NAME"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rs.getString("TYPE_NAM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here is this usef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2600" y="853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Control in JDBC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1320" y="1161720"/>
            <a:ext cx="799776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efault, each SQL statement is treated as a separate transaction that is committed auto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 idea for transactions with multiple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urn off automatic commit on a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.setAutoCommit(fals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s must then be committed or rolled back explici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onn.commit(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onn.rollba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.setAutoCommit(true) turns on automatic comm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JDBC Fea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80359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ing functions an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allableStatement cStmt1 = conn.prepareCall("{? = call some function(?)}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allableStatement cStmt2 = conn.prepareCall("{call some procedure(?,?)}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ing large objec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Blob() and getClob() that are similar to the getString() method, but return objects of type Blob and Clob, resp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data from these objects by getByte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 an open stream with Java Blob or Clob object to update large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blob.setBlob(int parameterIndex, InputStream inputStrea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J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9423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DBC is overly dynamic, errors cannot be caught by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J: embedded SQL in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#sql iterator deptInfoIter ( String dept name, int avgS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deptInfoIter iter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#sql iter = { select dept_name, avg(salary) from 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group by dept name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while (iter.next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tring deptName = iter.dept_na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nt avgSal = iter.avgS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ystem.out.println(deptName + " " + avgS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ter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41320" y="1134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ataBase Connectivity(ODBC) stand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for application program to communicate with a database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program interface (API)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connection with a databas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queries and updat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back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such as GUI, spreadsheets, etc. can use OD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defined originally for Basic and C, versions available for many langu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 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49080" y="1134720"/>
            <a:ext cx="804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database system supporting ODBC provides a "driver" library that must be linked with the client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lient program makes an ODBC API call, the code in the library communicates with the server to carry out the requested action, and fetch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program first allocates an SQL environment, then a database connection hand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 database connection using SQLConnect().  Parameters for SQLConn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hand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rver to which to 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r identifi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also specify types of argu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_NTS denotes previous argument is a null-terminated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2600" y="-97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 Co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9200" y="1049400"/>
            <a:ext cx="82677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int ODBCexampl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RETCODE 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HENV    env;     /* environment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HDBC    conn;  /* database connection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SQLAllocEnv(&amp;en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SQLAllocConnect(env, &amp;con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SQLConnect(conn, “db.yale.edu", SQL_NTS, "avi", SQL_NTS, "avipasswd", SQL_NTS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{ …. Do actual work …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SQLDisconnect(con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SQLFreeConnect(con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SQLFreeEnv(env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 Cod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7680" y="914400"/>
            <a:ext cx="862632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ends SQL commands to database by using SQLExec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tuples are fetched using SQLFetch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BindCol() binds C language variables to attributes of the query resu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tuple is fetched, its attribute values are automatically stored in corresponding C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ments to SQLBindCo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BC stmt variable, attribute position in query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ype conversion from SQL to C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ddress of the vari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variable-length types like character array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length of the vari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to store actual length when a tuple is fet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A negative value returned for the length field indicates null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programming requires checking results of every function call for errors; we have omitted most checks for bre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 Cod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9840" y="953640"/>
            <a:ext cx="881388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body of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har deptname[80]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float salary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nt lenOut1, lenOut2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HSTMT stmt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har * sqlquery = "select dept_name, sum (salary)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                      from instructor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                      group by dept_name"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QLAllocStmt(conn, &amp;stmt)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error = SQLExecDirect(stmt, sqlquery, SQL_NTS)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f (error == SQL SUCCESS) {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SQLBindCol(stmt, 1, SQL_C_CHAR, deptname , 80, &amp;lenOut1)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SQLBindCol(stmt, 2, SQL_C_FLOAT, &amp;salary, 0 , &amp;lenOut2)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while (SQLFetch(stmt) == SQL_SUCCESS) {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      printf (" %s %g\n", deptname, salary)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}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QLFreeStmt(stmt, SQL_DRO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5:  Advanced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41320" y="1134720"/>
            <a:ext cx="68436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ng SQL From a Programming Langu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DBC and OD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ded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 Data Types and 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nd Procedural Constr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Aggregation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434960" y="-763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 Prepared Statemen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80773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epared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 statement prepared: compiled at the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ave placeholders:  E.g.  insert into account values(?,?,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ly executed with actual values for the plac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epare a stat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QLPrepare(stmt, &lt;SQL String&gt;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ind paramet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QLBindParameter(stmt, &lt;parameter#&gt;, 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     … type information and value omitted for simplicity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ecute the stat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N" sz="2000" spc="-1" strike="noStrike">
                <a:solidFill>
                  <a:srgbClr val="993300"/>
                </a:solidFill>
                <a:latin typeface="Arial"/>
              </a:rPr>
              <a:t>retcode = SQLExecute( stmt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o avoid SQL injection security risk, do not create SQL strings directly using user input; instead use prepared statements to bind user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52600" y="853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re ODBC Fea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40960" y="990360"/>
            <a:ext cx="81248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etadata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ll the relations in the database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the names and types of columns of a query result or a relation in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efault, each SQL statement is treated as a separate transaction that is committed automatic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urn off automatic commit on a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QLSetConnectOption(conn, SQL_AUTOCOMMIT, 0)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s must then be committed or rolled back explicitly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QLTransact(conn, SQL_COMMIT)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QLTransact(conn, SQL_ROLLB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DBC Conformance Leve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ormance levels specify subsets of the functionality defined by the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1 requires support for metadata quer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2 requires ability to send and retrieve arrays of parameter values and more detailed catalog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 Call Level Interface (CLI) standard similar to ODBC interface, but with some minor differ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DO.NE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5480" y="1063440"/>
            <a:ext cx="8682120" cy="54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I designed for Visual Basic .NET and C#, providing database access facilities similar to JDBC/OD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Partial example of ADO.NET code in C#</a:t>
            </a:r>
            <a:br>
              <a:rPr sz="2000"/>
            </a:br>
            <a:r>
              <a:rPr b="0" lang="en-IN" sz="2000" spc="-1" strike="noStrike">
                <a:solidFill>
                  <a:srgbClr val="993300"/>
                </a:solidFill>
                <a:latin typeface="Arial"/>
              </a:rPr>
              <a:t>using System, System.Data, System.Data.SqlClient; </a:t>
            </a:r>
            <a:br>
              <a:rPr sz="2000"/>
            </a:br>
            <a:r>
              <a:rPr b="0" lang="en-IN" sz="2000" spc="-1" strike="noStrike">
                <a:solidFill>
                  <a:srgbClr val="993300"/>
                </a:solidFill>
                <a:latin typeface="Arial"/>
              </a:rPr>
              <a:t>SqlConnection conn = new SqlConnection(</a:t>
            </a:r>
            <a:br>
              <a:rPr sz="2000"/>
            </a:br>
            <a:r>
              <a:rPr b="0" lang="en-IN" sz="2000" spc="-1" strike="noStrike">
                <a:solidFill>
                  <a:srgbClr val="993300"/>
                </a:solidFill>
                <a:latin typeface="Arial"/>
              </a:rPr>
              <a:t>                “Data Source=&lt;IPaddr&gt;, Initial Catalog=&lt;Catalog&gt;”);</a:t>
            </a:r>
            <a:br>
              <a:rPr sz="2000"/>
            </a:br>
            <a:r>
              <a:rPr b="0" lang="en-IN" sz="2000" spc="-1" strike="noStrike">
                <a:solidFill>
                  <a:srgbClr val="993300"/>
                </a:solidFill>
                <a:latin typeface="Arial"/>
              </a:rPr>
              <a:t>conn.Open();</a:t>
            </a:r>
            <a:br>
              <a:rPr sz="2000"/>
            </a:br>
            <a:r>
              <a:rPr b="0" lang="en-IN" sz="2000" spc="-1" strike="noStrike">
                <a:solidFill>
                  <a:srgbClr val="993300"/>
                </a:solidFill>
                <a:latin typeface="Arial"/>
              </a:rPr>
              <a:t>SqlCommand cmd = new SqlCommand(“select * from students”, </a:t>
            </a:r>
            <a:br>
              <a:rPr sz="2000"/>
            </a:br>
            <a:r>
              <a:rPr b="0" lang="en-IN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                conn);</a:t>
            </a:r>
            <a:br>
              <a:rPr sz="2000"/>
            </a:br>
            <a:r>
              <a:rPr b="0" lang="en-IN" sz="2000" spc="-1" strike="noStrike">
                <a:solidFill>
                  <a:srgbClr val="993300"/>
                </a:solidFill>
                <a:latin typeface="Arial"/>
              </a:rPr>
              <a:t>SqlDataReader rdr = cmd.ExecuteReader();</a:t>
            </a:r>
            <a:br>
              <a:rPr sz="2000"/>
            </a:br>
            <a:r>
              <a:rPr b="0" lang="en-IN" sz="2000" spc="-1" strike="noStrike">
                <a:solidFill>
                  <a:srgbClr val="993300"/>
                </a:solidFill>
                <a:latin typeface="Arial"/>
              </a:rPr>
              <a:t>while(rdr.Read()) {</a:t>
            </a:r>
            <a:br>
              <a:rPr sz="2000"/>
            </a:br>
            <a:r>
              <a:rPr b="0" lang="en-IN" sz="2000" spc="-1" strike="noStrike">
                <a:solidFill>
                  <a:srgbClr val="993300"/>
                </a:solidFill>
                <a:latin typeface="Arial"/>
              </a:rPr>
              <a:t>      Console.WriteLine(rdr[0], rdr[1]); /* Prints result attributes 1 &amp; 2 */</a:t>
            </a:r>
            <a:br>
              <a:rPr sz="2000"/>
            </a:br>
            <a:r>
              <a:rPr b="0" lang="en-IN" sz="2000" spc="-1" strike="noStrike">
                <a:solidFill>
                  <a:srgbClr val="993300"/>
                </a:solidFill>
                <a:latin typeface="Arial"/>
              </a:rPr>
              <a:t>}</a:t>
            </a:r>
            <a:br>
              <a:rPr sz="2000"/>
            </a:br>
            <a:r>
              <a:rPr b="0" lang="en-IN" sz="2000" spc="-1" strike="noStrike">
                <a:solidFill>
                  <a:srgbClr val="993300"/>
                </a:solidFill>
                <a:latin typeface="Arial"/>
              </a:rPr>
              <a:t>rdr.Close(); conn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lso  access non-relational data sources such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E-DB, XML data, Entity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mbedded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4760" y="1134720"/>
            <a:ext cx="79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QL standard defines embeddings of SQL in a variety of programming languages such as C, Java, and Cob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nguage to which SQL queries are embedded is referred to as 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ost langu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the SQL structures permitted in the host language compri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mbedd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c form of these languages follows that of the System R embedding of SQL into PL/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XEC SQ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ment is used to identify embedded SQL request to the pre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 SQL &lt;embedded SQL statement &gt; END_EX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his varies by language (for example, the Java embedding uses    # SQL { …. };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8360" y="2233080"/>
            <a:ext cx="7970760" cy="33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6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the query in SQL and declar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rs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6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EXEC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6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declare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cursor for </a:t>
            </a:r>
            <a:br>
              <a:rPr sz="2000"/>
            </a:b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select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ID, name</a:t>
            </a:r>
            <a:br>
              <a:rPr sz="2000"/>
            </a:b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student</a:t>
            </a:r>
            <a:br>
              <a:rPr sz="2000"/>
            </a:b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where tot_cred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 &gt; :credit_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6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END_EX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6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841320" y="1135080"/>
            <a:ext cx="7238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6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within a host language, find the ID and name of students who have completed more than the number of credits stored in variable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redit_am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mbedded SQ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9440" y="1135080"/>
            <a:ext cx="78530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ment causes the query to be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876"/>
              </a:spcBef>
              <a:buNone/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EXEC SQL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c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END_EX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et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causes the values of one tuple in the query result to be placed on host language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876"/>
              </a:spcBef>
              <a:buNone/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EXEC SQL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fetch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into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si, :sn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END_EXE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calls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t successive tuples in the query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riable called SQLSTATE in the SQL communication area (SQLCA) gets set to ‘02000’ to indicate no more data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causes the database system to delete the temporary relation that holds the result of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876"/>
              </a:spcBef>
              <a:buNone/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EXEC SQL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END_EX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876"/>
              </a:spcBef>
              <a:buNone/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above details vary with language.  For example, the Java              embedding defines Java iterators to step through result tu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s Through Curso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841320" y="1135080"/>
            <a:ext cx="784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pdate tuples fetched by cursor by declaring that the cursor is for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declare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cursor for</a:t>
            </a:r>
            <a:br>
              <a:rPr sz="2000"/>
            </a:b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  select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*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= ‘Music’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for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update tuple at the current location of curs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update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salary = salary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+ 100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where current of 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76"/>
              </a:spcBef>
              <a:tabLst>
                <a:tab algn="l" pos="0"/>
                <a:tab algn="ctr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ocedural Constructs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-419400"/>
            <a:ext cx="807696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al Extensions and Stored Procedur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9218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 provide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ngu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s definition of procedures in SQL, with if-then-else statements, for and while loop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tore procedures in the data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xecute them us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 external applications to operate on the database without knowing about internal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aspects of these features are covered in Chapter 22 (Object Based Datab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DBC and ODBC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I (application-program interface) for a program to interact with a database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akes call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with the database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SQL commands to the database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 tuples of result one-by-one into program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(Open Database Connectivity) works with C, C++, C#, and Visual B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PI’s such as ADO.NET sit on top of OD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DBC (Java Database Connectivity) works with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unctions and Proced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8240" y="1134720"/>
            <a:ext cx="830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:1999 supports functions an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/procedures can be written in SQL itself, or in an external programming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particularly useful with specialized data types such as images and geometric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functions to check if polygons overlap, or to compare images for simila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atabase systems suppor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able-valued fun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can return a relation as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:1999 also supports a rich set of imperative constructs, inclu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s, if-then-else,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databases have proprietary procedural extensions to SQL that differ from SQL: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 Fun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1370160"/>
                <a:tab algn="l" pos="2112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function that, given the name of a department, returns the count of the number of instructors in that depar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0"/>
                <a:tab algn="l" pos="803160"/>
                <a:tab algn="l" pos="1370160"/>
                <a:tab algn="l" pos="2112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fun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cou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)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s integ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decl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_cou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select cou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_cou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.dept_name = dept_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_count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1370160"/>
                <a:tab algn="l" pos="2112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department name and budget of all departments with more that 12 instru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0"/>
                <a:tab algn="l" pos="803160"/>
                <a:tab algn="l" pos="1370160"/>
                <a:tab algn="l" pos="2112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, budge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epartme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&g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able Fun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1120" y="842760"/>
            <a:ext cx="7794720" cy="55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:2003 added functions that return a relation as a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Return all accounts owned by a given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s_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,2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, name, dept_name, sal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nstructor.dept_name = instructors_of.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*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ab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s_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‘Music’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98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 Proced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5520" y="972720"/>
            <a:ext cx="805500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cou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could instead be written as proced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procedu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count_pro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_cou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_cou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.dept_name = dept_count_proc.dept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 can be invoked either from an SQL procedure or from embedded SQL, us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_cou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count_pr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‘Physics’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_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 and functions can be invoked also from dynamic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:1999 allows more than one function/procedure of the same name (called nam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verloa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as long as the number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guments differ, or at least the types of the arguments di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ocedural Construc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41320" y="1135080"/>
            <a:ext cx="7966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rning: most database systems implement their own variant of the standard syntax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d your system manual to see what works on you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und statement: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egin … 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contain multiple SQL statements betwee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egi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al variables can be declared within a compound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pea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tateme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clar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ger defaul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l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 10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 whi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til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 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ocedural Construct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mits iteration over all results of a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defaul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dg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‘Music’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dge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ocedural Construct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3520" y="1134720"/>
            <a:ext cx="879012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al statements 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-then-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:1999 also support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ment similar to C case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procedure: registers student after ensuring classroom capacity is not exc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s 0 on success and -1 if capacity is exc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book fo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ing of exception conditions, and declaring handlers for exce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_of_classroom_sea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e exit handler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_of_classroom_seat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.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_of_classroom_sea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andler here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causes enclo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..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ex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ctions possible on 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xternal Language Functions/Procedur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40960" y="1134720"/>
            <a:ext cx="805644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:1999 permits the use of functions and procedures written in other languages such as C or C+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ing external language procedures and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proced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t_count_proc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/usr/avi/bin/dept_count_proc’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fun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t_count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/usr/avi/bin/dept_coun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rnal Language Routin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937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s of external language functions/procedure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fficient for many operations, and more expressive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to implement function may need to be loaded into database system and executed in the database system’s address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of accidental corruption of database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risk, allowing users access to unauthoriz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lternatives, which give good security at the cost of potentially wors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execution in the database system’s space is used when efficiency is more important than secu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ecurity with External Language Routin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al with security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andb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 use a safe language like Java, which cannot be used to    access/damage other parts of the database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run external language functions/procedures in a separate process, with no access to the database process’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s and results communicated via inter-process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have performance overh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database systems support both above approaches as well as direct executing in database system address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DBC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41320" y="1134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DB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Java API for communicating with database systems supporting SQ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DBC supports a variety of features for querying and updating data, and for retrieving query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DBC also supports metadata retrieval, such as querying about relations present in the database and the names and types of relation attrib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for communicating with the datab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“statement”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queries using the Statement object to send queries and fetch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 mechanism to handle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igg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igg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56960" y="1207800"/>
            <a:ext cx="701028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rig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tatement that is executed automatically by the system as a side effect of a modification to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sign a trigger mechanism, we mu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the conditions under which the trigger is to be exec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the actions to be taken when the trigger exec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s introduced to SQL standard in SQL:1999, but supported even earlier using non-standard syntax by most databas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yntax illustrated here may not work exactly on your database system; check the system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igger Example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85360" y="1279440"/>
            <a:ext cx="8148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a primary key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slot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we cannot create a foreign key constraint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s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: use triggers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s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nforce integrity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rigg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slot_check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insert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ing new row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r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r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row.time_slot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_i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/*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_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esen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rollba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igger Example Cont.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3760" y="1163520"/>
            <a:ext cx="875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0792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rigg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slot_check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delete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slo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ing old row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r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ow.time_slot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_id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last tuple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slot 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d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sl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/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ow.time_slot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_id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/*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_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referenced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rollba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iggering Events and Actions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99640" y="1171440"/>
            <a:ext cx="761364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ing event can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s on update can be restricted to specific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after updat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ak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of attributes before and after an update can be refere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ing old row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deletes an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ing new row as 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serts an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s can be activated before an event, which can serve as extra constraints.  E.g. convert blank grades to n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rigg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tnull_trigg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updat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ing new row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r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r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row.gr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‘ ‘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 atomi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row.gra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ll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igger to Maintain credits_earned valu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create trigger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credits_earned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after update of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takes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grade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referencing new row as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nrow</a:t>
            </a:r>
            <a:br>
              <a:rPr sz="2000"/>
            </a:b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referencing old row as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orow</a:t>
            </a:r>
            <a:br>
              <a:rPr sz="2000"/>
            </a:b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for each row</a:t>
            </a:r>
            <a:br>
              <a:rPr sz="2000"/>
            </a:b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nrow.grade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&lt;&gt; ’F’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nrow.grade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is not null</a:t>
            </a:r>
            <a:br>
              <a:rPr sz="2000"/>
            </a:b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    and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orow.grade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= ’F’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orow.grade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is null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begin atomic</a:t>
            </a:r>
            <a:br>
              <a:rPr sz="2000"/>
            </a:b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     update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student</a:t>
            </a:r>
            <a:br>
              <a:rPr sz="2000"/>
            </a:b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tot_cred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tot_cred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+ </a:t>
            </a:r>
            <a:br>
              <a:rPr sz="2000"/>
            </a:b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          (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credits</a:t>
            </a:r>
            <a:br>
              <a:rPr sz="2000"/>
            </a:b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course</a:t>
            </a:r>
            <a:br>
              <a:rPr sz="2000"/>
            </a:b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nrow.course_id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student.id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nrow.id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atement Level Trigg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43120" y="1193760"/>
            <a:ext cx="73008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executing a separate action for each affected row, a single action can be executed for all rows affected by a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statement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ing old 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or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ing new 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to refer to temporary tables  (called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transition t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ontaining the affected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more efficient when dealing with SQL statements that update a large number of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hen Not To Use Trigg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6520" y="1142640"/>
            <a:ext cx="84405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s were used earlier for tasks such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ing summary data (e.g., total salary of each depart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icating databases by recording changes to special relations (called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l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ons) and having a separate process that applies the changes over to a repl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better ways of doing these 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 today provide built in materialized view facilities to maintain summar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 provide built-in support for re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 facilities can be used instead of triggers in many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methods to update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out actions as part of the update methods instead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 a trig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hen Not To Use Trigg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400" y="1142640"/>
            <a:ext cx="7894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of unintended execution of triggers, for example,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ing data from a backup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icating updates at a remot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 execution can be disabled before such 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isks with trigg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leading to failure of critical transactions that set off the 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cading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ursive 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DBC Co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6520" y="1135080"/>
            <a:ext cx="84564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public static void JDBCexample(String dbid, String userid, String passw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try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Class.forName ("oracle.jdbc.driver.OracleDriver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Connection conn = DriverManager.getConnection(     </a:t>
            </a:r>
            <a:br>
              <a:rPr sz="1600"/>
            </a:b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  "jdbc:oracle:thin: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@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db.yale.edu:2000:univdb", userid, passw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Statement stmt = conn.createStatement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         …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Do Actual Work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stmt.close();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conn.close();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}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catch (SQLException sqle) {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System.out.println("SQLException : " + sqle);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}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ursion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9320" y="90000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:1999 permits recursive view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find which courses are a prerequisite, whether directly or indirectly, for a specific cours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recursi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_prer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_i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_prer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_rer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_prer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_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∗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_prer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example view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_prereq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itive clos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65560" y="5986440"/>
            <a:ext cx="664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Note: 1</a:t>
            </a:r>
            <a:r>
              <a:rPr b="0" lang="en-US" sz="1800" spc="-1" strike="noStrike" baseline="30000">
                <a:solidFill>
                  <a:srgbClr val="cc33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printing of 6</a:t>
            </a:r>
            <a:r>
              <a:rPr b="0" lang="en-US" sz="18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ed erroneously used c_prereq in place of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rec_prereq in some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Power of Recurs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2680" y="1164960"/>
            <a:ext cx="80406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ive views make it possible to write queries, such as transitive closure queries, that cannot be written without recursion or it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9440" indent="-1112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uition:  Without recursion, a non-recursive non-iterative program can perform only a fixed number of join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3360" indent="-8892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give only a fixed number of levels of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3360" indent="-8892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fixed non-recursive query, we can construct a database with a greater number of levels of prerequisites on which the query will no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3360" indent="-8892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: write a procedure to iterate as many times a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0341800" indent="-19806840"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procedu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dAllPrereq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Power of Recurs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42680" y="1164960"/>
            <a:ext cx="80406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transitive closure using iteration, adding successive tuples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_pre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xt slide show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ep of the iterative process constructs an extended vers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_prere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ts recursive defini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nal result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recursive view defin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ive views are required to b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notoni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, if we add tuples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vi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_prere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all of the tuples it contained before, plus possibly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61560" y="727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Fixed-Point Comput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98" name="Picture 3" descr="5"/>
          <p:cNvPicPr/>
          <p:nvPr/>
        </p:nvPicPr>
        <p:blipFill>
          <a:blip r:embed="rId1"/>
          <a:stretch/>
        </p:blipFill>
        <p:spPr>
          <a:xfrm>
            <a:off x="3611520" y="1193760"/>
            <a:ext cx="1920960" cy="1870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5"/>
          <p:cNvPicPr/>
          <p:nvPr/>
        </p:nvPicPr>
        <p:blipFill>
          <a:blip r:embed="rId2"/>
          <a:stretch/>
        </p:blipFill>
        <p:spPr>
          <a:xfrm>
            <a:off x="2433600" y="3603600"/>
            <a:ext cx="4275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dvanced Aggregation Fea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an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5800" y="880920"/>
            <a:ext cx="837432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 is done in conjunction with an order by specifica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we are given a re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_grades(ID, GPA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ing the grade-point average of each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rank of each stu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)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_ran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_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tr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 is needed to get them in sorte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)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_ran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_grade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_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 may leave gaps: e.g. if 2 students have the same top GPA, both have rank 1, and the next rank is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se_ran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leave gaps, so next dense rank would b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an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 can be done using basic SQL aggregation, but resultant query is very in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, (1 + (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select count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(*)</a:t>
            </a:r>
            <a:br>
              <a:rPr sz="2000"/>
            </a:b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student_grades B</a:t>
            </a:r>
            <a:br>
              <a:rPr sz="2000"/>
            </a:b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GPA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GPA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s_rank</a:t>
            </a:r>
            <a:br>
              <a:rPr sz="2000"/>
            </a:b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student_grades A</a:t>
            </a:r>
            <a:br>
              <a:rPr sz="2000"/>
            </a:b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IN" sz="2000" spc="-1" strike="noStrike">
                <a:solidFill>
                  <a:srgbClr val="000000"/>
                </a:solidFill>
                <a:latin typeface="Arial"/>
              </a:rPr>
              <a:t>s_rank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ank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832968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 can be done within partition of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rank of students within each departm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tion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P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rank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grad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ra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uses can occur in a sing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 is do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ly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use/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to find top-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general tha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use supported by many databases, since it allows top-n within each par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ank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anking function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_ran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in partition, if partitioning is d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me_d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umulative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ction of tuples with preceding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w_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deterministic in presence of duplic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:1999 permits the user to specif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lls fir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lls 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P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 nulls la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_ran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_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ank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given consta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ranking the fun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t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akes the tuples in each partition in the specified order, and divides them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ckets with equal numbers of tu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t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P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arti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_gr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DBC Cod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41320" y="1134720"/>
            <a:ext cx="812952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to database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try {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stmt.executeUpdate(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  "insert into instructor values(’77987’, ’Kim’, ’Physics’, 98000)");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} catch (SQLException sqle)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System.out.println("Could not insert tuple. " + sqle);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query and fetch and prin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ResultSet rset = stmt.executeQuery(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                        "select dept_name, avg (salary)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                         from instructor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                         group by dept_name");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while (rset.next()) {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System.out.println(rset.getString("dept_name") + " " +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                                      rset.getFloat(2));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indow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1800" y="1114200"/>
            <a:ext cx="830592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mooth out random vari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oving a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“Given sales values for each date, calculate for each date the average of the sales on that day, the previous day, and the next d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ndow specif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SQ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(date,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e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ween row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eding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llow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indow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8600" y="1114200"/>
            <a:ext cx="809928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of other window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ween rows unbounded preceding and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ws unbounded prec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 betwe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eceding and current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rows with values between current row value –10 to current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interv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ay prec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cluding current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indow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do windowing within part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Given a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unt_number, date_time, 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where value is positive for a deposit and negative for a withdraw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otal balance of each account after each transaction on the accou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unt_number, date_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tion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unt_numb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e_ti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ws unbounded prece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lan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a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unt_number, date_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LAP**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Analysis and OLAP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03200" y="1093680"/>
            <a:ext cx="83311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nline Analytical Processing (OL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analysis of data, allowing data to be summarized and viewed in different ways in an online fashion (with negligible de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hat can be modeled as dimension attributes and measure attributes are called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ultidimensional 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easure attrib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so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ggregated up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the attribu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mension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he dimensions on which measure attributes (or aggregates thereof) are vie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iz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8240" y="117360"/>
            <a:ext cx="41227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xample sales relation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23" name="Picture 3" descr="5"/>
          <p:cNvPicPr/>
          <p:nvPr/>
        </p:nvPicPr>
        <p:blipFill>
          <a:blip r:embed="rId1"/>
          <a:srcRect l="0" t="0" r="0" b="43851"/>
          <a:stretch/>
        </p:blipFill>
        <p:spPr>
          <a:xfrm>
            <a:off x="2374920" y="884160"/>
            <a:ext cx="4046400" cy="5351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730240" y="6276960"/>
            <a:ext cx="34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90720" y="6276960"/>
            <a:ext cx="34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05120" y="6276960"/>
            <a:ext cx="34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16240" y="6276960"/>
            <a:ext cx="34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1200" y="5220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ross Tabulation of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sales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by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item_name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color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1160" y="3959280"/>
            <a:ext cx="8289720" cy="26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ble above is an example of 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ross-tabulation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ross-t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also referred to as 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ivot-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for one of the dimension attributes form the row h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for another dimension attribute form the column h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dimension attributes are listed on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in individual cells are (aggregates of) the values of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ension attributes that specify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920880" y="685800"/>
            <a:ext cx="7095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Cub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9040" y="5059440"/>
            <a:ext cx="81820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888840" y="939960"/>
            <a:ext cx="78962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ata cu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multidimensional generalization of a cross-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a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mensions; we show 3 bel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tabs can be used as views on a data 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328840" y="2503440"/>
            <a:ext cx="453852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ierarchies on Dimen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rcRect l="1066" t="9091" r="3196" b="10229"/>
          <a:stretch/>
        </p:blipFill>
        <p:spPr>
          <a:xfrm>
            <a:off x="1600200" y="2565360"/>
            <a:ext cx="5969160" cy="37720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"/>
          <p:cNvSpPr/>
          <p:nvPr/>
        </p:nvSpPr>
        <p:spPr>
          <a:xfrm>
            <a:off x="635040" y="936720"/>
            <a:ext cx="78994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erarc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dimension attributes: lets dimensions to be viewed at different levels of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10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E.g., the dimension DateTime can be used to aggregate by hour of day, date, day of week, month, quarter o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2840" y="161640"/>
            <a:ext cx="76327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ross Tabulation With Hierarch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660240" y="1165320"/>
            <a:ext cx="78994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tabs can be easily extended to deal with hierarch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an drill down or roll up on a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5"/>
          <p:cNvPicPr/>
          <p:nvPr/>
        </p:nvPicPr>
        <p:blipFill>
          <a:blip r:embed="rId1"/>
          <a:stretch/>
        </p:blipFill>
        <p:spPr>
          <a:xfrm>
            <a:off x="534960" y="2484360"/>
            <a:ext cx="77929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DBC Code Details      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ting result f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rs.getString(“dept_name”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rs.getString(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quivalent if dept_name is the first argument of select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ling with Null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int a = rs.getInt(“a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if (rs.wasNull()) Systems.out.println(“Got null value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1960" y="-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al Representation of Cross-tab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371520" y="1143000"/>
            <a:ext cx="4149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tabs can be represented as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We use the val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is used to represent aggreg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he SQL standard actually uses null values in plac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despite confusion with regular null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5"/>
          <p:cNvPicPr/>
          <p:nvPr/>
        </p:nvPicPr>
        <p:blipFill>
          <a:blip r:embed="rId1"/>
          <a:stretch/>
        </p:blipFill>
        <p:spPr>
          <a:xfrm>
            <a:off x="4734000" y="1017720"/>
            <a:ext cx="386064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nded Aggregation to Support OLAP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57120" y="961560"/>
            <a:ext cx="83916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computes union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 on every subset of the specified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relation for this sec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em_name, color, clothes_size, quant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onsider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em_name, color, siz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e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 cu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mputes the union of eight different groupings o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em_name, col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em_name,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      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lor,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em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              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                             ( )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 ) denotes an emp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grouping, the result contains the null valu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ttributes not present in the group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nline Analytical Processing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9440" y="936720"/>
            <a:ext cx="8217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al representation of cross-tab that we saw earlier, but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lac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an be comput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 cu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ing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pplied on an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s 1 if the value is a null value representing all, and returns 0 in all other ca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_fl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lor_fl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ze_fl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 cu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nline Analytical Processing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9440" y="936720"/>
            <a:ext cx="8217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the fun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od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use to replac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nulls by a value such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epla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first query b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te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1, ‘all’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nded Aggreg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987480"/>
            <a:ext cx="823896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l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 generates union on every prefix of specified list of attribu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 roll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union of four group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( 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lup can be used to generate aggregates at multiple levels of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suppose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categ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ateg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gives the category of each item. Th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egory, item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, itemcatego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.item_name = itemcategory.item_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 roll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egory, item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give a hierarchical summary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eg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nded Aggreg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34520" y="1114560"/>
            <a:ext cx="833436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ollups and cubes can be used in a single group by 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generates set of group by lists, cross product of sets gives overall set of group by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 roll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l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the group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()} X {(color, size), (color), ()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( 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nline Analytical Processing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680" y="1114200"/>
            <a:ext cx="787392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ivoting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the dimensions used in a cross-tab is ca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lic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reating a cross-tab for fixed value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called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c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articularly when values for multiple dimensions are fix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ollu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ving from finer-granularity data to a coarser granula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rill dow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opposite operation -  that of moving from coarser-granularity data to finer-granularit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LAP Implement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71680" y="1114560"/>
            <a:ext cx="801360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liest OLAP systems used multidimensional arrays in memory to store data cubes, and are referred to as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ultidimensional OLAP (MOLA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AP implementations using only relational database features are called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lational OLAP (ROLA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 systems, which store some summaries in memory and store the base data and other summaries in a relational database, are called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ybrid OLAP (HOLAP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LAP Implement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66840" y="1050480"/>
            <a:ext cx="860112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OLAP systems precomput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sible aggregates in order to provide onlin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 and time requirements for doing so can be very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bination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uffices to precompute some aggregates, and compute others on demand from one of the precomputed aggre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ompute aggregate 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rom an aggregate 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but a few “non-decomposable” aggregates such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cheaper than computing it from scrat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optimizations available for computing multiple aggre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ompute aggregate 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rom an aggregate 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ompute aggregates 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,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, 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using a single sort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bas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epared Statemen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7280" y="1093680"/>
            <a:ext cx="81630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PreparedStatement pStmt = conn.prepareStatement(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                                             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"insert into instructor values(?,?,?,?)")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pStmt.setString(1, "88877");      pStmt.setString(2, "Perry")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pStmt.setString(3, "Finance");   pStmt.setInt(4, 125000)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pStmt.executeUpdate();    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pStmt.setString(1, "88878");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pStmt.executeUpdat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queries, use pStmt.executeQuery(), which returns a ResultSet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NING: always use prepared statements when taking an input from the user and adding it to a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EVER create a query by concatenating strings which you get a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"insert into instructor values(’ " + ID + " ’, ’ " + name + " ’, " +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                                           " ’ + dept name + " ’, " ’ balance + ")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f name is “D’Souza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5.2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62" name="Picture 3" descr="5"/>
          <p:cNvPicPr/>
          <p:nvPr/>
        </p:nvPicPr>
        <p:blipFill>
          <a:blip r:embed="rId1"/>
          <a:stretch/>
        </p:blipFill>
        <p:spPr>
          <a:xfrm>
            <a:off x="2604960" y="1984320"/>
            <a:ext cx="3573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5.2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64" name="Picture 3" descr="5"/>
          <p:cNvPicPr/>
          <p:nvPr/>
        </p:nvPicPr>
        <p:blipFill>
          <a:blip r:embed="rId1"/>
          <a:stretch/>
        </p:blipFill>
        <p:spPr>
          <a:xfrm>
            <a:off x="3073320" y="2443320"/>
            <a:ext cx="253044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5.2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66" name="Picture 3" descr="5"/>
          <p:cNvPicPr/>
          <p:nvPr/>
        </p:nvPicPr>
        <p:blipFill>
          <a:blip r:embed="rId1"/>
          <a:stretch/>
        </p:blipFill>
        <p:spPr>
          <a:xfrm>
            <a:off x="3230640" y="1806480"/>
            <a:ext cx="262404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nother Recursion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71200" y="116496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rela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oyee_name, manager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employee-manager pairs, where the employee reports to the manager directly or indirectly (that is manager’s manager, manager’s manager’s manager, etc.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recur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oyee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oyee_name, manager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nager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oyee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_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ye_nam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xample view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nsitive 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rge statement (now in Chapter 24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 construct allows batch processing of upd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nds_recei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number, am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has batch of deposits to be added to the proper account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nds_recei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account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.account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matched 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update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.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 Inje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9059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query is constructed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"select * from instructor where name = ’" + name + "’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the user, instead of entering a name, en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’ or ’Y’ = ’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resulting statement beco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"select * from instructor where name = ’" + "X’ or ’Y’ = ’Y" + "’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elect * from instructor where name = ’X’ or ’Y’ = ’Y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could have even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’; update instructor set salary = salary + 10000; 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statement internally uses: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"select * from instructor where name = ’X\’ or \’Y\’ = \’Y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lways use prepared statements, with user inputs as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Sudarshan</cp:lastModifiedBy>
  <cp:lastPrinted>2005-01-10T21:51:57Z</cp:lastPrinted>
  <dcterms:modified xsi:type="dcterms:W3CDTF">2011-07-11T13:07:29Z</dcterms:modified>
  <cp:revision>342</cp:revision>
  <dc:subject/>
  <dc:title>Chapter 1:  Introduction</dc:title>
</cp:coreProperties>
</file>