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097309-6277-4AD9-9AE7-5111A48D7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9F27B8-EB25-4191-ADAC-2FBE2A750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8D81C4-D300-48B4-A038-2156A3082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2F2AD1-27CE-4550-8015-98EB8A0ED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3AFDFE-E9BB-43C9-948E-10F7BD965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843DCA-BC3F-4999-BB66-6AE7A1090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C1A288-F0F2-425F-8C62-BD3B87E72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7302E9-ABCB-4A17-BA50-10E01A7C2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4B3404-0538-4570-AEC2-907D3A706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83BC3F-2D60-49FA-A635-5A6904821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16E6CD-99FF-4DD1-A040-B653DA570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5B0817-21AE-4C5B-9011-986074F61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C83E34-AC21-4C99-BBEE-DE6E1FEE3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160293-672D-4E82-BB09-E6BBE3C8B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F016D9-1094-49C6-9877-41DEC17AE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84311E-FF75-441B-AC6F-3373065BD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D19B2E-4D46-4446-B267-EB22747A0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168F90-F069-4DB6-ADE3-02D0DCA75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408362-2762-4EEA-962A-2824EEF62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02137F-953F-4063-8553-C25B86225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E519D5-AB5C-410E-A1A1-D68046126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1CD5D6-0BFD-496E-8385-BEB426804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5B92D8-D008-447C-8EAE-0A9B13FEB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893413-F971-4A10-A465-FDFA949AB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FF92F0-BBB7-492E-842B-8394C0AAC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97C1AB-D3E6-47C3-B9D4-1451A2E91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E2DEF6-2A82-43BB-9888-98C070621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5FF171-85FA-44A6-AE12-F367767F2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0C9921-6D3F-41A4-BC2F-C6A961AE5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3D7B45-4689-4B14-B003-40558CB7A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CBDADB-0FB4-4F0C-A7F6-E3F4048F7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351083-CF61-4B8C-80E2-A3E229DAD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AEB580-8B17-429C-B00B-66218A8BE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8FFB27-045C-4B8C-A35B-194FBB39F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A39B4F-0914-46D6-BDE7-C8E4AF336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F6714D-5872-40C7-A12F-7F33FB397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07D084-ECAC-4CB0-B7B7-35543D301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3B2DA3-57AC-4AA4-BDC3-D212E2AAC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2C95F9-889E-4EEC-A51E-87B15FCE2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20.</a:t>
            </a:r>
            <a:fld id="{F3999458-AC8B-4C98-91A6-EDFA792800BA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0: Data Analysi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Warehouse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71480" y="930240"/>
            <a:ext cx="8102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i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440" y="974520"/>
            <a:ext cx="789948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ning is the process of semi-automatically analyzing large databases to find useful pattern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di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past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f a credit card applicant poses a good credit risk, based on some attributes (income, job type, age, ..) and past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f a pattern of phone calling card usage is likely to be fraud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xamples of prediction mechanis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new item whose class is unknown, predict to which class it bel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mul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mappings for an unknown function, predict the function result for a new paramet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in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books that are often bought by “similar” customers.  If a new such customer buys one such book, suggest the others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 may be used as a first step in detect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ssociation between exposure to chemical X and canc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yphoid cases were clustered in an area surrounding a contaminated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clusters remains important in detecting epi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assification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8720" y="1079280"/>
            <a:ext cx="7848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rules help assign new objects to cla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given a new automobile insurance applicant, should he or she be classified as low risk, medium risk or high r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rules for above example could use a variety of data, such as educational level, salary, ag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P,  P.degree = ma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.income &gt; 75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credit = excel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P,  P.degree = bachelo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(P.inco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,000 and P.inco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5,00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.credit =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are not necessarily exact: there may be some mis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rules can be shown compactly as a decision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cision 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870120" y="976320"/>
            <a:ext cx="7883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4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struction of Decision 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4680" y="1015560"/>
            <a:ext cx="7581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ining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data sample in which the classification is already known.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ee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p down generation of decision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ternal node of the tree partitions the data into groups based on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tioning attrib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tioning conditio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(or most) of the items at the node belong to the same clas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ttributes have been considered, and no further partitioning is pos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93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st Spli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7120" y="1098720"/>
            <a:ext cx="762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best attributes and conditions on which to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ity of a set S of training instances can be measured quantitatively in several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tion: number of classes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number of instances = |S|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of instances in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sure of purity is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ni (S) = 1 -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instances are in a single class, the Gini value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aches its maximum (of 1 –1 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f each class the same number of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3968640" y="3086280"/>
            <a:ext cx="806040" cy="793080"/>
            <a:chOff x="3968640" y="3086280"/>
            <a:chExt cx="806040" cy="793080"/>
          </a:xfrm>
        </p:grpSpPr>
        <p:sp>
          <p:nvSpPr>
            <p:cNvPr id="123" name="Text Box 5"/>
            <p:cNvSpPr/>
            <p:nvPr/>
          </p:nvSpPr>
          <p:spPr>
            <a:xfrm flipH="1">
              <a:off x="4006080" y="3086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 flipH="1">
              <a:off x="3968640" y="3572280"/>
              <a:ext cx="50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 flipH="1">
              <a:off x="4253400" y="3286440"/>
              <a:ext cx="52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0800" y="792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st Spli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4200" y="1172880"/>
            <a:ext cx="81849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measure of purity is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rop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, which is defin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opy (S) =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et S is split into multiple sets Si, I=1, 2, …, r, we can          measure the purity of the resultant set of sets 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ty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..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tion gain due to particular split of S int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 = 1, 2, ….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ormation-g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urity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purity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"/>
          <p:cNvGrpSpPr/>
          <p:nvPr/>
        </p:nvGrpSpPr>
        <p:grpSpPr>
          <a:xfrm>
            <a:off x="4083120" y="3255840"/>
            <a:ext cx="1851120" cy="820440"/>
            <a:chOff x="4083120" y="3255840"/>
            <a:chExt cx="1851120" cy="820440"/>
          </a:xfrm>
        </p:grpSpPr>
        <p:sp>
          <p:nvSpPr>
            <p:cNvPr id="129" name="Text Box 5"/>
            <p:cNvSpPr/>
            <p:nvPr/>
          </p:nvSpPr>
          <p:spPr>
            <a:xfrm>
              <a:off x="4168800" y="3255840"/>
              <a:ext cx="27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4083120" y="3757320"/>
              <a:ext cx="50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446720" y="3300120"/>
              <a:ext cx="5490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4467240" y="36622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4776120" y="3409560"/>
              <a:ext cx="11581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ity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4182840" y="1584360"/>
            <a:ext cx="1325160" cy="827640"/>
            <a:chOff x="4182840" y="1584360"/>
            <a:chExt cx="1325160" cy="827640"/>
          </a:xfrm>
        </p:grpSpPr>
        <p:sp>
          <p:nvSpPr>
            <p:cNvPr id="135" name="Text Box 11"/>
            <p:cNvSpPr/>
            <p:nvPr/>
          </p:nvSpPr>
          <p:spPr>
            <a:xfrm flipH="1">
              <a:off x="4213800" y="1584360"/>
              <a:ext cx="45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12"/>
            <p:cNvGrpSpPr/>
            <p:nvPr/>
          </p:nvGrpSpPr>
          <p:grpSpPr>
            <a:xfrm>
              <a:off x="4182840" y="1851120"/>
              <a:ext cx="1325160" cy="560880"/>
              <a:chOff x="4182840" y="1851120"/>
              <a:chExt cx="1325160" cy="560880"/>
            </a:xfrm>
          </p:grpSpPr>
          <p:sp>
            <p:nvSpPr>
              <p:cNvPr id="137" name="Text Box 13"/>
              <p:cNvSpPr/>
              <p:nvPr/>
            </p:nvSpPr>
            <p:spPr>
              <a:xfrm flipH="1">
                <a:off x="4182480" y="210492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-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4"/>
              <p:cNvSpPr/>
              <p:nvPr/>
            </p:nvSpPr>
            <p:spPr>
              <a:xfrm flipH="1">
                <a:off x="4555440" y="1851120"/>
                <a:ext cx="952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st Split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960" y="103356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of “cost” of a spli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nformation-conten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) =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ormation-gain rat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Information-gai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-conten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split is the one that gives the maximum information gai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6"/>
          <p:cNvGrpSpPr/>
          <p:nvPr/>
        </p:nvGrpSpPr>
        <p:grpSpPr>
          <a:xfrm>
            <a:off x="6149880" y="1179360"/>
            <a:ext cx="1630440" cy="808560"/>
            <a:chOff x="6149880" y="1179360"/>
            <a:chExt cx="1630440" cy="808560"/>
          </a:xfrm>
        </p:grpSpPr>
        <p:sp>
          <p:nvSpPr>
            <p:cNvPr id="142" name="Line 8"/>
            <p:cNvSpPr/>
            <p:nvPr/>
          </p:nvSpPr>
          <p:spPr>
            <a:xfrm>
              <a:off x="6508440" y="15732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5"/>
            <p:cNvGrpSpPr/>
            <p:nvPr/>
          </p:nvGrpSpPr>
          <p:grpSpPr>
            <a:xfrm>
              <a:off x="6149880" y="1179360"/>
              <a:ext cx="1630440" cy="808560"/>
              <a:chOff x="6149880" y="1179360"/>
              <a:chExt cx="1630440" cy="808560"/>
            </a:xfrm>
          </p:grpSpPr>
          <p:sp>
            <p:nvSpPr>
              <p:cNvPr id="144" name="Text Box 9"/>
              <p:cNvSpPr/>
              <p:nvPr/>
            </p:nvSpPr>
            <p:spPr>
              <a:xfrm>
                <a:off x="6847200" y="1380960"/>
                <a:ext cx="500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14"/>
              <p:cNvGrpSpPr/>
              <p:nvPr/>
            </p:nvGrpSpPr>
            <p:grpSpPr>
              <a:xfrm>
                <a:off x="6149880" y="1179360"/>
                <a:ext cx="1630440" cy="808560"/>
                <a:chOff x="6149880" y="1179360"/>
                <a:chExt cx="1630440" cy="808560"/>
              </a:xfrm>
            </p:grpSpPr>
            <p:grpSp>
              <p:nvGrpSpPr>
                <p:cNvPr id="146" name="Group 13"/>
                <p:cNvGrpSpPr/>
                <p:nvPr/>
              </p:nvGrpSpPr>
              <p:grpSpPr>
                <a:xfrm>
                  <a:off x="6149880" y="1179360"/>
                  <a:ext cx="1630440" cy="808560"/>
                  <a:chOff x="6149880" y="1179360"/>
                  <a:chExt cx="1630440" cy="808560"/>
                </a:xfrm>
              </p:grpSpPr>
              <p:sp>
                <p:nvSpPr>
                  <p:cNvPr id="147" name="Text Box 5"/>
                  <p:cNvSpPr/>
                  <p:nvPr/>
                </p:nvSpPr>
                <p:spPr>
                  <a:xfrm>
                    <a:off x="6235560" y="1179360"/>
                    <a:ext cx="2746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Text Box 6"/>
                  <p:cNvSpPr/>
                  <p:nvPr/>
                </p:nvSpPr>
                <p:spPr>
                  <a:xfrm>
                    <a:off x="6149880" y="1680840"/>
                    <a:ext cx="503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 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Text Box 7"/>
                  <p:cNvSpPr/>
                  <p:nvPr/>
                </p:nvSpPr>
                <p:spPr>
                  <a:xfrm>
                    <a:off x="6475320" y="1223640"/>
                    <a:ext cx="549360" cy="74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Text Box 10"/>
                  <p:cNvSpPr/>
                  <p:nvPr/>
                </p:nvSpPr>
                <p:spPr>
                  <a:xfrm>
                    <a:off x="7230960" y="1220760"/>
                    <a:ext cx="549360" cy="72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0" i="1" lang="en-US" sz="1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r>
                      <a: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|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Line 11"/>
                <p:cNvSpPr/>
                <p:nvPr/>
              </p:nvSpPr>
              <p:spPr>
                <a:xfrm>
                  <a:off x="7289640" y="157932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" name="Line 12"/>
          <p:cNvSpPr/>
          <p:nvPr/>
        </p:nvSpPr>
        <p:spPr>
          <a:xfrm>
            <a:off x="3666960" y="2476440"/>
            <a:ext cx="45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nding Best Spli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attributes (with no meaningful ord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way split, one child for each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split: try all possible breakup of values into two sets, and pick 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-valued attributes (can be sorted in a meaningful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spl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values, try each as a spli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if values are 1, 10, 15, 25, split at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value that gives best sp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way spl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ies of binary splits on the same attribute has roughly equivalent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0: Data Analysi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Suppor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areho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82720" y="1108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cision-Tree Constructio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2480" y="1254240"/>
            <a:ext cx="84884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w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|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evaluate splits on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 best split found (across all attributes) to part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.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2, …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Parti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Types of Classifi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1080" y="1220400"/>
            <a:ext cx="828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net classifiers are studied in artificial intelligence and are not covered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esian classifiers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yes theor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robability of in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in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robability of generating in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n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obability of occurrence of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robability of in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10080" y="381636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ïve Bayesian Classifi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esian classifier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mput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ignored since it is the same for al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implify the task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Bayesian classif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ume attributes have independent distributions, and thereby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….*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estimated from a histogram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for each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gram is computed from the training inst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on multiple attributes are more expensive to compute and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gres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68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deals with the prediction of a value, rather than a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values for a set of variables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 wish to predict the value of a variable 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ay is to infer coefficient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such a linear polynomial is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ear reg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the process of finding a curve that fits the data is 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ve fit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t may only be approx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noise in the data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relationship is not exactly a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ims to find coefficients that give the best possible 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ociation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962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shops are often interested in associations between different items that people bu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 who buys bread is quite likely also to buy 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bought the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 System Conce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quite likely also to buy the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rating System Conce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 information can be used in several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hen a customer buys a particular book, an online shop may suggest associated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ociation r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e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k          DB-Concepts, OS-Concept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hand sid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tece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right hand sid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sociation rule must have an associat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e population consists of a set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each transaction (sale) at a shop is an instance, and the set of all transactions is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ssociation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25640"/>
            <a:ext cx="80359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have an associated support, as well as an associated confid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measure of what fraction of the population satisfies both the antecedent and the consequent of the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uppose only 0.001 percent of all purchases include milk and screwdrivers. The support for the rul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rew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id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measure of how often the consequent is true when the antecedent is tr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r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e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confidence of 80 percent if 80 percent of the purchases that include bread also include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56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nding Association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18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enerally only interested in association rules with reasonably high support (e.g., support of 2% or gre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ïv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 all possible sets of relevant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set find its support (i.e., count how many  transactions purchase all items in the 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 item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ts with sufficiently hig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large itemsets to generate association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tem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 the r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88"/>
              </a:spcBef>
              <a:buClr>
                <a:srgbClr val="ff99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rule = suppor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88"/>
              </a:spcBef>
              <a:buClr>
                <a:srgbClr val="ff99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ce of rule = suppor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/ suppor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nding Suppor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015560"/>
            <a:ext cx="83566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support of itemsets via a single pass on set of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itemsets: sets with a high count at the end of th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emory not enough to hold all counts for all itemsets use multiple passes, considering only some itemsets in each 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: Once an itemset is eliminated because its count (support) is too small none of its supersets needs to be consi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 to find large item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1: count support of all sets with just 1 item.  Eliminate those items with low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did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ery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ems such that all i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subsets ar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support of all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if there are no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Types of Associ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7930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ssociation rules have several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ations from the expected probability are more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if many people purchase bread, and many people purchase cereal, quite a few would be expected to purchase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terested 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well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ative cor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ets of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rrelation: co-occurrence is higher than 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correlation: co-occurrence is lower than 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ssociations / cor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henever bonds go up, stock prices go down in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ations from tempora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eviation from a steady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ales of winter wear go down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urprising, part of a known patter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deviation from value predicted using past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ust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8089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: Intuitively, finding clusters of points in the given data such that similar points lie in the sam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formalized using distance metrics in several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oints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(for a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he average distance of points from the centroid of their assigned group is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id: point defined by taking average of coordinates in each dimen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metric: minimize average distance between every pair of points in a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been studied extensively in statistics, but on small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ining systems aim at clustering techniques that can handle very larg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Birch clustering algorithm (more shor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04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cision Support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6230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ision-support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used to make business decisions, often based on data collected by on-line transaction-process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business deci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tems to st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nsurance premium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hom to send advertis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data used for mak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sales transaction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es (income, age, gend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erarchical Clust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600" y="987480"/>
            <a:ext cx="82803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from biological class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word classification here does not mean a prediction mechan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mammalia                         reptil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pards  humans                 snakes  crocod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xamples: Internet directory systems (e.g., Yahoo, more on this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gglomerative cluster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mall clusters, then cluster small clusters into bigger cluster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visive cluster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all items in a single cluster, repeatedly refine (break) clusters into small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736280" y="2149560"/>
            <a:ext cx="3746880" cy="723960"/>
            <a:chOff x="1736280" y="2149560"/>
            <a:chExt cx="3746880" cy="723960"/>
          </a:xfrm>
        </p:grpSpPr>
        <p:sp>
          <p:nvSpPr>
            <p:cNvPr id="179" name="Line 5"/>
            <p:cNvSpPr/>
            <p:nvPr/>
          </p:nvSpPr>
          <p:spPr>
            <a:xfrm flipH="1">
              <a:off x="2409480" y="2175120"/>
              <a:ext cx="120672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616200" y="2149560"/>
              <a:ext cx="118116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 flipH="1">
              <a:off x="1736280" y="2632320"/>
              <a:ext cx="5461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 flipH="1">
              <a:off x="4555440" y="2632320"/>
              <a:ext cx="24156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4797360" y="2619720"/>
              <a:ext cx="685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2346120" y="2619720"/>
              <a:ext cx="380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ustering Algorith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algorithms have been designed to handle very large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 use an in-memory R-tree to store points that are being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oints one at a time into the R-tree, merging a new point with an existing cluster if is less than so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more leaf nodes than fit in memory, merge existing clusters that are close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first pass we get a large number of clusters at the leaves of the R-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clusters to reduce the number of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llaborative Filt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85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predict what movies/books/… a person may be interested in, on the basi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preferences of the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eople with similar past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ferences of such people for a new movie/book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pproach based on repeated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people on the basis of preferences for 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uster movies on the basis of being liked by the same clusters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cluster people based on their preferences for (the newly created clusters of) 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ve til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problem is an instance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llaborative fil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users collaborate in the task of filtering information to find informat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Types of Mi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m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pplication of data mining to textual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Web pages to find relat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pages a user has visited to organize their visit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Web pages automatically into a Web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isu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help users examine large volumes of data and detect patterns vi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visually encode large amounts of information on a singl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s are very good a detecting visua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0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820800" y="1181160"/>
            <a:ext cx="7966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0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71480" y="930240"/>
            <a:ext cx="8102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0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870120" y="976320"/>
            <a:ext cx="7883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0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374840" y="657360"/>
            <a:ext cx="65548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cision-Support Systems: Over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520" y="930240"/>
            <a:ext cx="77677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sks are simplified by specialized tools and SQL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 category and each region, what were the total sales in the last quarter and how do they compare with the same quarter las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bove, for each product category and each custome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stical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s (e.g., : S++) can be interfaced with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analysis is a large field, but not cover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m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ks to discover knowledge automatically in the form of statistical rules and patterns from large data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wareho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chives information gathered from multiple sources, and stores it under a unified schema, at a singl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for large businesses that generate data from multiple divisions, possibly at multip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y also be purchased ex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Warehou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s often store only current data, not hist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decision making requires a unified view of all organizational data, including histor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wareho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pository (archive) of information gathered from multiple sources, stored under a unified schema, at a sing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simplifies querying, permits study of historica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s decision support query load away from transaction process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Warehou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820800" y="1181160"/>
            <a:ext cx="7966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and how to ga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urce driven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a sources transmit new information to warehouse, either continuously or periodically   (e.g., at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tination driven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arehouse periodically requests new information from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warehouse exactly synchronized with data sources   (e.g., using two-phase commit) is too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OK to have slightly out-of-date data at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updates are periodically downloaded form online transaction processing (OLTP)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schema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0120" y="199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Warehouse Desig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772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clea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orrect mistakes in addresses (misspellings, zip code err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lists from different sources an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to propagate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ehouse schema may be a (materialized) view of schema from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data to summa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data may be too large to store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values (totals/subtotals) often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on raw data can often be transformed by query optimizer to use aggreg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arehouse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values are usually encoded using small integers and mapped to full values via dimens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nt schema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icated schema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nowflake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e levels of dimens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t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e fac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6:02:45Z</dcterms:created>
  <dc:creator>S. Sudarshan</dc:creator>
  <dc:description/>
  <dc:language>en-US</dc:language>
  <cp:lastModifiedBy>as668</cp:lastModifiedBy>
  <cp:lastPrinted>2000-07-13T17:21:22Z</cp:lastPrinted>
  <dcterms:modified xsi:type="dcterms:W3CDTF">2010-02-10T14:55:28Z</dcterms:modified>
  <cp:revision>599</cp:revision>
  <dc:subject/>
  <dc:title>Chapter 22: Advanced Querying and Information Retrieval</dc:title>
</cp:coreProperties>
</file>