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97700" cy="9283700"/>
  <p:custShowLst>
    <p:custShow name="Custom Show 1" id="0">
      <p:sldLst>
        <p:sld r:id="rId29"/>
        <p:sld r:id="rId7"/>
        <p:sld r:id="rId26"/>
        <p:sld r:id="rId10"/>
        <p:sld r:id="rId12"/>
        <p:sld r:id="rId34"/>
        <p:sld r:id="rId14"/>
        <p:sld r:id="rId28"/>
        <p:sld r:id="rId28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4E3580-A519-4C09-9A75-B72E1C06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CF6691-489B-48AE-A8E7-5993ECF9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903B76-B7CD-4B8D-BDCD-9AC11B2DF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E072B2-3EA1-41AA-9B1B-85C846CEA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7815BC-3C9B-4CD5-ABFB-73FDC818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19BC9C-6AAD-4370-A13F-CDC509A9B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C5238F-ECC1-4518-8D5E-E1040175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04008F-DBD1-4E02-82A2-F9F4671D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2B9B84-B740-4ED8-B6D9-59CB3186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DE187C-8B6C-4122-BB83-2B6514F79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BA0303-7B57-4E9E-A47B-4B04A535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03E5C6-FB39-40A5-BA86-B9E0B6906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7F98DF-A1F3-442C-9BA2-EB32BEDF5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5DE768-1BD2-4495-B04E-46A0EEE3A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2C4550-3B6C-49D6-A62F-FAA428E02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372E47-65BE-4EDD-ADC5-D5773C93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C01D43-5DE3-4442-A5FF-3CECF62B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E590E5-AEFA-4150-9D74-A31B5BFF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AB5B3F-A25C-42E0-AA5B-AB032DC27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24C1E7-21E8-4F88-9551-DB48D1AC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2DFED7-9E44-4C7C-A2BD-4AF3A498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B93F12-D052-4C46-8208-914EB6007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BBC14D-7876-4FE4-9172-F20DD5AC7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31654B-A2A1-46DC-9E12-E6340D8A3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F92364-FF5E-4DE0-BB12-41D124C52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42C4B1-CE69-4410-A447-D621075A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91B3F3-CE9C-4508-B020-2DDB18873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AE1360-A729-41D4-A088-9A0841F4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1569DD-5FAA-4D97-AC6F-73B25619C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E248B6-1F92-4516-AA0A-ECF14CA7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3A69-ECFF-450E-94A7-A0782ADAF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D07E-314C-4CDF-B2CA-9B5CAEFB8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A2F3-2E8E-48BC-82A2-4B4CEE2CE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AED4-7609-43E2-A13B-1BB5448B4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D06-6DED-49F1-967B-4073511F88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5DA-5A19-431B-A9AE-D729744756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CDC-3729-4F3A-AB10-619CE82FD1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5E7-5CC4-4F8E-912B-742D1915D2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3DD-871A-4789-BB29-A9010B23B0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8B5-514D-46E5-A668-F4ED0390F0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21B-018E-4439-B7D3-33597FF19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2B57-9757-4DA3-8B0C-0B10C126C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FE1-C4B8-4B06-A3E2-7A3508BD34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2EC-42AE-4D43-9C3F-8F75455461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77D-C508-45E3-8ECC-4FC74D87B8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CFF-17B5-437A-B3B7-79E6EBA17A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8F0-56B7-477A-BEFD-20E254DCD3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4E14-C464-4FA6-8AAE-4258E65CE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49C8-3C7F-4750-B46F-AEEFC0DC1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8BF2-DA6C-49CD-965F-F79ADA974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7E0D-4BAE-4284-9E93-8261B411A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6BE4-EEE7-45AD-BEC5-AD6CCBC0A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82F8-A2BE-4AC1-8F81-8418B4E7F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ADA0-0C49-4D9C-9FEB-DE009EA7A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544E-A465-497F-9C02-818733A03F1B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.</a:t>
            </a:r>
            <a:fld id="{FBEB8C6C-E724-4F6A-B95A-E14485CEFB02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>
              <a:gd name="textAreaLeft" fmla="*/ 0 w 227160"/>
              <a:gd name="textAreaRight" fmla="*/ 227160 w 2271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B33A-CE3E-4E4C-949A-174445E6258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2: Intro to 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f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98480" y="107784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30200" y="3969360"/>
            <a:ext cx="29527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 algn="ctr"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uples with A=B and D 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 algn="ctr">
              <a:spcBef>
                <a:spcPts val="1001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=B and D &gt; 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522600" y="1176480"/>
            <a:ext cx="2092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f Columns (Attribute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6480" y="1335240"/>
            <a:ext cx="24415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9907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14400" y="3962520"/>
            <a:ext cx="7029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335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07880" y="4140360"/>
            <a:ext cx="702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82640" y="3811680"/>
            <a:ext cx="30099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A,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4411800" y="1192320"/>
            <a:ext cx="279216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87320" y="193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– Cartesian Produc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98480" y="10778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98480" y="31352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2913120" y="1076400"/>
            <a:ext cx="24321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on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98480" y="3238560"/>
            <a:ext cx="7029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986200" y="1138320"/>
            <a:ext cx="23572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404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difference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98480" y="3220920"/>
            <a:ext cx="7029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99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 –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921040" y="1211400"/>
            <a:ext cx="255420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4040" y="234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Intersection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874960" y="1106640"/>
            <a:ext cx="26575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– Natural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8480" y="1305000"/>
            <a:ext cx="682632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relations on schem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 the “natural join”  of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tain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each pair of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he same value on each of the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dd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the result,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684360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819000" y="3654360"/>
            <a:ext cx="7029360" cy="996120"/>
            <a:chOff x="819000" y="3654360"/>
            <a:chExt cx="7029360" cy="996120"/>
          </a:xfrm>
        </p:grpSpPr>
        <p:sp>
          <p:nvSpPr>
            <p:cNvPr id="154" name="Rectangle 5"/>
            <p:cNvSpPr/>
            <p:nvPr/>
          </p:nvSpPr>
          <p:spPr>
            <a:xfrm>
              <a:off x="819000" y="3654360"/>
              <a:ext cx="702936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88"/>
                </a:spcBef>
                <a:buClr>
                  <a:srgbClr val="000099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ural 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88"/>
                </a:spcBef>
                <a:buClr>
                  <a:srgbClr val="000099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    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 flipV="1" rot="16200000">
              <a:off x="998640" y="4134240"/>
              <a:ext cx="370080" cy="152280"/>
            </a:xfrm>
            <a:prstGeom prst="flowChartCollat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913120" y="1170000"/>
            <a:ext cx="4276800" cy="46418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/>
          <p:cNvSpPr/>
          <p:nvPr/>
        </p:nvSpPr>
        <p:spPr>
          <a:xfrm rot="5400000">
            <a:off x="1790280" y="41464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rot="10800000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in-2.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370160" y="795240"/>
            <a:ext cx="6686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a Re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6" name="Picture 3" descr="2"/>
          <p:cNvPicPr/>
          <p:nvPr/>
        </p:nvPicPr>
        <p:blipFill>
          <a:blip r:embed="rId1"/>
          <a:stretch/>
        </p:blipFill>
        <p:spPr>
          <a:xfrm>
            <a:off x="1442880" y="1927080"/>
            <a:ext cx="5291280" cy="3975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7043040" y="133344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3238560" y="1538280"/>
            <a:ext cx="388944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 flipH="1">
            <a:off x="4608360" y="1592280"/>
            <a:ext cx="255744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 flipH="1">
            <a:off x="5819400" y="1565280"/>
            <a:ext cx="1320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990480" y="25225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r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 flipH="1" flipV="1">
            <a:off x="6742080" y="2487240"/>
            <a:ext cx="37008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6729120" y="2706840"/>
            <a:ext cx="36972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H="1">
            <a:off x="6717960" y="2717640"/>
            <a:ext cx="3920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H="1">
            <a:off x="6729480" y="2727360"/>
            <a:ext cx="38088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2" name="Picture 3" descr="2"/>
          <p:cNvPicPr/>
          <p:nvPr/>
        </p:nvPicPr>
        <p:blipFill>
          <a:blip r:embed="rId1"/>
          <a:stretch/>
        </p:blipFill>
        <p:spPr>
          <a:xfrm>
            <a:off x="2633760" y="1971720"/>
            <a:ext cx="3876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4" name="Picture 3" descr="2"/>
          <p:cNvPicPr/>
          <p:nvPr/>
        </p:nvPicPr>
        <p:blipFill>
          <a:blip r:embed="rId1"/>
          <a:stretch/>
        </p:blipFill>
        <p:spPr>
          <a:xfrm>
            <a:off x="1911240" y="1854360"/>
            <a:ext cx="532152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6" name="Picture 3" descr="2"/>
          <p:cNvPicPr/>
          <p:nvPr/>
        </p:nvPicPr>
        <p:blipFill>
          <a:blip r:embed="rId1"/>
          <a:stretch/>
        </p:blipFill>
        <p:spPr>
          <a:xfrm>
            <a:off x="3618000" y="2500200"/>
            <a:ext cx="19065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8" name="Picture 3" descr="2"/>
          <p:cNvPicPr/>
          <p:nvPr/>
        </p:nvPicPr>
        <p:blipFill>
          <a:blip r:embed="rId1"/>
          <a:stretch/>
        </p:blipFill>
        <p:spPr>
          <a:xfrm>
            <a:off x="2639880" y="1971720"/>
            <a:ext cx="38642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0" name="Picture 3" descr="2"/>
          <p:cNvPicPr/>
          <p:nvPr/>
        </p:nvPicPr>
        <p:blipFill>
          <a:blip r:embed="rId1"/>
          <a:stretch/>
        </p:blipFill>
        <p:spPr>
          <a:xfrm>
            <a:off x="3139920" y="2506680"/>
            <a:ext cx="28623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2" name="Picture 3" descr="2"/>
          <p:cNvPicPr/>
          <p:nvPr/>
        </p:nvPicPr>
        <p:blipFill>
          <a:blip r:embed="rId1"/>
          <a:stretch/>
        </p:blipFill>
        <p:spPr>
          <a:xfrm>
            <a:off x="1482840" y="1674720"/>
            <a:ext cx="61768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4" name="Picture 3" descr="2"/>
          <p:cNvPicPr/>
          <p:nvPr/>
        </p:nvPicPr>
        <p:blipFill>
          <a:blip r:embed="rId1"/>
          <a:stretch/>
        </p:blipFill>
        <p:spPr>
          <a:xfrm>
            <a:off x="2625840" y="1628640"/>
            <a:ext cx="3890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1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6" name="Picture 3" descr="2"/>
          <p:cNvPicPr/>
          <p:nvPr/>
        </p:nvPicPr>
        <p:blipFill>
          <a:blip r:embed="rId1"/>
          <a:stretch/>
        </p:blipFill>
        <p:spPr>
          <a:xfrm>
            <a:off x="2633760" y="2817720"/>
            <a:ext cx="38764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1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8" name="Picture 3" descr="2"/>
          <p:cNvPicPr/>
          <p:nvPr/>
        </p:nvPicPr>
        <p:blipFill>
          <a:blip r:embed="rId1"/>
          <a:stretch/>
        </p:blipFill>
        <p:spPr>
          <a:xfrm>
            <a:off x="3833640" y="1986120"/>
            <a:ext cx="14767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0" name="Picture 3" descr="2"/>
          <p:cNvPicPr/>
          <p:nvPr/>
        </p:nvPicPr>
        <p:blipFill>
          <a:blip r:embed="rId1"/>
          <a:stretch/>
        </p:blipFill>
        <p:spPr>
          <a:xfrm>
            <a:off x="2017800" y="1954080"/>
            <a:ext cx="510696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ttribute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03040" y="1219320"/>
            <a:ext cx="7126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allowed values for each attribute is called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values are (normally) required to b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hat is, indi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ecial valu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member of ever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ll value causes complications in the definition of many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2.1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2" name="Picture 3" descr="2"/>
          <p:cNvPicPr/>
          <p:nvPr/>
        </p:nvPicPr>
        <p:blipFill>
          <a:blip r:embed="rId1"/>
          <a:stretch/>
        </p:blipFill>
        <p:spPr>
          <a:xfrm>
            <a:off x="3846600" y="2828880"/>
            <a:ext cx="14493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 Schema and Insta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atio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 name, dept_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ly, given se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bse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…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relation is a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uple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here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820800" y="4400640"/>
            <a:ext cx="74041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values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 ins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a relation are specified by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</a:t>
            </a: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presented b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3360" y="12240"/>
            <a:ext cx="807696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 are Unordere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98480" y="1077840"/>
            <a:ext cx="77360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of tuples is irrelevant (tuples may be stored in an arbitrary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ith unordered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"/>
          <p:cNvPicPr/>
          <p:nvPr/>
        </p:nvPicPr>
        <p:blipFill>
          <a:blip r:embed="rId1"/>
          <a:stretch/>
        </p:blipFill>
        <p:spPr>
          <a:xfrm>
            <a:off x="1905120" y="2208240"/>
            <a:ext cx="4952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8120" y="1077840"/>
            <a:ext cx="80773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consists of multipl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an enterprise is broken up into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design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-ID, name, dept_name, salary, student_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information (e.g., two students have the same instru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ed for null values  (e.g., represent an student with no advi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theory (Chapter 7) deals with how to design “good” relational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Key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0040" y="1077480"/>
            <a:ext cx="79786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perkey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values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ufficient to identify a unique tuple of each possible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(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and {ID,name} are both superkey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didate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inim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is a candidate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candidate keys is selected to be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eig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aint: Value in one relation must appear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hema Diagram for University Databas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38040" y="735120"/>
            <a:ext cx="85298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vs.non-procedural, or decla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” langu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ilberschatz, Avi</cp:lastModifiedBy>
  <cp:lastPrinted>2005-01-10T21:51:57Z</cp:lastPrinted>
  <dcterms:modified xsi:type="dcterms:W3CDTF">2014-02-06T15:00:17Z</dcterms:modified>
  <cp:revision>160</cp:revision>
  <dc:subject/>
  <dc:title>Chapter 1:  Introduction</dc:title>
</cp:coreProperties>
</file>