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2FA8-4E24-457D-9F85-B3A3CE673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3106-356C-4822-B726-FC977E1C8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C174-CB2F-4796-9BF4-5A3BAED76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FAB2-1DD3-4F22-A48D-6F0178617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997-F831-4C5F-A65F-8DEEF79E4A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E29-844C-4191-9C43-6290999A1A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537-C3E7-4D08-80C2-D6D73E5517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F5C-5038-4AA6-8742-D0C131A9CD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A72-5F90-4250-8209-06E9ECF5BD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1C4-7879-41C8-AA16-6C55A34A60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370-AD24-4275-9734-0A344170C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9966-4F81-4F3B-B605-7DDDA3F40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97D-7047-4589-B41B-D0A3871CC7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B17-07E8-4278-9BF9-5AFCD272BD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4C3-CA4D-4728-A4C5-279A59D3F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4BC-2969-43A7-AB23-A41DCE76A8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32B-5464-4616-98E7-2CCFF8C52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A050-2F48-4C87-81B2-204F45441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EE54-B667-43D9-828C-7A98CEAE7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EDBA-D4EC-4572-AA75-DCBCD694F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8E7E-1DB6-4163-9283-A88F16B0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F70D-39EE-4532-9E88-284DAA240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6416-AD5D-4796-8F0C-2ED75D23F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BF02-77F6-4A41-B2D0-2447C9F76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1717-58B6-46D8-8582-EEAE7521BB3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52320" y="661356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b.</a:t>
            </a:r>
            <a:fld id="{721B54B6-A42B-4D02-9412-845277308A8E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415-C455-4E09-936B-510C373CB50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8960" y="5726160"/>
            <a:ext cx="3545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endix B: Advanced Relational Database Desig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114200"/>
            <a:ext cx="81914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info-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-name, customer-name, loan-number, 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oan has one or more customers, is in one or more branches and has a loan amount; these relationships are independent, hence we have the join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(=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number, branch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number, customer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number, 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info-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in PJNF with respect to the set of dependencies containing the above join dependency. To 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info-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PJNF, we must decompose it into the three schemas specified by the join depend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number, branch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number, customer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-number, 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-Key Normal Form (DKNY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24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 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et A be an attribute, and l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set of values. The domain declar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that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 of all tuples be value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decla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schema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key decla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equires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superkey for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All key declarations are functional dependencies but not all functional dependencies are key decla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constr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general constraint is a predicate on the set of all relations on a given sch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set of domain constraints and l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set of key constraints for 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 the general constraint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DKNF 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ly imp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4757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s wh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gins with the digit 9 are special high-interest accounts with a minimum balance of 2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constraint: ``If the first digi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is 9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00.'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KNF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acct-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-name, account-number,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ial-acct-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-name, account-number,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onstraints for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cial-acct-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require that for each accou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ount number begins with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lance is greater than 25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KNF rephrasing of PJNF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1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e a relation schema. Let dom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 the domain of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let all these domains be infinite. Then all domain constrai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of th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general constraints be a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, multivalued, or join dependencies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functional dependencie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t the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ey constraints be those nontrivial functional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r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PJNF if and only if it is in DKNF with respect to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Appendix B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6131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9304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24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817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5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20224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ppendix B:  Advanced Relational Database Design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ing with M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normal 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dependencies and PJ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K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6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22622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B.07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122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998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ory of Multivalued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8724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te a set of functional and multivalued dependencies. The closur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all functional and multivalued dependencies logically impli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and complete inference rules for functional and multivalued 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xivity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attribute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mentation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set of attribut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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vity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eory of Multivalued Dependencies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1760" y="1095120"/>
            <a:ext cx="7661160" cy="34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ation rule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alued augmentation ru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alued transitivity r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ion ru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ence rule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re i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43400" y="1295280"/>
            <a:ext cx="366840" cy="0"/>
            <a:chOff x="4343400" y="1295280"/>
            <a:chExt cx="366840" cy="0"/>
          </a:xfrm>
        </p:grpSpPr>
        <p:sp>
          <p:nvSpPr>
            <p:cNvPr id="95" name=""/>
            <p:cNvSpPr/>
            <p:nvPr/>
          </p:nvSpPr>
          <p:spPr>
            <a:xfrm>
              <a:off x="4343400" y="12952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6040" y="12952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324480" y="1295280"/>
            <a:ext cx="366840" cy="0"/>
            <a:chOff x="6324480" y="1295280"/>
            <a:chExt cx="366840" cy="0"/>
          </a:xfrm>
        </p:grpSpPr>
        <p:sp>
          <p:nvSpPr>
            <p:cNvPr id="98" name=""/>
            <p:cNvSpPr/>
            <p:nvPr/>
          </p:nvSpPr>
          <p:spPr>
            <a:xfrm>
              <a:off x="6324480" y="12952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7120" y="12952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257800" y="1946160"/>
            <a:ext cx="366840" cy="0"/>
            <a:chOff x="5257800" y="1946160"/>
            <a:chExt cx="366840" cy="0"/>
          </a:xfrm>
        </p:grpSpPr>
        <p:sp>
          <p:nvSpPr>
            <p:cNvPr id="101" name=""/>
            <p:cNvSpPr/>
            <p:nvPr/>
          </p:nvSpPr>
          <p:spPr>
            <a:xfrm>
              <a:off x="5257800" y="19461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440" y="1946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55720" y="2235240"/>
            <a:ext cx="366840" cy="0"/>
            <a:chOff x="2655720" y="2235240"/>
            <a:chExt cx="366840" cy="0"/>
          </a:xfrm>
        </p:grpSpPr>
        <p:sp>
          <p:nvSpPr>
            <p:cNvPr id="104" name=""/>
            <p:cNvSpPr/>
            <p:nvPr/>
          </p:nvSpPr>
          <p:spPr>
            <a:xfrm>
              <a:off x="2655720" y="22352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08360" y="22352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952880" y="2590920"/>
            <a:ext cx="366840" cy="0"/>
            <a:chOff x="4952880" y="2590920"/>
            <a:chExt cx="366840" cy="0"/>
          </a:xfrm>
        </p:grpSpPr>
        <p:sp>
          <p:nvSpPr>
            <p:cNvPr id="107" name=""/>
            <p:cNvSpPr/>
            <p:nvPr/>
          </p:nvSpPr>
          <p:spPr>
            <a:xfrm>
              <a:off x="4952880" y="25909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5520" y="25909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057400" y="2895480"/>
            <a:ext cx="366840" cy="0"/>
            <a:chOff x="2057400" y="2895480"/>
            <a:chExt cx="366840" cy="0"/>
          </a:xfrm>
        </p:grpSpPr>
        <p:sp>
          <p:nvSpPr>
            <p:cNvPr id="110" name=""/>
            <p:cNvSpPr/>
            <p:nvPr/>
          </p:nvSpPr>
          <p:spPr>
            <a:xfrm>
              <a:off x="2057400" y="28954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0040" y="2895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81680" y="2590920"/>
            <a:ext cx="366840" cy="0"/>
            <a:chOff x="6781680" y="2590920"/>
            <a:chExt cx="366840" cy="0"/>
          </a:xfrm>
        </p:grpSpPr>
        <p:sp>
          <p:nvSpPr>
            <p:cNvPr id="113" name=""/>
            <p:cNvSpPr/>
            <p:nvPr/>
          </p:nvSpPr>
          <p:spPr>
            <a:xfrm>
              <a:off x="6781680" y="25909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34320" y="25909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13040" y="32558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626080" y="3238560"/>
            <a:ext cx="366840" cy="0"/>
            <a:chOff x="5626080" y="3238560"/>
            <a:chExt cx="366840" cy="0"/>
          </a:xfrm>
        </p:grpSpPr>
        <p:sp>
          <p:nvSpPr>
            <p:cNvPr id="117" name=""/>
            <p:cNvSpPr/>
            <p:nvPr/>
          </p:nvSpPr>
          <p:spPr>
            <a:xfrm>
              <a:off x="5626080" y="32385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78720" y="3238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86200" y="3581280"/>
            <a:ext cx="366840" cy="0"/>
            <a:chOff x="3886200" y="3581280"/>
            <a:chExt cx="366840" cy="0"/>
          </a:xfrm>
        </p:grpSpPr>
        <p:sp>
          <p:nvSpPr>
            <p:cNvPr id="120" name=""/>
            <p:cNvSpPr/>
            <p:nvPr/>
          </p:nvSpPr>
          <p:spPr>
            <a:xfrm>
              <a:off x="3886200" y="35812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840" y="35812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105520" y="3886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3886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plification of the Computation of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600" y="15112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implify the computation of the closur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using the following rules (proved using rules 1-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alued union ru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ion ru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 ru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, 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olds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371840" y="2362320"/>
            <a:ext cx="366840" cy="0"/>
            <a:chOff x="4371840" y="2362320"/>
            <a:chExt cx="366840" cy="0"/>
          </a:xfrm>
        </p:grpSpPr>
        <p:sp>
          <p:nvSpPr>
            <p:cNvPr id="127" name=""/>
            <p:cNvSpPr/>
            <p:nvPr/>
          </p:nvSpPr>
          <p:spPr>
            <a:xfrm>
              <a:off x="4371840" y="23623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24480" y="23623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324480" y="2382840"/>
            <a:ext cx="366840" cy="0"/>
            <a:chOff x="6324480" y="2382840"/>
            <a:chExt cx="366840" cy="0"/>
          </a:xfrm>
        </p:grpSpPr>
        <p:sp>
          <p:nvSpPr>
            <p:cNvPr id="130" name=""/>
            <p:cNvSpPr/>
            <p:nvPr/>
          </p:nvSpPr>
          <p:spPr>
            <a:xfrm>
              <a:off x="6324480" y="23828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2382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601640" y="2631960"/>
            <a:ext cx="366840" cy="0"/>
            <a:chOff x="1601640" y="2631960"/>
            <a:chExt cx="366840" cy="0"/>
          </a:xfrm>
        </p:grpSpPr>
        <p:sp>
          <p:nvSpPr>
            <p:cNvPr id="133" name=""/>
            <p:cNvSpPr/>
            <p:nvPr/>
          </p:nvSpPr>
          <p:spPr>
            <a:xfrm>
              <a:off x="1601640" y="26319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54280" y="2631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713040" y="3013200"/>
            <a:ext cx="366840" cy="0"/>
            <a:chOff x="3713040" y="3013200"/>
            <a:chExt cx="366840" cy="0"/>
          </a:xfrm>
        </p:grpSpPr>
        <p:sp>
          <p:nvSpPr>
            <p:cNvPr id="136" name=""/>
            <p:cNvSpPr/>
            <p:nvPr/>
          </p:nvSpPr>
          <p:spPr>
            <a:xfrm>
              <a:off x="3713040" y="30132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65680" y="30132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18160" y="3027240"/>
            <a:ext cx="366840" cy="0"/>
            <a:chOff x="5618160" y="3027240"/>
            <a:chExt cx="366840" cy="0"/>
          </a:xfrm>
        </p:grpSpPr>
        <p:sp>
          <p:nvSpPr>
            <p:cNvPr id="139" name=""/>
            <p:cNvSpPr/>
            <p:nvPr/>
          </p:nvSpPr>
          <p:spPr>
            <a:xfrm>
              <a:off x="5618160" y="30272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70800" y="30272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543800" y="3048120"/>
            <a:ext cx="366840" cy="0"/>
            <a:chOff x="7543800" y="3048120"/>
            <a:chExt cx="366840" cy="0"/>
          </a:xfrm>
        </p:grpSpPr>
        <p:sp>
          <p:nvSpPr>
            <p:cNvPr id="142" name=""/>
            <p:cNvSpPr/>
            <p:nvPr/>
          </p:nvSpPr>
          <p:spPr>
            <a:xfrm>
              <a:off x="7543800" y="30481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6440" y="3048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57600" y="3657600"/>
            <a:ext cx="366840" cy="0"/>
            <a:chOff x="3657600" y="3657600"/>
            <a:chExt cx="366840" cy="0"/>
          </a:xfrm>
        </p:grpSpPr>
        <p:sp>
          <p:nvSpPr>
            <p:cNvPr id="145" name=""/>
            <p:cNvSpPr/>
            <p:nvPr/>
          </p:nvSpPr>
          <p:spPr>
            <a:xfrm>
              <a:off x="3657600" y="36576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0240" y="36576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86400" y="3657600"/>
            <a:ext cx="366840" cy="0"/>
            <a:chOff x="5486400" y="3657600"/>
            <a:chExt cx="366840" cy="0"/>
          </a:xfrm>
        </p:grpSpPr>
        <p:sp>
          <p:nvSpPr>
            <p:cNvPr id="148" name=""/>
            <p:cNvSpPr/>
            <p:nvPr/>
          </p:nvSpPr>
          <p:spPr>
            <a:xfrm>
              <a:off x="5486400" y="36576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9040" y="36576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446960" y="3637080"/>
            <a:ext cx="366840" cy="0"/>
            <a:chOff x="7446960" y="3637080"/>
            <a:chExt cx="366840" cy="0"/>
          </a:xfrm>
        </p:grpSpPr>
        <p:sp>
          <p:nvSpPr>
            <p:cNvPr id="151" name=""/>
            <p:cNvSpPr/>
            <p:nvPr/>
          </p:nvSpPr>
          <p:spPr>
            <a:xfrm>
              <a:off x="7446960" y="363708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99600" y="3637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90920" y="3941640"/>
            <a:ext cx="366120" cy="0"/>
            <a:chOff x="2590920" y="3941640"/>
            <a:chExt cx="366120" cy="0"/>
          </a:xfrm>
        </p:grpSpPr>
        <p:sp>
          <p:nvSpPr>
            <p:cNvPr id="154" name=""/>
            <p:cNvSpPr/>
            <p:nvPr/>
          </p:nvSpPr>
          <p:spPr>
            <a:xfrm>
              <a:off x="2590920" y="39416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394164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7440" y="1486080"/>
            <a:ext cx="67312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, C, G, H, I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   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ember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H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omplementation rule (4) implies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– B – 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– B –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H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H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ltivalued transitivity rule (6) implies tha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 – B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 – B = HI, A        H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0" y="1960560"/>
            <a:ext cx="366840" cy="0"/>
            <a:chOff x="2286000" y="1960560"/>
            <a:chExt cx="366840" cy="0"/>
          </a:xfrm>
        </p:grpSpPr>
        <p:sp>
          <p:nvSpPr>
            <p:cNvPr id="159" name=""/>
            <p:cNvSpPr/>
            <p:nvPr/>
          </p:nvSpPr>
          <p:spPr>
            <a:xfrm>
              <a:off x="2286000" y="19605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640" y="1960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106720" y="2265480"/>
            <a:ext cx="366120" cy="0"/>
            <a:chOff x="2106720" y="2265480"/>
            <a:chExt cx="366120" cy="0"/>
          </a:xfrm>
        </p:grpSpPr>
        <p:sp>
          <p:nvSpPr>
            <p:cNvPr id="162" name=""/>
            <p:cNvSpPr/>
            <p:nvPr/>
          </p:nvSpPr>
          <p:spPr>
            <a:xfrm>
              <a:off x="2106720" y="2265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59000" y="226548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176560" y="3543480"/>
            <a:ext cx="366120" cy="0"/>
            <a:chOff x="2176560" y="3543480"/>
            <a:chExt cx="366120" cy="0"/>
          </a:xfrm>
        </p:grpSpPr>
        <p:sp>
          <p:nvSpPr>
            <p:cNvPr id="165" name=""/>
            <p:cNvSpPr/>
            <p:nvPr/>
          </p:nvSpPr>
          <p:spPr>
            <a:xfrm>
              <a:off x="2176560" y="3543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28840" y="354348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55800" y="3822840"/>
            <a:ext cx="366840" cy="0"/>
            <a:chOff x="2755800" y="3822840"/>
            <a:chExt cx="366840" cy="0"/>
          </a:xfrm>
        </p:grpSpPr>
        <p:sp>
          <p:nvSpPr>
            <p:cNvPr id="168" name=""/>
            <p:cNvSpPr/>
            <p:nvPr/>
          </p:nvSpPr>
          <p:spPr>
            <a:xfrm>
              <a:off x="2755800" y="38228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08440" y="3822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178000" y="4070520"/>
            <a:ext cx="366840" cy="0"/>
            <a:chOff x="2178000" y="4070520"/>
            <a:chExt cx="366840" cy="0"/>
          </a:xfrm>
        </p:grpSpPr>
        <p:sp>
          <p:nvSpPr>
            <p:cNvPr id="171" name=""/>
            <p:cNvSpPr/>
            <p:nvPr/>
          </p:nvSpPr>
          <p:spPr>
            <a:xfrm>
              <a:off x="2178000" y="40705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0640" y="4070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43600" y="4356000"/>
            <a:ext cx="366120" cy="0"/>
            <a:chOff x="5043600" y="4356000"/>
            <a:chExt cx="366120" cy="0"/>
          </a:xfrm>
        </p:grpSpPr>
        <p:sp>
          <p:nvSpPr>
            <p:cNvPr id="174" name=""/>
            <p:cNvSpPr/>
            <p:nvPr/>
          </p:nvSpPr>
          <p:spPr>
            <a:xfrm>
              <a:off x="5043600" y="43560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95880" y="435600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203560" y="4741920"/>
            <a:ext cx="366120" cy="0"/>
            <a:chOff x="2203560" y="4741920"/>
            <a:chExt cx="366120" cy="0"/>
          </a:xfrm>
        </p:grpSpPr>
        <p:sp>
          <p:nvSpPr>
            <p:cNvPr id="177" name=""/>
            <p:cNvSpPr/>
            <p:nvPr/>
          </p:nvSpPr>
          <p:spPr>
            <a:xfrm>
              <a:off x="2203560" y="47419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5840" y="474192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833560" y="5011560"/>
            <a:ext cx="366840" cy="0"/>
            <a:chOff x="2833560" y="5011560"/>
            <a:chExt cx="366840" cy="0"/>
          </a:xfrm>
        </p:grpSpPr>
        <p:sp>
          <p:nvSpPr>
            <p:cNvPr id="180" name=""/>
            <p:cNvSpPr/>
            <p:nvPr/>
          </p:nvSpPr>
          <p:spPr>
            <a:xfrm>
              <a:off x="2833560" y="50115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6200" y="5011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149720" y="4991040"/>
            <a:ext cx="366840" cy="0"/>
            <a:chOff x="4149720" y="4991040"/>
            <a:chExt cx="366840" cy="0"/>
          </a:xfrm>
        </p:grpSpPr>
        <p:sp>
          <p:nvSpPr>
            <p:cNvPr id="183" name=""/>
            <p:cNvSpPr/>
            <p:nvPr/>
          </p:nvSpPr>
          <p:spPr>
            <a:xfrm>
              <a:off x="4149720" y="49910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02360" y="4991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64120" y="5275440"/>
            <a:ext cx="366120" cy="0"/>
            <a:chOff x="4164120" y="5275440"/>
            <a:chExt cx="366120" cy="0"/>
          </a:xfrm>
        </p:grpSpPr>
        <p:sp>
          <p:nvSpPr>
            <p:cNvPr id="186" name=""/>
            <p:cNvSpPr/>
            <p:nvPr/>
          </p:nvSpPr>
          <p:spPr>
            <a:xfrm>
              <a:off x="4164120" y="52754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6400" y="527544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067280" y="5524560"/>
            <a:ext cx="366120" cy="0"/>
            <a:chOff x="4067280" y="5524560"/>
            <a:chExt cx="366120" cy="0"/>
          </a:xfrm>
        </p:grpSpPr>
        <p:sp>
          <p:nvSpPr>
            <p:cNvPr id="189" name=""/>
            <p:cNvSpPr/>
            <p:nvPr/>
          </p:nvSpPr>
          <p:spPr>
            <a:xfrm>
              <a:off x="4067280" y="5524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9560" y="552456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86000" y="25686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0560" y="1117440"/>
            <a:ext cx="76615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ember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      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the coalescence rule (8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     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Ø,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nce rule is satisfi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e conclud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   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G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difference rul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C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 = CG, A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808520" y="1960560"/>
            <a:ext cx="366840" cy="0"/>
            <a:chOff x="4808520" y="1960560"/>
            <a:chExt cx="366840" cy="0"/>
          </a:xfrm>
        </p:grpSpPr>
        <p:sp>
          <p:nvSpPr>
            <p:cNvPr id="195" name=""/>
            <p:cNvSpPr/>
            <p:nvPr/>
          </p:nvSpPr>
          <p:spPr>
            <a:xfrm>
              <a:off x="4808520" y="19605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61160" y="1960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20720" y="3144960"/>
            <a:ext cx="366840" cy="0"/>
            <a:chOff x="1620720" y="3144960"/>
            <a:chExt cx="366840" cy="0"/>
          </a:xfrm>
        </p:grpSpPr>
        <p:sp>
          <p:nvSpPr>
            <p:cNvPr id="198" name=""/>
            <p:cNvSpPr/>
            <p:nvPr/>
          </p:nvSpPr>
          <p:spPr>
            <a:xfrm>
              <a:off x="1620720" y="31449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73360" y="3144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276720" y="3408480"/>
            <a:ext cx="366120" cy="0"/>
            <a:chOff x="3276720" y="3408480"/>
            <a:chExt cx="366120" cy="0"/>
          </a:xfrm>
        </p:grpSpPr>
        <p:sp>
          <p:nvSpPr>
            <p:cNvPr id="201" name=""/>
            <p:cNvSpPr/>
            <p:nvPr/>
          </p:nvSpPr>
          <p:spPr>
            <a:xfrm>
              <a:off x="3276720" y="340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340848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79680" y="3422520"/>
            <a:ext cx="366120" cy="0"/>
            <a:chOff x="1579680" y="3422520"/>
            <a:chExt cx="366120" cy="0"/>
          </a:xfrm>
        </p:grpSpPr>
        <p:sp>
          <p:nvSpPr>
            <p:cNvPr id="204" name=""/>
            <p:cNvSpPr/>
            <p:nvPr/>
          </p:nvSpPr>
          <p:spPr>
            <a:xfrm>
              <a:off x="1579680" y="3422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31960" y="342252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865680" y="3713040"/>
            <a:ext cx="366120" cy="0"/>
            <a:chOff x="3865680" y="3713040"/>
            <a:chExt cx="366120" cy="0"/>
          </a:xfrm>
        </p:grpSpPr>
        <p:sp>
          <p:nvSpPr>
            <p:cNvPr id="207" name=""/>
            <p:cNvSpPr/>
            <p:nvPr/>
          </p:nvSpPr>
          <p:spPr>
            <a:xfrm>
              <a:off x="3865680" y="3713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17960" y="371304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067280" y="3983040"/>
            <a:ext cx="366120" cy="0"/>
            <a:chOff x="4067280" y="3983040"/>
            <a:chExt cx="366120" cy="0"/>
          </a:xfrm>
        </p:grpSpPr>
        <p:sp>
          <p:nvSpPr>
            <p:cNvPr id="210" name=""/>
            <p:cNvSpPr/>
            <p:nvPr/>
          </p:nvSpPr>
          <p:spPr>
            <a:xfrm>
              <a:off x="4067280" y="3983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9560" y="398304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029200" y="28195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16765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2525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rmalization Using Join Dependenc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dependencies constrain the set of legal relations over a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ose relations for which a given decomposition is a lossless-join decom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relation schema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decomposi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atisfi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in depend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oin dependency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iv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if one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oin dependency *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equivalent to the multivalued dependenc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nversely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ivalent to     *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re are join dependencies that are not equivalent to any multivalued depend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29000" y="4343400"/>
            <a:ext cx="366840" cy="0"/>
            <a:chOff x="3429000" y="4343400"/>
            <a:chExt cx="366840" cy="0"/>
          </a:xfrm>
        </p:grpSpPr>
        <p:sp>
          <p:nvSpPr>
            <p:cNvPr id="218" name=""/>
            <p:cNvSpPr/>
            <p:nvPr/>
          </p:nvSpPr>
          <p:spPr>
            <a:xfrm>
              <a:off x="3429000" y="43434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81640" y="43434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219320" y="4343400"/>
            <a:ext cx="366120" cy="0"/>
            <a:chOff x="1219320" y="4343400"/>
            <a:chExt cx="366120" cy="0"/>
          </a:xfrm>
        </p:grpSpPr>
        <p:sp>
          <p:nvSpPr>
            <p:cNvPr id="221" name=""/>
            <p:cNvSpPr/>
            <p:nvPr/>
          </p:nvSpPr>
          <p:spPr>
            <a:xfrm>
              <a:off x="1219320" y="43434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434340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oject-Join Normal Form (PJNF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191440" cy="38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ti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PJNF with respect to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unctional, multivalued, and join dependencies if for all join dependenci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re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of the following ho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...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trivial join depend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uper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every multivalued dependency is also a join dependen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JNF schema is also in 4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8:58:38Z</dcterms:created>
  <dc:creator>Marilyn Turnamian</dc:creator>
  <dc:description/>
  <dc:language>en-US</dc:language>
  <cp:lastModifiedBy>Judi L. Paige</cp:lastModifiedBy>
  <cp:lastPrinted>1999-06-28T19:27:31Z</cp:lastPrinted>
  <dcterms:modified xsi:type="dcterms:W3CDTF">2011-10-05T12:53:22Z</dcterms:modified>
  <cp:revision>174</cp:revision>
  <dc:subject/>
  <dc:title>Chapter 7:  Relational Database Design</dc:title>
</cp:coreProperties>
</file>