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5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C45D53E-95B5-4814-B122-FC35D0A95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B6EFAB1-13BE-4D96-A5EA-CE80A2D63C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D0988F8-3E25-4105-866B-1A01C2D7B9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ED8ADD6-F8B6-4289-B8C9-20F85B07D5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6B725BA-9982-4179-BEEC-8A232B79D2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910F76E-4427-4E2A-933F-7D3B009A08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7F5DF9B-CAD9-49C3-BA10-3C8BC0BC0D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3259A7-6EA9-4354-92E6-85836A963D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240E4C4-3086-4381-9E54-A8AF3E3D0A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FF65966-9A09-4E87-94DE-A3A7770AB4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AB54BE6-2D7E-41B6-82BD-FEE81EFBD5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92E132-CFFE-4673-BD2A-5AC3674EBA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C16DA5-5216-4CE2-A6D8-B1E436578D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D6DCA5-E934-4B9F-A96B-16D1665CF7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18DDB9A-05F4-4B66-993D-4AC2476D6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43955E8-4F9A-4C76-AF0C-C2BDF28A8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0BEE190-1071-4ED0-82FF-DE12AB52BA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8F45FCC-F10E-4A83-A513-110B50BFFC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757BD4B-452B-48B6-94E8-A508AFA069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D8DF9A7-8605-4395-8939-EDC4CACCFB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F2E9B02-89F9-455E-87BE-5433E0BC6B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D13B143-E9CE-4E48-BAFB-B9E42848A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EE7B769-DA12-4CDC-B340-6DA4BB11CE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9F27418-C664-4D3B-83A5-FED3278293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70E6272-0DE6-4BA3-B991-4F5EC10FCD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1812C4-A70D-4F5B-B423-517BCE9968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F48CCA3-CFBB-4D06-B78F-52BBA8A0A0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F9DC3D2-E7F7-4213-B09D-87047315F9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5FED44E-F831-48F0-A054-5CDD82293E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986530A-F22E-4D47-BC72-60E7E2F7B4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314EBD7-5690-4BDB-9A76-CB1B546B3F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FCC2A0B-2E4D-4F3E-9BBE-950EFDB30C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3FD7BF9-63A3-4E09-A1CC-4F62CEDC4A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8F2680F-F5D9-4176-A784-0361086045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591809C-88BC-4044-9EF4-BEB7D04EF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FC1DE17-2A89-4470-BB58-6C4863B747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1BC678B-DB41-43C1-83BB-37B20B5C6A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DB9D99A-2409-47EA-8E4F-80D6B2F38C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BA35240-312E-4ECC-9314-05209A71BC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2860614-F288-493C-BC0D-126ADBFCB5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275CF11-E834-46F8-B395-EA0EA25A09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936F146-3945-4CB4-9783-2CD0BCF7BF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9F561E6-DEEF-4354-881D-3023157A69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5C4BB7A-69BB-4D67-B80C-85F44CEC64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437016-F246-48B5-9914-C240F24DB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C9EDFF9-720E-4CD6-9D61-B4666016E4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2468C32-9669-4439-93F7-C0A24BD21C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3EE6171-D2DF-4407-A335-34E577FCC2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C95B71F-1525-458C-83E6-BD6FD0B15D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8CC7F5B-15AA-411F-A373-9E155ABBC6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C7CE073-7C6D-4B5B-A755-F48718FA1D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15D2FF8-1B4E-4735-9841-BC013B6402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390CD58-46B4-4768-B4DC-91B278A0BA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139E9AD-A010-402A-8693-51C85EC10B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7DFB5F4-B3B2-4E68-8849-AF03225544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9024E37-D103-4461-9E05-E171E8A234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6B2975E-F57B-441B-82E7-E8052A6473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44684DB-15C1-4C3B-A5A4-567E9DC460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DB32BAB-568B-4191-A5C8-4A8958C940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B9BE958-E1E7-44D1-A0D5-D23BC95B1F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7648581-E40B-4EA0-925F-01B4B83C7A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5812C85-BD9A-4E85-BF8A-094A808BE3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E814D89-CEDC-434F-8B1C-9250F3305A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4832155-C3AE-48E2-A299-1D0D4FD539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85162C2-4EFE-4AEC-8FA5-D58B91DBAC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BB8C697-9212-4EE9-893A-1BBD69E354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DC8B0B8-000B-4BAB-AFBE-FD96E8F9B3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4907451-7324-41BF-A0DF-0588C5D316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66136DD-BC1F-4087-97F9-C3D8188D2A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9686700-2841-4AD6-B2D8-F7A0B71916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FF00ED9-3929-4363-ADB6-FFC63E5FA3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5D5539D-1F28-4B32-A2CF-849B318D13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0A30671-47CD-4EB2-9122-2D6CFDD898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86EDE38-F9C0-46CE-BFA9-2207154B3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48724A-393A-4B22-9CAD-9A31542684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7AA57A-4B50-4138-A5DD-6729A18558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136D123-DB6D-4B6A-ADCF-8402FA337A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B3D525-C19D-4F09-9D50-741D833B25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1100B05-A323-452A-859D-778B4DD902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99D87B3-0714-4FCB-BF46-76B10BE141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A8D6E8D-C712-4A4C-8265-C295CA1385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BF7C64-75B1-4F19-BB0F-C935FF5E89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D8B9EC-C2CA-44C1-A0C5-880432C938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FFD3BAD-992D-4604-8F46-54F7A9146E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8530F7-C25C-4FC7-871D-5AD3D7DC55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D026CC6-0B53-45A8-9D0E-2CF0A9B14B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7E70FB-BF5A-4941-BE47-11925C0959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92BBA4A-583A-4176-A7FE-81EF434BB1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B5A71A0-7E2A-4D1B-A469-30B0139E4B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BE20D39-D1ED-489B-A5D3-D4C6180DAC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F9CFCC5-2F7D-4940-921F-8A1D598CE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4F0ADE3-D64E-484F-8552-C8C073A4D6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F2F433B-8D61-4A99-92B9-34750A9D3C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46D1C1B-8325-4676-A421-44802A78DF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01E41D8-5C53-4EDE-9352-D46859563B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580BA10-EB3F-4AF7-AF05-03E99F78EA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B844635-FBEC-44D5-82A6-8DE2F2098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02BA2FA-5EAA-475D-97A6-BE5DDD1A39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2E87205-F8D4-4376-8E01-E72527F227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F2A6474-74B3-4003-A186-3E6ABA14FD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9E985CD-AEDD-415B-BC3D-D311AAB762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3F1670-DF44-4459-984D-E91A455E1E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42202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9.</a:t>
            </a:r>
            <a:fld id="{1DA6CEA1-0103-4B9F-A6C8-AD5193879ABC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8916840" y="5445000"/>
            <a:ext cx="227160" cy="4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9: Distributed Databas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8"/>
          <p:cNvSpPr/>
          <p:nvPr/>
        </p:nvSpPr>
        <p:spPr>
          <a:xfrm>
            <a:off x="3324240" y="3740040"/>
            <a:ext cx="2114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3390840" y="773280"/>
            <a:ext cx="2133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42480" y="0"/>
            <a:ext cx="82011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Vertical Fragmentation of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employee_info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elation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247760" y="773280"/>
            <a:ext cx="2133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417680" y="76032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anch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411720" y="7840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5514840" y="773280"/>
            <a:ext cx="2133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977440" y="75564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uple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247760" y="1252440"/>
            <a:ext cx="2133720" cy="19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276200" y="1273320"/>
            <a:ext cx="13845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y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y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y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y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3381480" y="1255680"/>
            <a:ext cx="213336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800880" y="1249200"/>
            <a:ext cx="11437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514840" y="1252440"/>
            <a:ext cx="2133720" cy="19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245280" y="17654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1116000" y="3265560"/>
            <a:ext cx="7281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osi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ranch_name, customer_name, tuple_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mployee_inf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6529320" y="1255680"/>
            <a:ext cx="3225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8"/>
          <p:cNvSpPr/>
          <p:nvPr/>
        </p:nvSpPr>
        <p:spPr>
          <a:xfrm>
            <a:off x="1190520" y="3740040"/>
            <a:ext cx="2133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1230480" y="3751200"/>
            <a:ext cx="20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unt_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3809520" y="378000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5457960" y="3740040"/>
            <a:ext cx="21333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5920200" y="3751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uple_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1190520" y="4241880"/>
            <a:ext cx="2133720" cy="20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3324240" y="4235400"/>
            <a:ext cx="2133720" cy="204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3743640" y="4241880"/>
            <a:ext cx="8895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5457960" y="4245120"/>
            <a:ext cx="2133360" cy="20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6472080" y="4287960"/>
            <a:ext cx="3225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3"/>
          <p:cNvSpPr/>
          <p:nvPr/>
        </p:nvSpPr>
        <p:spPr>
          <a:xfrm>
            <a:off x="1739160" y="4278240"/>
            <a:ext cx="8604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3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2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1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4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1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4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6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723960" y="6246720"/>
            <a:ext cx="671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osi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ccount_number, balance, tuple_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mployee_inf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irectory Access Protoco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ommonly used directory access protoc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 (Lightweight Directory Access Protoc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from earlier X.500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 Why not use database protocols like ODBC/JDB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protocols for a limited type of data access, evolved parallel to ODBC/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nice hierarchical naming mechanism similar to file system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an be partitioned amongst multiple servers for different parts of the hierarchy, yet give a single view to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different servers for Bell Labs Murray Hill and Bell Labs Bangal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ies may use databases as storage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66720" y="0"/>
            <a:ext cx="8207280" cy="12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DAP: Lightweight Directory Access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26920" y="1092240"/>
            <a:ext cx="81676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 Dat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Directory 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DAP Data Mod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 directories stor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ies are similar to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entry must have uniqu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tinguished name (D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 made up of a sequence of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lative distinguished names (RD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of a 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=Silberschatz, ou-Bell Labs, o=Lucent, c=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RDNs (can be specified as part of sche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: common name  ou: organization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:  organization       c: 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paths in a file system but written in revers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DAP Data Mode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ies can hav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 are multi-valued by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 has several built-in typ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, string, tim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:   telephone number        PostalAddress:  post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 allows definition of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bject cla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classes specify attribute names an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inheritance to define object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y can be specified to be of one or more object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to have single most-specific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DAP Data Mode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ies organized into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rectory information t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ording to their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f level usually represent specific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node entries represent objects such as organizational units, organizations or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of a node inherit the DN of the parent, and add on RD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internal node with DN c=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nodes have DN starting with c=USA and further RDNs such as o or 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 of an entry can be generated by traversing path from 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f level can be an alias pointing to another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ies can thus have more than one 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person in more than one organization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DAP Data Manipul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ike SQL, LDAP does not define DDL or D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it defines a network protocol for DDL and D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use an API or vendor specific front 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 also defines a file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DAP Data Interchange Format (LDIF)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ing mechanism is very simple: only selection &amp;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DAP 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 query must spec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: a node in the DIT from where search is to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arch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an combination of conditions on attributes of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ity, wild-cards and approximate equality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the base, the  base and its children, or the entire subtree from th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 to be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on number of results and on resource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also specify whether to automatically dereference al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 URLs are one way of specifying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 API is another altern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DAP UR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26920" y="1091880"/>
            <a:ext cx="81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part of URL specifis server and DN of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:://aura.research.bell-labs.com/o=Lucent,c=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 further parts separated by ?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:://aura.research.bell-labs.com/o=Lucent,c=USA??sub?cn=K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 parts spec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 to return (empty means 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pe (sub indicates entire subtre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condition (cn=Ko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 Code using LDAP AP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60400" y="1091880"/>
            <a:ext cx="8283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#include &lt;stdio.h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#include &lt;ldap.h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main( 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LDAP *l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LDAPMessage *res, *entry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char *dn, *attr, *attrList [ ] = {“telephoneNumber”, NULL}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erElement *ptr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int vals, i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     // </a:t>
            </a:r>
            <a:r>
              <a:rPr b="0" i="1" lang="en-US" sz="1800" spc="-1" strike="noStrike">
                <a:solidFill>
                  <a:srgbClr val="000000"/>
                </a:solidFill>
                <a:latin typeface="Microsoft Sans Serif"/>
              </a:rPr>
              <a:t>Open a connection to serv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ld = ldap_open(“aura.research.bell-labs.com”, LDAP_PORT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ldap_simple_bind(ld, “avi”, “avi-passwd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Microsoft Sans Serif"/>
              </a:rPr>
              <a:t>… </a:t>
            </a:r>
            <a:r>
              <a:rPr b="0" i="1" lang="en-US" sz="1800" spc="-1" strike="noStrike">
                <a:solidFill>
                  <a:srgbClr val="000000"/>
                </a:solidFill>
                <a:latin typeface="Microsoft Sans Serif"/>
              </a:rPr>
              <a:t>actual query (next slide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ldap_unbind(ld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 Code using LDAP API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04600" y="773280"/>
            <a:ext cx="85453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ldap_search_s(ld, “o=Lucent, c=USA”, LDAP_SCOPE_SUBTRE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                 “cn=Korth”, attrList, /* attrsonly*/ 0, &amp;res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              /*attrsonly = 1 =&gt; return only schema not actual results*/ printf(“found%d entries”, ldap_count_entries(ld, res)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for (entry=ldap_first_entry(ld, res); entry != NULL; 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entry=ldap_next_entry(id, entry)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dn = ldap_get_dn(ld, entry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printf(“dn: %s”, dn);   </a:t>
            </a:r>
            <a:r>
              <a:rPr b="0" i="1" lang="en-US" sz="1800" spc="-1" strike="noStrike">
                <a:solidFill>
                  <a:srgbClr val="000000"/>
                </a:solidFill>
                <a:latin typeface="Microsoft Sans Serif"/>
              </a:rPr>
              <a:t>/* dn: DN of matching entry *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ldap_memfree(dn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for(attr = ldap_first_attribute(ld, entry, &amp;ptr); attr != NUL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      attr = ldap_next_attribute(ld, entry, ptr)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        {                                       // </a:t>
            </a:r>
            <a:r>
              <a:rPr b="0" i="1" lang="en-US" sz="1800" spc="-1" strike="noStrike">
                <a:solidFill>
                  <a:srgbClr val="000000"/>
                </a:solidFill>
                <a:latin typeface="Microsoft Sans Serif"/>
              </a:rPr>
              <a:t>for each attribu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    printf(“%s:”, attr);               // </a:t>
            </a:r>
            <a:r>
              <a:rPr b="0" i="1" lang="en-US" sz="1800" spc="-1" strike="noStrike">
                <a:solidFill>
                  <a:srgbClr val="000000"/>
                </a:solidFill>
                <a:latin typeface="Microsoft Sans Serif"/>
              </a:rPr>
              <a:t>print name of attribu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    vals = ldap_get_values(ld, entry, attr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    for (i = 0; vals[i] != NULL; i ++)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printf(“%s”, vals[i]);  // </a:t>
            </a:r>
            <a:r>
              <a:rPr b="0" i="1" lang="en-US" sz="1800" spc="-1" strike="noStrike">
                <a:solidFill>
                  <a:srgbClr val="000000"/>
                </a:solidFill>
                <a:latin typeface="Microsoft Sans Serif"/>
              </a:rPr>
              <a:t>since attrs can be multivalu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    ldap_value_free(vals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       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ldap_msgfree(re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dvantages of Fragmentation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920" y="1092240"/>
            <a:ext cx="70804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parallel processing on fragments of a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a relation to be split so that tuples are located where they are most frequently ac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uples to be split so that each part of the tuple is stored where it is most frequently ac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ple-id attribute allows efficient joining of vertical fra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parallel processing on a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and horizontal fragmentation can be mix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gments may be successively fragmented to an arbitrary dep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DAP API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 API also has functions to create, update and delete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function call behaves as a separat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 does not support atomicity of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istributed Directory Tre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6560" y="1092240"/>
            <a:ext cx="824076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ational information may be split into multiple directory information tre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Suffix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of a DIT gives RDN to be tagged onto to all entries to get an overall D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37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.g. two DITs, one with suffix   o=Lucent, c=USA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and another with suffix           o=Lucent, c=Ind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ations often split up DITs based on geographical location or by organizational struct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ny LDAP implementations support replication (master-slave or multi-master replication) of DITs (not part of LDAP 3 standar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node in a DIT may be a</a:t>
            </a: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referral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to a node in another D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.g.  Ou= Bell Labs may have a separate DIT, and DIT for o=Lucent may have a leaf with ou=Bell Labs containing a referral to the Bell Labs D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feralls are the key to integrating a distributed collection of director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n a server gets a query reaching a referral node, it may ei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37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ward query to referred DIT and return answer to client, 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37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ive referral back to client, which transparently sends query to referred DIT (without user interventio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-441360" y="2049480"/>
            <a:ext cx="144360" cy="7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ra Slides on 3PC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-441360" y="2049480"/>
            <a:ext cx="144360" cy="7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ree Phase Commit (3PC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26920" y="1091880"/>
            <a:ext cx="81806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 network partitio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t any point, at least one site must be up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t most K sites (participants as well as coordinator) can fai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hase 1: Obtaining Preliminary Decision: Identical to 2PC Phase 1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very site is ready to commit if instructed to do s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hase 2 of 2PC is split into 2 phases, Phase 2 and Phase 3 of 3P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phase 2 coordinator makes a decision as in 2PC (called the </a:t>
            </a: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pre-commit decisi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 and records it in multiple (at least K) si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phase 3, coordinator sends commit/abort message to all participating sites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der 3PC, knowledge of pre-commit decision can be used to commit despite coordinator failur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voids blocking problem as long as &lt; K sites fai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rawbacks: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er overhea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sumptions may not be satisfied in pract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ree Phase Commit (3PC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work partit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ny point, at least one site must be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most K sites (participants as well as coordinator) can 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1: Obtaining Preliminary Decision: Identical to 2PC Phas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site is ready to commit if instructed to do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2 PC each site is obligated to wait for decision from 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3PC, knowledge of pre-commit decision can be used to commit despite coordinator fail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7880" y="3283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3PC: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hase 2. Recording the Preliminary Decision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or adds a decision record (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om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) in its log and forces record to stable stor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or sends a message to each participant informing it of the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 records decision in it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bort decision reached then participant aborts lo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re-commit decision reached then participant replies with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knowled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7880" y="30600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3PC: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hase 3. Recording Decision in the Database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d only if decision in phase 2 was to precom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or collects acknowledgements. It sends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message to the participants as soon as it receives K acknowledg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or adds the record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in its log and forces record to stable stor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or sends a message to each participant to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s take appropriate action loc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PC: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ndling Site Failu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Failu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on recovery, a participating site examines its log and does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contains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: no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contains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: no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contains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, but no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or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om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: site consults Ci to determine the fat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i 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orted, site execu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(and writ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i  says T committed, site execu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and writ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itted, site resumes the protocol from receip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om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 (thus recording 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om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in the log, and send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knowled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 sent to coordinato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PC: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ndling Site Failur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contains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om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, but no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or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: site consults Ci to determine the fat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orted, site execu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i 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itted, site execu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i 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ill in precommit state, site resumes protocol at this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contains no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 for 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ite execu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writes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Transparenc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920" y="1091880"/>
            <a:ext cx="798048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transpar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gree to which system user may remain unaware of the details of how and where the data items are stored in a distribute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ransparency issues in relation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ragmentation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plication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cation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9.0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431" name="Picture 5" descr=""/>
          <p:cNvPicPr/>
          <p:nvPr/>
        </p:nvPicPr>
        <p:blipFill>
          <a:blip r:embed="rId1"/>
          <a:stretch/>
        </p:blipFill>
        <p:spPr>
          <a:xfrm>
            <a:off x="720720" y="906480"/>
            <a:ext cx="800244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9.0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433" name="Picture 13" descr=""/>
          <p:cNvPicPr/>
          <p:nvPr/>
        </p:nvPicPr>
        <p:blipFill>
          <a:blip r:embed="rId1"/>
          <a:stretch/>
        </p:blipFill>
        <p:spPr>
          <a:xfrm>
            <a:off x="561960" y="1500120"/>
            <a:ext cx="825804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9.0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435" name="Picture 5" descr=""/>
          <p:cNvPicPr/>
          <p:nvPr/>
        </p:nvPicPr>
        <p:blipFill>
          <a:blip r:embed="rId1"/>
          <a:stretch/>
        </p:blipFill>
        <p:spPr>
          <a:xfrm>
            <a:off x="795240" y="917640"/>
            <a:ext cx="80168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9.05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437" name="Picture 9" descr=""/>
          <p:cNvPicPr/>
          <p:nvPr/>
        </p:nvPicPr>
        <p:blipFill>
          <a:blip r:embed="rId1"/>
          <a:stretch/>
        </p:blipFill>
        <p:spPr>
          <a:xfrm>
            <a:off x="3046320" y="1057320"/>
            <a:ext cx="34513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9.06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439" name="Picture 5" descr=""/>
          <p:cNvPicPr/>
          <p:nvPr/>
        </p:nvPicPr>
        <p:blipFill>
          <a:blip r:embed="rId1"/>
          <a:stretch/>
        </p:blipFill>
        <p:spPr>
          <a:xfrm>
            <a:off x="2354400" y="781200"/>
            <a:ext cx="496404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9.07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441" name="Picture 3" descr="New PDF from Images Output.pdf"/>
          <p:cNvPicPr/>
          <p:nvPr/>
        </p:nvPicPr>
        <p:blipFill>
          <a:blip r:embed="rId1"/>
          <a:stretch/>
        </p:blipFill>
        <p:spPr>
          <a:xfrm>
            <a:off x="333360" y="731880"/>
            <a:ext cx="84837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aming of Data Items - Criteri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Every data item must have a system-wide unique 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It should be possible to find the location of data items efficien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It should be possible to change the location of data items transparen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ach site should be able to create new data items autonomous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entralized Scheme - Name Serv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server assigns all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ite maintains a record of local data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s ask name server to locate non-local data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ies naming criteria 1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satisfy naming criteri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server is a potential performance bottlen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server is a single point of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se of Alias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66152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to centralized scheme: each site prefixes its own site identifier to any name that it generates i.e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.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fills having a unique identifier, and avoids problems associated with central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fails to achieve network transpar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Create  a set of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iases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ata items; Store the mapping of aliases to the real names at each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r can be unaware of the physical location of a data item, and is unaffected if the data item is moved from one site to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istributed Transactions 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nd 2 Phase Commi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istributed Transa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access data at several s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ite has a local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ransaction 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ponsible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ing a log for recovery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ing in coordinating the concurrent execution of the transactions executing at that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ite has 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ransaction coordin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responsible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the execution of transactions that originate at the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ng subtransactions at appropriate sites for exec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ing the termination of each transaction that originates at the site, which may result in the transaction being committed at all sites or aborted at all s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System Architectu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720720" y="906480"/>
            <a:ext cx="800244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ystem Failure Mod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s unique to distributed sys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 of a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 of ma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d by network transmission control protocols such as TCP-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 of a communication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d by network protocols, by routing messages via alternative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twork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twork is said to b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rtitio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t has been split into two or more subsystems that lack any connection between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a subsystem may consist of a single n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partitioning and site failures are generally indistinguish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hapter 19: Distributed Databas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109188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eous and Homogeneous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Data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 Control in Distributed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Query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eous Distributed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mit Protoco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 protocols are used to ensure atomicity across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which executes at multiple sites must either be committed at all the sites, or aborted at all the s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able to have a transaction committed at one site and aborted at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wo-phase comm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PC) protocol is widely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ree-phase comm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PC) protocol is more complicated and more expensive, but avoids some drawbacks of two-phase commit protocol.  This protocol is not used in pract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wo Phase Commit Protocol (2PC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il-sto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– failed sites simply stop working, and do not cause any other harm, such as sending incorrect messages to other s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of the protocol is initiated by the coordinator after the last step of the transaction has been rea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tocol involves all the local sites at which the transaction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 transaction initiated at s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let the transaction coordinator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hase 1: Obtaining a Decis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or asks all participants to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repa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mmit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s the records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to the log and forces log to stable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s to all sites at whi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on receiving message, transaction manager at site determines if it can commit th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t, add a record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to the log and se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transaction can be committed, t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record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to the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recor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table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 to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hase 2: Recording the Decis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committed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d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 from all the participating sites: otherwi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o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or adds a decision record,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or &lt;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, to the log and forces record onto stable storage. Once the record stable storage it is irrevocable (even if failures occ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or sends a message to each participant informing it of the decision (commit or ab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s take appropriate action lo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ndling of Failures - Site Failu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6920" y="10918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s, it examines its log to determine the fat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active at the time of the fail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contain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: txn had completed, nothing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contains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: txn had completed, nothing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contains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: site must consult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determine the fat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itted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 write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rted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 contains no log records concern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es that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iled before responding to th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from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failur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ludes the sending of such a response, coordinat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abo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execu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Handling of Failures- Coordinator Failure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ordinator fails while the commit protocol 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executing then participating sites must decide 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s f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n active site contains a 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i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record in its log, the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ust be commit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n active site contains an 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or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record in its log, the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ust be abor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ome active participating site does not contain a 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record in its log, then the failed coordinat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not have decided to commi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therefore abor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owever, such a site must reject any subsequent 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message 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none of the above cases holds, then all active sites must have a 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record in their logs, but no additional control records (such as 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or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of 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i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is case active sites must wait 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recover, to find dec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locking probl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active sites may have to wait for failed coordinator to recov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85960" y="2170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ndling of Failures - Network Parti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coordinator and all its participants remain in one partition, the failure has no effect on the commit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coordinator and its participants belong to several part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s that are not in the partition containing the coordinator think the coordinator has failed, and execute the protocol to deal with failure of the coordin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arm results, but sites may still have to wait for decision from coordin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ordinator and the sites are in the same partition as the coordinator think that the sites in the other partition have failed, and follow the usual commit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no harm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covery and Concurrency Contr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-doubt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actions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, but neither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, nor an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log rec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covering site must determine the commit-abort status of such transactions by contacting other sites; this can slow and potentially block reco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algorithms can note lock information in the 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f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, write out 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list of locks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the log is written (read locks can be omit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very in-doubt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ll the locks noted in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log record are reac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lock reacquisition, transaction processing can resume; the commit or rollback of in-doubt transactions is performed concurrently with the execution of new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ree Phase Commit (3PC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6920" y="1091880"/>
            <a:ext cx="81806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 network partitio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t any point, at least one site must be up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t most K sites (participants as well as coordinator) can fai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hase 1: Obtaining Preliminary Decision: Identical to 2PC Phase 1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very site is ready to commit if instructed to do s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hase 2 of 2PC is split into 2 phases, Phase 2 and Phase 3 of 3P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phase 2 coordinator makes a decision as in 2PC (called the </a:t>
            </a: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pre-commit decisi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 and records it in multiple (at least K) si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phase 3, coordinator sends commit/abort message to all participating sites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der 3PC, knowledge of pre-commit decision can be used to commit despite coordinator failur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voids blocking problem as long as &lt; K sites fai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rawbacks: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er overhea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sumptions may not be satisfied in pract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48240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lternative Models of Transaction Process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on of a single transaction spanning multiple sites is inappropriate for many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transaction crossing an organizational bou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rganization would like to permit an externally initiated transaction  to block local transactions for an indeterminat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models carry out transactions by sending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to handle messages must be carefully designed to ensure atomicity and durability properties for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ion cannot be guaranteed, in that intermediate stages are visible,  but code must ensure no inconsistent states result due to concurr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ersistent messaging 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systems that provide transactional properties to 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are guaranteed to be delivered exactly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discuss implementation technique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istributed Database Syste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091880"/>
            <a:ext cx="8267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database system consists of loosely coupled sites that share no physical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systems that run on each site are independent of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may access data at one or more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60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lternative Mode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6920" y="1092240"/>
            <a:ext cx="808200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vating example:  funds transfer between two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phase commit would have the potential to block updates on the accounts involved in funds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 money from source account and send a message to other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receives message and credits destination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has long been used for distributed transactions (even before computers were invented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ity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ransaction sending a message is committed, message must guaranteed to be deli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rantee as long as destination site is up and reachable, code to handle undeliverable messages must also be avail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redit money back to source accou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ending transaction aborts, message must not be s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1960" y="48240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rror Conditions with Persistent Messag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920" y="10918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to handle messages has to take care of variety of failure situations (even assuming guaranteed message deliv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if destination account does not exist, failure message must be sent back to sourc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failure message is received from destination site, or destination site itself does not exist, money must be deposited back in source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if source account has been 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humans to take care of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ode executing transaction processing using 2PC does not have to deal with such fail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situations where extra effort of error handling is worth the benefit of absence of b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pretty much all transactions across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6560" y="2901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ersistent Messaging and Workflow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orkflows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general model of transactional processing involving multiple sites and possibly human processing of certain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when a bank receives a loan application, it may ne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external credit-checking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approvals of one or more 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respond to the loa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tudy workflows in Chapter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stent messaging forms the underlying infrastructure for workflows in a distributed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mplementation of Persistent Messag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44400" y="1093680"/>
            <a:ext cx="7831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ing site protoco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transaction wishes to send a persistent message, it writes a record containing the message in a special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s_to_send;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message is given a unique message identif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ssage delivery process monitors the relation, and when a new message is found, it sends the message to its destin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ssage delivery process deletes a message from the relation only after it receives an acknowledgment from the destination si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receives no acknowledgement from the destination site, after some time it sends the message again. It repeats this until an acknowledgment is recei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fter some period of time, that the message is undeliverable, exception handling code provided by the application is invoked to deal with the fail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the message to a relation and processing it only after the transaction commits ensures that the message will be delivered if and only if the transaction comm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7880" y="28404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mplementation of Persistent Messaging (Cont.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13960" y="1093320"/>
            <a:ext cx="7954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ing site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site receives a persistent message, it runs a transaction that adds the message to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ceived_messa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message identifier is not already present in the 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e transaction commits, or if the message was already present in the relation, the receiving site sends an acknowledgment back to the sending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sending the acknowledgment before the transaction commits is not safe, since a system failure may then result in loss of the mess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any messaging systems, it is possible for messages to get delayed arbitrarily, although such delays are very unlike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essage is given a timestamp, and if the timestamp of a received message is older than some cutoff, the message is discar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essages recorded in the received messages relation that are older than the cutoff can be de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currency Contr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currency Contr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920" y="1092240"/>
            <a:ext cx="7848720" cy="26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 concurrency control schemes for use in distributed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ssume that each site participates in the execution of a commit protocol to ensure global transaction automi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ssume all replicas of any item are upd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ee how to relax this in case of site failure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ngle-Lock-Manager Approach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920" y="1091880"/>
            <a:ext cx="766152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aintain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ck manager that resides in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sen site, say 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transaction needs to lock a data item, it sends a lock request to 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lock manager determines whether the lock can be granted immedi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lock manager sends a message to the site which initiated th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, request is delayed until it can be granted, at which time a message is sent to the initiating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ngle-Lock-Manager Approach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action can read the data item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e of the sites at which a replica of the data item res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must be performed on all replicas of a data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 of sch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deadlock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dvantages of scheme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leneck: lock manager site becomes a bottlen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lnerability: system is vulnerable to lock manager site fail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istributed Lock Manag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approach, functionality of locking is implemented by lock managers at each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 managers control access to local data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pecial protocols may be used for rep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: work is distributed and can be made robust to fail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dvantage:  deadlock detection is more com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 managers cooperate for deadlock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on thi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variants of this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ity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ased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rum consen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omogeneous Distributed Databas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6920" y="10918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homogeneous distributed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ites have identical soft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aware of each other and agree to cooperate in processing user reque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ite surrenders part of its autonomy in terms of right to change schemas or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rs to user as a sing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heterogeneous distributed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ites may use different schemas an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in schema is a major problem for query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in software is a major problem for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s may not be aware of each other and may provide on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facilities for cooperation in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imary Cop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one replica of data item to be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imary co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containing the replica is called 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imary sit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at data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data items can have different primary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transaction needs to lock a data ite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t requests a lock at the primary sit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ly gets lock on all replicas of the data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 control for replicated data handled similarly to unreplicated data - simple implem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primary site of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il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accessible even though other  sites containing a replica may be acce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jority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lock manager at each site administers lock and unlock requests for data items stored at that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transaction wishes to lock an unreplicated data ite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iding at site 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message is sent to 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‘s lock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locked in an incompatible mode, then the request is delayed until it can be gra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lock request can be granted, the lock manager sends a message back to the initiator indicating that the lock request has been gra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jority Protoco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se of replica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replicated at n sites, then a lock request message must be sent to more than half of the n sites in whi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t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action does not operate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til it has obtained a lock on a majority of the replica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riting the data item, transaction performs writes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l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used even when some sites are un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 on how handle writes in the presence of site failure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2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+ 1) messages for handling lock requests, and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+ 1) messages for handling unlock reque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for deadlock even with single item - e.g., each of 3 transactions may have locks on 1/3rd of the replicas of a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iased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lock manager at each site as in majority protocol, however, requests for shared locks are handled differently than requests for exclusive 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loc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When a transaction needs to lock data ite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t simply requests a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the lock manager at one site containing a replica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lusive loc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When transaction needs to lock data ite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t requests a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the lock manager at all sites containing a replica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 - imposes less overhead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dvantage - additional overhead on 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orum Consensus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eneralization of both majority and biased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ite is assigned a we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S be the total of all site 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wo values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ad quor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rite quor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S     and    2 *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rums can be chosen (and S computed) separately for each i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ead must lock enough replicas that the sum of the site weights is &gt;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write must lock enough replicas that the sum of the site weights is &gt;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ow we assume all replicas are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s to allow some sites to be unavailable described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imestamp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6920" y="10918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 based concurrency-control protocols can be used in distribut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ransaction must be given a unique time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problem:  how to generate a timestamp in a distributed fash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ite generates a unique local timestamp using either a logical counter or the local c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unique timestamp is obtained by concatenating the unique local timestamp with the unique identif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3" descr=""/>
          <p:cNvPicPr/>
          <p:nvPr/>
        </p:nvPicPr>
        <p:blipFill>
          <a:blip r:embed="rId1"/>
          <a:stretch/>
        </p:blipFill>
        <p:spPr>
          <a:xfrm>
            <a:off x="509760" y="3882960"/>
            <a:ext cx="825804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imestamp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te with a slow clock will assign smaller timest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logically correct: serializability not aff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: “disadvantages”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x this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within each site 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gical cloc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ich generates the unique local time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 that 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 its logical clock whenever a request is received from a transaction Ti with timestamp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and x is greater that the current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, site 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s its logical clock to the valu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plication with Weak Consistenc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ommercial databases support replication of data with weak degrees of consistency (I.e., without a guarantee of serializabili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ster-slave repl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updates are performed at a single “master” site, and propagated to “slave” sit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agation is not part of the update transaction: its is decoup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immediately after transaction com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period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ay only be read at slave sites, not up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to obtain locks at any remot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ularly useful for distribut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from central office to branch-off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useful for running read-only queries offline from the main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plication with Weak Consistency (Cont.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s should see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action-consistent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napshot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a state of the database reflecting all effects of all transactions up to some point in the serialization order, and no effects of any later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Oracle provides a </a:t>
            </a: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create snapsh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ment to create a snapshot of a relation or a set of relations at a remot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shot refresh either by recomputation or by incremental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fresh (continuous or periodic) or  manual refr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master and Lazy Replic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multimaster replication (also called update-anywhere replication) updates are permitted at any replica, and are automatically propagated to all rep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model in distributed databases, where transactions are unaware of the details of replication, and database system propagates updates as part of the sam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led with 2 phase com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systems support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azy propa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re  updates are transmitted after transaction com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pdates to occur even if some sites are disconnected from the network, but at the cost of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44560" y="1173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istributed Data Storag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092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relational dat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aintains multiple copies of data, stored in different sites, for faster retrieval and fault toler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is partitioned into several fragments stored in distinct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and fragmentation can be comb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is partitioned into several fragments: system maintains several identical replicas of each such frag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Handl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6560" y="1091880"/>
            <a:ext cx="792036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following two transactions and history, with item X and transaction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site 1, and item Y and transaction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sit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399320" y="1841400"/>
            <a:ext cx="2043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5666400" y="1841400"/>
            <a:ext cx="2043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91440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739152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8"/>
          <p:cNvSpPr/>
          <p:nvPr/>
        </p:nvSpPr>
        <p:spPr>
          <a:xfrm>
            <a:off x="639720" y="32767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9"/>
          <p:cNvSpPr/>
          <p:nvPr/>
        </p:nvSpPr>
        <p:spPr>
          <a:xfrm>
            <a:off x="426708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1051200" y="3440160"/>
            <a:ext cx="148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lock on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4463640" y="3757680"/>
            <a:ext cx="23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lock on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X-lock on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050840" y="512136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X-lock on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646200" y="5745240"/>
            <a:ext cx="72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: deadlock which cannot be detected locally at either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entralized Approach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lobal  wait-for graph is constructed and maintained in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g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; the deadlock-detection 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l 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al, but unknown, state of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tructed 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Approximation generated by the controller during the execution of its algorithm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lobal wait-for graph can be constructed w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w edge is inserted in or removed from one of the local  wait-for grap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 of changes  have occurred in a local wait-for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ordinator needs to invoke cycle-det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coordinator finds a cycle, it selects a victim and notifies all sites. The sites roll back the victim trans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al and Global Wait-For Graph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7849800" y="18018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6345000" y="47880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808200" y="720720"/>
            <a:ext cx="8018280" cy="3292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"/>
          <p:cNvPicPr/>
          <p:nvPr/>
        </p:nvPicPr>
        <p:blipFill>
          <a:blip r:embed="rId2"/>
          <a:stretch/>
        </p:blipFill>
        <p:spPr>
          <a:xfrm>
            <a:off x="2874960" y="4199040"/>
            <a:ext cx="345276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xample Wait-For Graph for False Cycl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0" name="Text Box 1028"/>
          <p:cNvSpPr/>
          <p:nvPr/>
        </p:nvSpPr>
        <p:spPr>
          <a:xfrm>
            <a:off x="1055880" y="106848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t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2354400" y="781200"/>
            <a:ext cx="496404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alse Cycl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6920" y="10918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starting from the state shown in fig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eases resources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ing in a message remo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 from  the Transaction  Manager at s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coordin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And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s a resource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s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ing in a message inse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further that the insert message reaches befor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happen due to network de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ordinator would then find a false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lse cycle above never existed in re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 cycles cannot occur if two-phase locking is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nnecessary Rollbac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necessary rollbacks may result when deadlock has indeed occurred and a victim has been picked, and meanwhile one of the transactions was aborted for reasons unrelated to the dead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necessary rollbacks can result from false cycles in the global wait-for graph; however, likelihood of false cycles is 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vail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vail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vailability: time for which system is not fully usable should be extremely low (e.g. 99.99% availabili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ustness: ability of system to function spite of failures of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s are more likely in large distribut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robust, a distributed system mu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 fail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figure the system so computation may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/reintegration when a site or link is repa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 detection: distinguishing link failure from site failure is 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artial) solution: have multiple links, multiple link failure is likely a site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configu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figu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rt all transactions that were active at a failed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them wait could interfere with other transactions since they may hold locks on other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in case only some replicas of a data item failed, it may be possible to continue transactions that had accessed data at a failed site (more on this late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eplicated data items were at failed site, update system catalog to remove them from the list of repl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hould be reversed when failed site recovers, but additional care needs to be taken to bring values up to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failed site was a central server for some subsystem,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held to determine the new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ame server, concurrency coordinator, global deadlock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configur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network partition may not be distinguishable from site failure, the following situations must be avo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ore more central servers elected in distinct part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one partition updates a replicated data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s must be able to continue even if some sites are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majority ba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of “read one write all available” is tantalizing but causes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Replic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1092240"/>
            <a:ext cx="78156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lation or fragment of a relation i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lic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it is stored redundantly in two or more s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ull repl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relation is the case where the relation is stored at all s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y redundant databases are those in which every site contains a copy of the entir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jority-Based Approach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jority protocol for distributed concurrency control can be modified to work even if some sites are un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eplica of each item h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ion 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is updated when the replica is updated, as outlined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ck request is sent to at least ½ the sites at which item replicas are stored and operation continues only when a lock is obtained on a majority of the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perations look at all replicas locked, and read the value from the replica with largest versio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write this value and version number back to replicas with lower version numbers (no need to obtain locks on all replicas for this tas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jority-Based Approach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6920" y="1091880"/>
            <a:ext cx="8082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ity protocol 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highest version number like reads, and set new version number to  old highest version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are then performed on all locked replicas and version number on these replicas is set to new versio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s (network and site) cause no problems as long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s at commit contain a majority of replicas of any updated data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reads a majority of replicas are available to find version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above, 2 phase commit can be used to update rep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reads are guaranteed to see latest version of data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ntegration is trivial: nothing needs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rum consensus algorithm can be similarly ext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ad One Write All (Available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ased protocol is a special case of quorum consen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reads to read any one replica but updates require all replicas to be available at commit time (call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 one write 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e write all available (ignoring failed sites) is attractive, but in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ailed link may come back up, without a disconnected site ever being aware that it was disconn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te then has old values, and a read from that site would return an incorrec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ite was aware of failure reintegration could have been performed, but no way to guarante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network partitioning, sites in each partition may update same item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ing sites in other partitions have all fa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te Reinteg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failed site recovers, it must catch up with all updates that it missed while it wa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updates may be happening to items whose replica is stored at the site while the site is recov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1: halt all updates on system while reintegrating a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cceptable dis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2: lock all replicas of all data items at the site, update to latest version, then release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solutions with better concurrency also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parison with Remote Backup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backup (hot spare) systems (Section 17.10) are also designed to provide high avail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backup systems are simpler and have lower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actions performed at a single site, and only log records shi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distributed concurrency control, or 2 phase com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distributed databases with replicas of data items can provide higher availability by having multiple (&gt; 2) replicas and using the majority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avoid failure detection and switchover time associated with remote backu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ordinator Sele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ackup coord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which maintains enough information locally to assume the role of coordinator if the actual coordinator f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s the same algorithms and maintains the same internal state information as the actual coordinator fails executes state information as the actual coord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ast recovery from coordinator failure but involves overhead during normal proce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lect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elect a new coordinator in case of fail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Bully Algorithm - applicable to systems where every site can send a message to every other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ully Algorith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ite 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ds a request that is not answered by the coordinator within a time interv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ssume that the coordinator has failed 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ies to elect itself as the new coordin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ds an election message to every site with a higher identification number, 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waits for any of these processes to answer with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response with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ssume that all sites with number greater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failed, 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s itself the new coordin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swer is received 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gins time interv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, waiting to receive a message that a site with a higher identification number has been el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ully Algorithm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661520" cy="31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message is sent with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, assume the site with a higher number has failed; 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tarts the algori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 failed site recovers, it immediately begins execution of the same algori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are no active sites with higher numbers, the recovered site forces all processes with lower numbers to let it become the coordinator site, even if there is a currently active coordinator with a lower nu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ding Consistency for Avail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hat is Consistency?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ency in Databases (ACI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has a set of integrity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nsistent database state is one where all integrity constraints are satis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ransaction run individually on a consistent database state must leave the database in a consisten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ency in distributed systems with 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 consistency: a schedule with read and write operations on a replicated object should give results and final state equivalent to some schedule on a single copy of the object, with order of operations from a single site p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k consistency (several fo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ata Replication (Cont.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092240"/>
            <a:ext cx="83059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 of 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ailure of site containing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result in unavailability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eplicas ex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le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queries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processed by several nodes in parall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d data transf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l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vailable locally at each site containing a replica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dvantages of 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cost of updates: each replica of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upd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complexity of concurrency control: concurrent updates to distinct replicas may lead to inconsistent data unless special concurrency control mechanisms are impleme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olution: choose one copy a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imary copy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pply concurrency control operations on primary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vail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ly, availability of centralized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istributed systems, availability of system to process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large system, at almost any point in time there’s a good chanc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de is down or 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partit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consensus algorithms will block during partitions to ensure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applications require continued operation even during a network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at cost of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rewer’s CAP Theore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properties of a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cy (all copies have same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ility (system can run even if parts have fai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25440">
              <a:lnSpc>
                <a:spcPct val="80000"/>
              </a:lnSpc>
              <a:spcBef>
                <a:spcPts val="788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 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tions (network can break into two or more parts, each with active systems that can’t talk to other par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wer’s CAP “Theorem”: You can have at most two of these three properties for an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large systems will partition at som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one of consistency or availab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database choose consis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80000"/>
              </a:lnSpc>
              <a:spcBef>
                <a:spcPts val="8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Web applications choose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25440">
              <a:lnSpc>
                <a:spcPct val="80000"/>
              </a:lnSpc>
              <a:spcBef>
                <a:spcPts val="788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for specific parts such as order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plication with Weak Consistenc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ystems support replication of data with weak degrees of consistency (I.e., without a guarantee of serializabili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6080">
              <a:lnSpc>
                <a:spcPct val="90000"/>
              </a:lnSpc>
              <a:spcBef>
                <a:spcPts val="964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.e.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W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= S  or 2*Q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lt; 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6080">
              <a:lnSpc>
                <a:spcPct val="90000"/>
              </a:lnSpc>
              <a:spcBef>
                <a:spcPts val="964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ually only when not enough sites are available to ensure qu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78600" indent="-2260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sometimes to allow fast local 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6080">
              <a:lnSpc>
                <a:spcPct val="90000"/>
              </a:lnSpc>
              <a:spcBef>
                <a:spcPts val="964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deoff of consistency versus availability or la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 iss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6080">
              <a:lnSpc>
                <a:spcPct val="90000"/>
              </a:lnSpc>
              <a:spcBef>
                <a:spcPts val="964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s may get old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6080">
              <a:lnSpc>
                <a:spcPct val="90000"/>
              </a:lnSpc>
              <a:spcBef>
                <a:spcPts val="964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s may occur in parallel, leading to inconsistent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78600" indent="-2260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: how to detect, and how to res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ion vector scheme, Section 25.5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ventual Consistenc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n no updates occur for a long period of time, eventually all updates will propagate through the system and all the nodes will be consist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 a given accepted update and a given node, eventually either the update reaches the node or the node is removed from serv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nown a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sically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ailable,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ft state,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ntual consistency), as opposed to AC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ft st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copies of a data item may be inconsis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entually Consist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copies becomes consistent at some later time if there are no more updates to that data ite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vailability vs Latenc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8045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964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 theorem only matters when there is a par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964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if partitions are rare, applications may trade off consistency for la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PNUTS allows inconsistent reads to reduce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for many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update protocol (via master) ensures consistency over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964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us there are two question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re is partitioning, how does system tradeof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how does system trade of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t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istributed Query Process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istributed Query Process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entralized systems, the primary criterion for measuring the cost of a particular strategy is the number of disk ac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distributed system, other issues must be taken into accou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st of a data transmission over the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tential gain in performance from having several sites process parts of the query in parall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y Transform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9760" y="1044720"/>
            <a:ext cx="837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ng algebraic queries on fra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possible to construct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its fra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the expression to construct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its fra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horizontal fragmentation of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branch_na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= “Hillsid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branch_na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= “Valleyview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er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branch_name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= “Hillsid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e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ranch_name = “Hillsid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is optimized 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branch_na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= “Hillsid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branch_na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= “Hillsid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y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6560" y="1091880"/>
            <a:ext cx="72406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only tuples pertaining to the Hillside branch, we can eliminate the selection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the defini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ob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branch_name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= “Hillsid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branch_name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= “Valleyview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xpression is the empty set regardless of the contents of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strategy is for the Hillside site to retur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he result of the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mple Join Process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6920" y="1092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following relational algebra expression in which the three relations are neither replicated nor frag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tored at s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query issued at s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system needs to produce the result at s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095560" y="1798560"/>
            <a:ext cx="234720" cy="235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"/>
          <p:cNvPicPr/>
          <p:nvPr/>
        </p:nvPicPr>
        <p:blipFill>
          <a:blip r:embed="rId2"/>
          <a:stretch/>
        </p:blipFill>
        <p:spPr>
          <a:xfrm>
            <a:off x="3390840" y="1805040"/>
            <a:ext cx="235080" cy="23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2600" y="759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ata Fragmentation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920" y="109188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on of relation r into fragmen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ontain sufficient information to reconstruct relation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rizontal fragm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ach tupl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s assigned to one or more fra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ertical fragm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schema for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s split into several smaller sch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chemas must contain a common candidate key (or superkey) to ensure lossless join proper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attribute, the tuple-id attribute may be added to each schema to serve as a candidate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ossible Query Processing Strateg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p copies of all three relations to s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choose a strategy for processing the entire locally at s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p a copy of the account relation to site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comp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 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Shi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comp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Ship the resul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se similar strategies, exchanging the rol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consider following fa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data being ship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transmitting a data block between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processing speed at each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2260440" y="2084400"/>
            <a:ext cx="235080" cy="2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mijoin Strateg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26560" y="109224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 relation with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ores at s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 relation with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ores at s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the express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obtain the result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omp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r1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Ship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omp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temp1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Shi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Comp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is the same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1"/>
          <a:stretch/>
        </p:blipFill>
        <p:spPr>
          <a:xfrm>
            <a:off x="2643120" y="3672000"/>
            <a:ext cx="235080" cy="2347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"/>
          <p:cNvPicPr/>
          <p:nvPr/>
        </p:nvPicPr>
        <p:blipFill>
          <a:blip r:embed="rId2"/>
          <a:stretch/>
        </p:blipFill>
        <p:spPr>
          <a:xfrm>
            <a:off x="3684600" y="2994120"/>
            <a:ext cx="235080" cy="234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3911760" y="1938240"/>
            <a:ext cx="234720" cy="235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"/>
          <p:cNvPicPr/>
          <p:nvPr/>
        </p:nvPicPr>
        <p:blipFill>
          <a:blip r:embed="rId4"/>
          <a:stretch/>
        </p:blipFill>
        <p:spPr>
          <a:xfrm>
            <a:off x="6354720" y="3701880"/>
            <a:ext cx="235080" cy="2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rmal Defini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6920" y="1092240"/>
            <a:ext cx="7947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mijo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s denot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defin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lects those tuples of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contribute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tep 3 abov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joins of several relations, the above strategy can be extended to a series of semijoin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2619360" y="2297160"/>
            <a:ext cx="235080" cy="235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"/>
          <p:cNvPicPr/>
          <p:nvPr/>
        </p:nvPicPr>
        <p:blipFill>
          <a:blip r:embed="rId2"/>
          <a:stretch/>
        </p:blipFill>
        <p:spPr>
          <a:xfrm>
            <a:off x="7172280" y="2681280"/>
            <a:ext cx="235080" cy="235080"/>
          </a:xfrm>
          <a:prstGeom prst="rect">
            <a:avLst/>
          </a:prstGeom>
          <a:ln w="0">
            <a:noFill/>
          </a:ln>
        </p:spPr>
      </p:pic>
      <p:grpSp>
        <p:nvGrpSpPr>
          <p:cNvPr id="330" name="Group 13"/>
          <p:cNvGrpSpPr/>
          <p:nvPr/>
        </p:nvGrpSpPr>
        <p:grpSpPr>
          <a:xfrm>
            <a:off x="3819600" y="1631520"/>
            <a:ext cx="245880" cy="121680"/>
            <a:chOff x="3819600" y="1631520"/>
            <a:chExt cx="245880" cy="121680"/>
          </a:xfrm>
        </p:grpSpPr>
        <p:sp>
          <p:nvSpPr>
            <p:cNvPr id="331" name="Line 8"/>
            <p:cNvSpPr/>
            <p:nvPr/>
          </p:nvSpPr>
          <p:spPr>
            <a:xfrm>
              <a:off x="3822120" y="1635480"/>
              <a:ext cx="243360" cy="1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10"/>
            <p:cNvSpPr/>
            <p:nvPr/>
          </p:nvSpPr>
          <p:spPr>
            <a:xfrm flipV="1">
              <a:off x="3828960" y="1631520"/>
              <a:ext cx="23220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1"/>
            <p:cNvSpPr/>
            <p:nvPr/>
          </p:nvSpPr>
          <p:spPr>
            <a:xfrm flipV="1">
              <a:off x="3819600" y="163548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8"/>
          <p:cNvGrpSpPr/>
          <p:nvPr/>
        </p:nvGrpSpPr>
        <p:grpSpPr>
          <a:xfrm>
            <a:off x="2063880" y="2749680"/>
            <a:ext cx="245880" cy="121320"/>
            <a:chOff x="2063880" y="2749680"/>
            <a:chExt cx="245880" cy="121320"/>
          </a:xfrm>
        </p:grpSpPr>
        <p:sp>
          <p:nvSpPr>
            <p:cNvPr id="335" name="Line 19"/>
            <p:cNvSpPr/>
            <p:nvPr/>
          </p:nvSpPr>
          <p:spPr>
            <a:xfrm>
              <a:off x="2066400" y="2753280"/>
              <a:ext cx="243360" cy="1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0"/>
            <p:cNvSpPr/>
            <p:nvPr/>
          </p:nvSpPr>
          <p:spPr>
            <a:xfrm flipV="1">
              <a:off x="2073240" y="2749680"/>
              <a:ext cx="23184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1"/>
            <p:cNvSpPr/>
            <p:nvPr/>
          </p:nvSpPr>
          <p:spPr>
            <a:xfrm flipV="1">
              <a:off x="2063880" y="2753640"/>
              <a:ext cx="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2"/>
          <p:cNvGrpSpPr/>
          <p:nvPr/>
        </p:nvGrpSpPr>
        <p:grpSpPr>
          <a:xfrm>
            <a:off x="3868560" y="3106800"/>
            <a:ext cx="246240" cy="121320"/>
            <a:chOff x="3868560" y="3106800"/>
            <a:chExt cx="246240" cy="121320"/>
          </a:xfrm>
        </p:grpSpPr>
        <p:sp>
          <p:nvSpPr>
            <p:cNvPr id="339" name="Line 23"/>
            <p:cNvSpPr/>
            <p:nvPr/>
          </p:nvSpPr>
          <p:spPr>
            <a:xfrm>
              <a:off x="3871080" y="3110400"/>
              <a:ext cx="243720" cy="1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4"/>
            <p:cNvSpPr/>
            <p:nvPr/>
          </p:nvSpPr>
          <p:spPr>
            <a:xfrm flipV="1">
              <a:off x="3878280" y="3106800"/>
              <a:ext cx="231840" cy="11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5"/>
            <p:cNvSpPr/>
            <p:nvPr/>
          </p:nvSpPr>
          <p:spPr>
            <a:xfrm flipV="1">
              <a:off x="3868560" y="3110760"/>
              <a:ext cx="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Join Strategies that Exploit Parallelism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26560" y="1092240"/>
            <a:ext cx="807732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re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is stored at s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 result must be presented at s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hippe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omputed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imultaneousl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hippe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s computed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ips tuples o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hey produced;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ips tuples o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uples o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rrive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computed in parallel with the computation o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he computation o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2384280" y="1262160"/>
            <a:ext cx="235080" cy="234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tretch/>
        </p:blipFill>
        <p:spPr>
          <a:xfrm>
            <a:off x="3000240" y="1262160"/>
            <a:ext cx="235080" cy="2347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"/>
          <p:cNvPicPr/>
          <p:nvPr/>
        </p:nvPicPr>
        <p:blipFill>
          <a:blip r:embed="rId3"/>
          <a:stretch/>
        </p:blipFill>
        <p:spPr>
          <a:xfrm>
            <a:off x="3610080" y="1255680"/>
            <a:ext cx="234720" cy="235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"/>
          <p:cNvPicPr/>
          <p:nvPr/>
        </p:nvPicPr>
        <p:blipFill>
          <a:blip r:embed="rId4"/>
          <a:stretch/>
        </p:blipFill>
        <p:spPr>
          <a:xfrm>
            <a:off x="3821040" y="2158920"/>
            <a:ext cx="235080" cy="235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"/>
          <p:cNvPicPr/>
          <p:nvPr/>
        </p:nvPicPr>
        <p:blipFill>
          <a:blip r:embed="rId5"/>
          <a:stretch/>
        </p:blipFill>
        <p:spPr>
          <a:xfrm>
            <a:off x="3341520" y="2498760"/>
            <a:ext cx="235080" cy="235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"/>
          <p:cNvPicPr/>
          <p:nvPr/>
        </p:nvPicPr>
        <p:blipFill>
          <a:blip r:embed="rId6"/>
          <a:stretch/>
        </p:blipFill>
        <p:spPr>
          <a:xfrm>
            <a:off x="3367080" y="2881440"/>
            <a:ext cx="235080" cy="2347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"/>
          <p:cNvPicPr/>
          <p:nvPr/>
        </p:nvPicPr>
        <p:blipFill>
          <a:blip r:embed="rId7"/>
          <a:stretch/>
        </p:blipFill>
        <p:spPr>
          <a:xfrm>
            <a:off x="2994120" y="3589200"/>
            <a:ext cx="234720" cy="235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"/>
          <p:cNvPicPr/>
          <p:nvPr/>
        </p:nvPicPr>
        <p:blipFill>
          <a:blip r:embed="rId8"/>
          <a:stretch/>
        </p:blipFill>
        <p:spPr>
          <a:xfrm>
            <a:off x="3122640" y="4297320"/>
            <a:ext cx="235080" cy="235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2" descr=""/>
          <p:cNvPicPr/>
          <p:nvPr/>
        </p:nvPicPr>
        <p:blipFill>
          <a:blip r:embed="rId9"/>
          <a:stretch/>
        </p:blipFill>
        <p:spPr>
          <a:xfrm>
            <a:off x="4284720" y="3614760"/>
            <a:ext cx="234720" cy="2350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3" descr=""/>
          <p:cNvPicPr/>
          <p:nvPr/>
        </p:nvPicPr>
        <p:blipFill>
          <a:blip r:embed="rId10"/>
          <a:stretch/>
        </p:blipFill>
        <p:spPr>
          <a:xfrm>
            <a:off x="6308640" y="3621240"/>
            <a:ext cx="235080" cy="234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4" descr=""/>
          <p:cNvPicPr/>
          <p:nvPr/>
        </p:nvPicPr>
        <p:blipFill>
          <a:blip r:embed="rId11"/>
          <a:stretch/>
        </p:blipFill>
        <p:spPr>
          <a:xfrm>
            <a:off x="3378240" y="3203640"/>
            <a:ext cx="235080" cy="2347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5" descr=""/>
          <p:cNvPicPr/>
          <p:nvPr/>
        </p:nvPicPr>
        <p:blipFill>
          <a:blip r:embed="rId12"/>
          <a:stretch/>
        </p:blipFill>
        <p:spPr>
          <a:xfrm>
            <a:off x="6985080" y="3606840"/>
            <a:ext cx="234720" cy="235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6" descr=""/>
          <p:cNvPicPr/>
          <p:nvPr/>
        </p:nvPicPr>
        <p:blipFill>
          <a:blip r:embed="rId13"/>
          <a:stretch/>
        </p:blipFill>
        <p:spPr>
          <a:xfrm>
            <a:off x="7680240" y="3606840"/>
            <a:ext cx="235080" cy="2350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7" descr=""/>
          <p:cNvPicPr/>
          <p:nvPr/>
        </p:nvPicPr>
        <p:blipFill>
          <a:blip r:embed="rId14"/>
          <a:stretch/>
        </p:blipFill>
        <p:spPr>
          <a:xfrm>
            <a:off x="6054840" y="3938760"/>
            <a:ext cx="234720" cy="23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eterogeneous Distributed Databas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atabase applications require data from a variety of preexisting databases located in a heterogeneous collection of hardware and software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odels may differ (hierarchical, relational 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commit protocols may be incompa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 control may be based on different techniques (locking, timestamping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-level details almost certainly are totally incompat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ltidatabase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oftware layer on top of existing database systems, which is designed to manipulate information in heterogeneous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an illusion of logical database integration without any physical databas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dvantag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ation of investment in exi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autonomy and administrative cont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 of special-purpose DBM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towards a unified homogeneous D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gration into a homogeneous DBMS 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cal difficulties and cost of 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al/political difficul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s do not want to give up control on thei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databases wish to retain a great deal of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ut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nified View of Dat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 on a common dat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the relation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 on a common conceptual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names for same relation/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relation/attribute name means different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 on a single representation of shared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data types, precis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CII vs EBCD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 order var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 on units of meas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tions in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Köln vs Cologne,  Mumbai vs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y Process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26560" y="1091880"/>
            <a:ext cx="825516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issues in query processing in a heterogeneou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each data source to translate data to a global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s must also translate updates on global schema to updates on local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query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data sources allow only restricted forms of se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web forms, flat file data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ies have to be broken up and processed partly at the source and partly at a different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al of duplicate information when sites have overlapp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which sites to execut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query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diator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di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s are systems that integrate multiple heterogeneous data sources by providing an integrated global view, and providing query facilities on globa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ike full fledged multidatabase systems, mediators generally do not bother about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e terms mediator and multidatabase are sometimes used interchange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rtual data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lso used to refer to mediator/multidataba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ransaction Management in Multidatabas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al transa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executed by each local DBMS, outside of the MDBS system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lobal transa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executed under multidatabase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autonomy - local DBMSs cannot communicate directly to synchronize global transaction execution and the multidatabase has no control over local transaction exec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concurrency control scheme needed to ensure that DBMS’s schedule is serializ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se of locking, DBMS must be able to guard against local dead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dditional mechanisms to ensure global serializ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Horizontal Fragmentation of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account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Relation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104840" y="961920"/>
            <a:ext cx="2133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274760" y="110664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anch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238560" y="961920"/>
            <a:ext cx="2133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291120" y="1093680"/>
            <a:ext cx="20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unt_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5372280" y="961920"/>
            <a:ext cx="21333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833800" y="110664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1104840" y="1647720"/>
            <a:ext cx="21337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134000" y="1668600"/>
            <a:ext cx="100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238560" y="1647720"/>
            <a:ext cx="21337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3658320" y="1674720"/>
            <a:ext cx="86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3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2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1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5372280" y="1647720"/>
            <a:ext cx="21333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103440" y="1693800"/>
            <a:ext cx="60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2292480" y="2863800"/>
            <a:ext cx="4671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ranch_name=“Hillside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1066680" y="3505320"/>
            <a:ext cx="2133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236960" y="364968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anch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3200400" y="3505320"/>
            <a:ext cx="2133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165480" y="3630600"/>
            <a:ext cx="20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unt_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5334120" y="3505320"/>
            <a:ext cx="21333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5795640" y="36496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1066680" y="4191120"/>
            <a:ext cx="21337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1095480" y="4211640"/>
            <a:ext cx="138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y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y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y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y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3200400" y="4191120"/>
            <a:ext cx="21337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3620160" y="4218120"/>
            <a:ext cx="86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1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4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4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6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6"/>
          <p:cNvSpPr/>
          <p:nvPr/>
        </p:nvSpPr>
        <p:spPr>
          <a:xfrm>
            <a:off x="5334120" y="4191120"/>
            <a:ext cx="213336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6093360" y="4237200"/>
            <a:ext cx="889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2143080" y="5756400"/>
            <a:ext cx="48848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ranch_name=“Valleyview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al vs. Global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uarantee of local serializability is not sufficient to ensure global serializ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n illustration, consider two global transactions T1 and T2 , each of which accesses and updates two data items, A and B, located at sites S1 and S2 respe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possible to have a situation where, at site S1 , T2 follows T1 , whereas, at S2 , T1 follows T2, resulting in a nonserializable global sched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local systems permit control of locking behavior and all systems follow two-phase 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ultidatabase system can ensure that global transactions lock in a two-phase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points of conflicting transactions would then define their global serialization or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oud Databas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Storage on the Cloud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store and retrieve massive amoun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 parallel databases not designed to scale to 1000’s of nodes (and expens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needs did not include full database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nd retrieve data items by key value is minimum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y-value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table from Goog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Base, an open source clone of Big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o, which is a key-value storage system from Ama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sandra, from Fac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pa/PNUTS from Yaho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Key Value Sto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-value store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key, value):  used to store values with an associated ke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key):  which retrieves the stored value associated with the specified ke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ystems such as Bigtable additionally provide range queries on key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versions of data may be stored, by adding a timestamp to th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Represent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rds in many big data applications need to have a flexible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all records have sam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attributes may have complex sub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and JSON data representation formats widely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example of a JSON object 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ID": "22222"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name":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firstname: "Albert"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lastname: "Einstei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deptname": "Physics"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children": [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 "firstname": "Hans", "lastname": "Einstein" }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 "firstname": "Eduard", "lastname": "Einstein"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artitioning and Retrieving Dat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-value stores partition data into relatively small units (hundreds of megabyte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partitions are often called tablets (a tablet is a fragment of a tabl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tioning of data into tablets is dynam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data are inserted, if a tablet grows too big, it is broken into smaller p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load (get/put operations) on a tablet is excessive, the tablet may be broken into smaller tablets, which can be distributed across two or more sites to share the lo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number of tablets is much larger than the number of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to virtual partitioning in parallel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get/put request must be routed to the correct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Tablet controll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ks the partitioning function and tablet-to-site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 get() request to one or more table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t mapping function to track which site responsible for which tab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NUTS Parallel Storage System Architecture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83" name="Picture 3" descr="New PDF from Images Output.pdf"/>
          <p:cNvPicPr/>
          <p:nvPr/>
        </p:nvPicPr>
        <p:blipFill>
          <a:blip r:embed="rId1"/>
          <a:stretch/>
        </p:blipFill>
        <p:spPr>
          <a:xfrm>
            <a:off x="1066680" y="1314360"/>
            <a:ext cx="756936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istributed Directory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irectory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26920" y="1092240"/>
            <a:ext cx="806616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kinds of director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information such as name, id, email, phone, office addr,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personal information to be accessed from multiple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Web browser book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ies organized by name or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t for forward lookup to find more about an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ies organized by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verse lookup to find entries matching specific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irectories are to be accessed across an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1: Web interface.  Not great for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2: Specializ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rectory acces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led with specialized user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5:40:30Z</dcterms:created>
  <dc:creator>S. Sudarshan</dc:creator>
  <dc:description/>
  <dc:language>en-US</dc:language>
  <cp:lastModifiedBy>Sudarshan</cp:lastModifiedBy>
  <cp:lastPrinted>2000-07-11T17:46:20Z</cp:lastPrinted>
  <dcterms:modified xsi:type="dcterms:W3CDTF">2013-10-28T14:19:39Z</dcterms:modified>
  <cp:revision>298</cp:revision>
  <dc:subject/>
  <dc:title>Chapter 19: Distributed Databases</dc:title>
</cp:coreProperties>
</file>