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997700" cy="9283700"/>
  <p:custShowLst>
    <p:custShow name="Custom Show 1" id="0">
      <p:sldLst>
        <p:sld r:id="rId27"/>
        <p:sld r:id="rId24"/>
        <p:sld r:id="rId8"/>
        <p:sld r:id="rId10"/>
        <p:sld r:id="rId35"/>
        <p:sld r:id="rId34"/>
        <p:sld r:id="rId12"/>
        <p:sld r:id="rId63"/>
        <p:sld r:id="rId26"/>
        <p:sld r:id="rId26"/>
        <p:sld r:id="rId37"/>
        <p:sld r:id="rId59"/>
        <p:sld r:id="rId62"/>
        <p:sld r:id="rId72"/>
        <p:sld r:id="rId16"/>
        <p:sld r:id="rId44"/>
        <p:sld r:id="rId45"/>
        <p:sld r:id="rId36"/>
        <p:sld r:id="rId60"/>
        <p:sld r:id="rId61"/>
        <p:sld r:id="rId7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8.</a:t>
            </a:r>
            <a:fld id="{A4D8D37C-301D-437F-949C-4812B13437A7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00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9160" y="5726160"/>
            <a:ext cx="358416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0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or conditions on re-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db-book.com/" TargetMode="Externa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8:  Relational Database Desig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1480" y="1857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oal — Devise a Theory for the Follow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8645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whether a particular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“good”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ase that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in “good” form, decompose it into a set of relations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...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lation is in good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omposition is a lossless-join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theory is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alued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98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ctional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 on the set of legal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that the value for a certain set of attributes determines uniquely the value for another set of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al dependency is a generalization of the notion of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ctional Dependenci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24536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relatio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and 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s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nd only if for any legal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, whenever any two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ree on the attribut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y also agree on the attribute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Consi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ith the following in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is instanc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, but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h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ctr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23800" y="4284720"/>
            <a:ext cx="16682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ctional Dependenci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8067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perkey for relati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nd only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andidate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nd only 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ependencies allow us to express constraints that cannot be expressed using superkeys.  Consider the sch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de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, salary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dept_nam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, budg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expect these functional dependencies to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             I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ould not expect the following to hol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51000"/>
                <a:tab algn="l" pos="217332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 of Functional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0200" y="1158840"/>
            <a:ext cx="805212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functional dependenci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relations to see if they are legal under a given set of functional dependenc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egal under 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unctional dependencies, we say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tisf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constraints on the set of leg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y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s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ll legal relation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tisfy the set of functional dependenc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A specific instance of a relation schema may satisfy a functional dependency even if the functional dependency does not hold on all legal instanc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 specific in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, by chance, satisf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ctional Dependenci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ependency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iv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t is satisfied by all instances of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, 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ivial 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012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osure of a Set of Functional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27000" y="1468080"/>
            <a:ext cx="74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f functional dependencies, there are certain other functional dependencies that are logically impli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:  I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then we can infer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al dependencies logically impli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no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s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per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oyce-Codd Normal For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00240" y="3276720"/>
            <a:ext cx="6562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ivial (i.e.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uper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040" y="1135080"/>
            <a:ext cx="685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BCNF with respect to 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unctional  dependencies if for all functional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of the following hol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6720" y="4230720"/>
            <a:ext cx="812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BCN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_de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, salary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dept_nam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, budg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, bud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_dep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a super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composing a Schema into BCNF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27000" y="1163160"/>
            <a:ext cx="802656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have a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non-trivi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a violation of BC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(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examp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uilding,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d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plac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, building, 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(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) = 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, name, salary, 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CNF and Dependency Preserv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, including functional dependencies, are costly to check in practice unless they pertain to only on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sufficient to test only those dependencies on each individual relation of a decomposition in order to ensur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al dependencies hold, then that decomposition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endency preserv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is not always possible to achieve both BCNF and dependency preservation, we consider a weaker normal form, known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ird norm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9280" y="1044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8:  Relational Database Desig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27000" y="11631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of Good Relatio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Domains and First Norm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ition Using Functional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ependency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 for Functional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ition Using Multivalued Depend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Norm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-Desig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Tempor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Normal For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9804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normal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N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for a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of the following ho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ivial (i.e.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uper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tained in a candidate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ttribute may be in a different candidate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relation is in BCNF it is in 3NF (since in BCNF one of the first two conditions above must hol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condition is a minimal relaxation of BCNF to ensure dependency preservation (will see why la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17240" y="183960"/>
            <a:ext cx="69692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oals of Normal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5564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relation scheme with a se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unctional depend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whether a relation sche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“good”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ase that a relation sche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in “good” form, decompose it into a set of relation scheme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...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lation scheme is in good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omposition is a lossless-join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ably, the decomposition should be dependency preserv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2000" y="152280"/>
            <a:ext cx="71247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good is BCNF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database schemas in BCNF that do not seem to be sufficiently norm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info (ID, child_name, 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n instructor may have more than one phone and can have multiple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3494160"/>
            <a:ext cx="2133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494160"/>
            <a:ext cx="2133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ild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3494160"/>
            <a:ext cx="2133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875040"/>
            <a:ext cx="213372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875040"/>
            <a:ext cx="2133360" cy="13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3875040"/>
            <a:ext cx="2133720" cy="13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555-12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555-43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555-12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555-43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7040" y="5656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76000" y="2118960"/>
            <a:ext cx="784836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 non-trivial functional dependencies and therefore the relation is in BC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anomalies – i.e., if we add a phone 981-992-3443 to 99999, we need to add two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9999, David,   981-992-3443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9999, William, 981-992-344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96480" y="117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good is BCNF?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14320" y="1093680"/>
            <a:ext cx="672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it is better to decom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inf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08000" y="5769000"/>
            <a:ext cx="672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uggests the need for higher normal forms, such as Fourth Normal Form (4NF), which we shall see la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638000" y="119160"/>
            <a:ext cx="7124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w good is BCNF?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2920" y="1827360"/>
            <a:ext cx="2133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16280" y="1827360"/>
            <a:ext cx="2133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ild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2920" y="2208240"/>
            <a:ext cx="213336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16280" y="2208240"/>
            <a:ext cx="2133720" cy="13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4880" y="22780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29000" y="3989520"/>
            <a:ext cx="2133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53000" y="3989520"/>
            <a:ext cx="2133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9000" y="4370400"/>
            <a:ext cx="213336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53000" y="4370400"/>
            <a:ext cx="2133720" cy="13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555-12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555-43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555-12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-555-43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1400" y="4484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ctional-Dependency Theo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w consider the formal theory that tells us which functional dependencies are implied logically by a given set of functional depend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en develop algorithms to generate lossless decompositions into BCNF and 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en develop algorithms to test if a decomposition is dependency-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904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osure of a Set of Functional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9800" y="1468080"/>
            <a:ext cx="7450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 of functional dependencies, there are certain other functional dependencies that are logically impli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.g.:  I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then we can infer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al dependencies logically impli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no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s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1" i="1" lang="en-US" sz="1800" spc="-1" strike="noStrike" baseline="44000">
                <a:solidFill>
                  <a:srgbClr val="000099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0012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osure of a Set of Functional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6520" y="1477440"/>
            <a:ext cx="76406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find F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losure of F, by repeatedly applying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mstrong’s 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lex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ug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i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ul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enerate only functional dependencies that actually hold), 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enerate all functional dependencies that hol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94960" y="925200"/>
            <a:ext cx="824868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(A, B, C, G, H, I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ember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ransitivity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and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ugmen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G, to g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transi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ugmen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f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ugmenting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f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G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tra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e for Computing F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9948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ute the closure of a set of functional dependencies F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al dependenc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br>
              <a:rPr sz="1800"/>
            </a:b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apply reflexivity and augmentation rule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resulting functional dependenci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br>
              <a:rPr sz="1800"/>
            </a:b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 of functional dependenc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br>
              <a:rPr sz="1800"/>
            </a:b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combined using transitiv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 the resulting functional dependency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change any 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We shall see an alternative procedure for this task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bine Schemas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combi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No connection to relationship set inst_de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is possible repetition of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87520" y="2379600"/>
            <a:ext cx="5788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63280" y="48564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osure of Functional Dependenci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14320" y="1474920"/>
            <a:ext cx="735984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, 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seudotransi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rules can be inferred from Armstrong’s axi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osure of Attribute Se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attribut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 the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los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enoted b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s the set of attributes that are functionally determined b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to compu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closur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hang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1547640"/>
                <a:tab algn="l" pos="1771560"/>
                <a:tab algn="l" pos="205416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Attribute Set Clos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26640" y="906480"/>
            <a:ext cx="7131240" cy="55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(A, B, C, G, 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=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= ABC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= ABCG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B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= ABCGH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B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candidate key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G a super k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0456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? =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(AG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 startAt="2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y subset of AG a superk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0456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(A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0456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803160"/>
                <a:tab algn="l" pos="26337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== Is (G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52200" y="201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s of Attribute Clos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several uses of the attribute closure algorith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for super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st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perkey, we compu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heck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ll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functional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eck if a function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(or, in other words, i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just check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we compu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attribute closure, and then check if it contain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imple and cheap test, and very us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closure of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ind the closu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e output a function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19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  <p:animClr clrSpc="rgb">
                                <p:cBhvr>
                                  <p:cTn id="164" dur="1" fill="hold"/>
                                  <p:tgtEl>
                                    <p:spTgt spid="19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nonical Cov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of functional dependencies may have redundant dependencies that can be inferred from th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dundant in: 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, A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a functional dependency may be red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 on RHS: 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can be simplifi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 on LHS:    {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can be simplifi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{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vely, a canonical cover of F is a “minimal” set of functional dependencies equivalent to F, having no redundant dependencies or redundant parts of depend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raneous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6640" y="1163160"/>
            <a:ext cx="758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unctional dependencies and the function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A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traneous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ically implie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tran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the set of functional dependenc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–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 logically impl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tion in the opposite direction is trivial in each of the cases above, since a “stronger” functional dependency always implies a weaker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Giv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xtraneou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ause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, 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logically impl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 the result of dropp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Giv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xtraneou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inferred even after dele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23920" y="66600"/>
            <a:ext cx="768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ing if an Attribute is Extraneou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unctional dependencies and the function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st if attribute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xtraneous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(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– A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the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(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– A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if it do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xtraneous in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st if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extraneous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only the dependencies in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F’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–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do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xtraneous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nonical Cov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9880" y="1163160"/>
            <a:ext cx="822312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onical cov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dependenc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ically implies all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ly implies all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nctional dependency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n extraneous attribute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left side of functional dependency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ute a canonical cover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union rule to replace any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unction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neous attribute either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/* Note: test for extraneous attributes done u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 F*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extraneous attribute is found, delete it fr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Union rule may become applicable after some extraneous attributes have been deleted, so it has to be re-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8720" y="223920"/>
            <a:ext cx="827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uting a Canonical Cov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27000" y="829800"/>
            <a:ext cx="8220240" cy="57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, B, C)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 = {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is now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{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C, 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, 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extraneous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if the result of deleting A from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implied by the other depend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: in fact,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lready presen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is now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{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C, 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extraneous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logically impli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other depend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ransitivity 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 and 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use attribute closur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more complex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anonical cover i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ssless-join Decompos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6280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case o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 require that for all possible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composi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ossless join if at least one of the following dependencies i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92480"/>
                <a:tab algn="l" pos="2976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functional dependencies are a sufficient condition for lossless join decomposition; the dependencies are a necessary condition only if all constraints are functional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1873080"/>
            <a:ext cx="142920" cy="1429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lnTo>
                  <a:pt x="0" y="182"/>
                </a:lnTo>
                <a:lnTo>
                  <a:pt x="182" y="0"/>
                </a:lnTo>
                <a:lnTo>
                  <a:pt x="182" y="182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Combined Schema Without Repet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0680" y="1093680"/>
            <a:ext cx="75610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combining rel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_class(sec_id, building, room_numb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(course_id, sec_id, semester, ye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on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(course_id, sec_id, semester, year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building, room_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petition in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20252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(A, B, C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= {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,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ecomposed in two different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(A, B),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(B,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-join decompos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cy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(A, B),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(A,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-join decompos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dependency preserv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nnot chec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compu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058080" y="5048280"/>
            <a:ext cx="23472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9200" y="212760"/>
            <a:ext cx="7993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pendency Preserv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45668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the set of dependenc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nclude only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decomposition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ency preser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not, then checking updates for violation of functional dependencies may require computing joins, which is expen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440" y="997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ing for Dependency Preserv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26640" y="1163520"/>
            <a:ext cx="730404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eck if a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eserved in a decomposi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 apply the following test (with attribute closure done with respec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hang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decompos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br>
              <a:rPr sz="1800"/>
            </a:b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 =  result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all attributes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functional dependenc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pply the test on all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check if a decomposition is dependency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dure takes polynomial time, instead of the exponential time required to comp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27000" y="11631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in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i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),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,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-join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cy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ing for BCNF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4640" y="1092240"/>
            <a:ext cx="778860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eck if a non-trivial dependenc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a violation of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comput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e attribute closure o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verify that it includes all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at is, it is a superkey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plified 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o check if a relati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BCNF, it suffices to check only the dependencies in the given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violation of BCNF, rather than checking all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ne of the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a violation of BCNF, then none of the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cause a violation of BCNF ei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plified test using only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testing a relation in a decomposition of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, C, D,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, BC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C,D,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of the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 only attributes fro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C,D,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o we might be mislead into think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tisfies BCNF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act, dependenc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w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in BCN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ing Decomposition for BCNF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2280" y="1163520"/>
            <a:ext cx="761040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eck if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decomposi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BCNF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test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CNF with respect to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tri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 to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that is, all FDs in 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contain only attributes from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he original set of dependenc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hold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with the following t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very set of attribut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heck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e attribute closur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ither includes no attribut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includes all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ndition is violated by so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dependenc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hown to hold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olates BC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above dependency to decom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CNF Decomposition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4560" y="1149120"/>
            <a:ext cx="830736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fals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(no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re is a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not in BCNF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nontrivial functional dependency t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hold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–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)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565200"/>
                <a:tab algn="l" pos="803160"/>
                <a:tab algn="l" pos="148896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BCNF, and decomposition is lossless-j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BCNF Decompos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33888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in BCN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 super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,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BCNF Decompos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869240" cy="52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m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_slot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m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m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_slo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ndidate key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NF Decompos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edit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a super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pla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74448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-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m_number, capa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_slot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CNF Decomposi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know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m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acit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m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is not a super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pla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-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ro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m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m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_slot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assro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in BC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at About Smaller Schemas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8930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had started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dept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we know to split up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comp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rule “if there were a schem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, building, 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be a candidate ke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te a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depend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,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d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eca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a candidate key, the building and budget of a department may have to be repe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dicates the need to decom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ll decompositions are good.  Suppose we decompo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(ID, name, street, city, salar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eet, city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 slide shows how we lose information -- we cannot reconstruct the origin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-- and so, this i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ssy decom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66240"/>
            <a:ext cx="78310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CNF and Dependency Preserv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42840" y="2035080"/>
            <a:ext cx="672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, K, 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andidate keys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in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decomposi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fail to pr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mplies that testing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74448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31320" y="1163160"/>
            <a:ext cx="63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not always possible to get a BCNF decomposition tha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cy preser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Normal Form: Motiv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1010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some situations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NF is not dependency preserving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checking for FD violation on updates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define a weaker normal form, called Third                    Normal Form (3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some redundancy (with resultant problems; we will see examples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functional dependencies can be checked on individual relations without computing a jo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lways a lossless-join, dependency-preserving decomposition into 3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NF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5646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advi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advis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_ID, i_ID, dept_name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_ID, dept_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_ID,  i_I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andidate keys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_ID, dept_nam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_ID, s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_ID, dept_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_ID   s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upe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_I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ntained in a candid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027080"/>
                <a:tab algn="l" pos="245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12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dundancy  in 3NF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61000" y="198756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61000" y="2416320"/>
            <a:ext cx="609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198756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41632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27680" y="198756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23000" y="241632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2640" y="4262400"/>
            <a:ext cx="7873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information (e.g., the relationshi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_ID, dept_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use null values (e.g., to represent the relation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there is no corresponding valu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_ID, dept_nameI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no separate relation mapping instructors to depar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27000" y="94788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some redundancy in this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problems due to redundancy in 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, K, L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, 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ing for 3NF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: Need to check only FD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eed not check all FD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ttribute closure to check for each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per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a superkey, we have to verify if each attribute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tained in a candidate key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st is rather more expensive, since it involve finding candidate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for 3NF has been shown to be NP-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ingly, decomposition into third normal form (described shortly) can be done in polynomial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NF Decomposition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27000" y="1163520"/>
            <a:ext cx="795672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461880"/>
                <a:tab algn="l" pos="1027080"/>
                <a:tab algn="l" pos="130968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 canonical cover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al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 of the schem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ne of the schem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 candidate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= any candidate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Optionally, remove redundant relation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61880"/>
                <a:tab algn="l" pos="1027080"/>
                <a:tab algn="l" pos="130968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ntained in another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/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R;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i=i-1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666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NF Decomposition Algorithm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algorithm ens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lati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ition is dependency preserving and lossless-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of correctness is at end of this presentation (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click 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NF Decomposition: A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27000" y="1163160"/>
            <a:ext cx="7988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sch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0"/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_banker_branch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_id, employee_i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ranch_name, 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al dependencies for this relation schema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id, employee_i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i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id, branch_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irst compute a canonical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xtraneous in the r.h.s. of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attribute is extraneous, so we get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0"/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id, employee_i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yp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employee_i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customer_id, branch_na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0"/>
                <a:tab algn="l" pos="1027080"/>
                <a:tab algn="ctr" pos="28576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NF Decompsition Exampl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26840" y="985680"/>
            <a:ext cx="7861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op generates following 3NF sch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id, employee_id, 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_i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id, branch_name, employee_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id, employee_id, 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ntains a candidate key of the original schema, so no further relation schema needs be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end of for loop, detect and delete schemas, such as 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_i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ich are subsets of other sch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will not depend on the order in which FDs ar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ant simplified 3NF schema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id, employee_id, 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id, branch_name, employee_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arison of BCNF and 3NF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ways possible to decompose a relation into a set of  relations that are in 3NF such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omposition is 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pendencies are p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ways possible to decompose a relation into a set of relations that are in BCNF such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omposition is 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ay not be possible to preserve depend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6880" y="4064040"/>
            <a:ext cx="72835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Lossy Decompos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12720" y="952560"/>
            <a:ext cx="605664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Goa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803916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for a relational database desig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 jo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cy prese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cannot achieve this, we accept on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dependency preser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cy due to use of 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ingly, SQL does not provide a direct way of specifying functional dependencies other than super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pecify FDs using assertions, but they are expensive to test, (and currently not supported by any of the widely used database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we had a dependency preserving decomposition, using SQL we would not be able to efficiently test a functional dependency whose left hand side is not a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alued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record names of children, and phone numbers for instru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chi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ild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hone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were to combine these schemas to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_in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ild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hone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data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9999, David, 512-555-1234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9999, David, 512-555-432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9999, William, 512-555-1234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9999, William, 512-555-43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lation is in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alued Dependencies (MVD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13960" y="1601280"/>
            <a:ext cx="760572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79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relation schema and le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valued depend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79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79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n any legal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(R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ll pairs for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, there exist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79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       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       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272360" y="6636960"/>
            <a:ext cx="317520" cy="5040"/>
            <a:chOff x="7272360" y="6636960"/>
            <a:chExt cx="317520" cy="5040"/>
          </a:xfrm>
        </p:grpSpPr>
        <p:sp>
          <p:nvSpPr>
            <p:cNvPr id="266" name=""/>
            <p:cNvSpPr/>
            <p:nvPr/>
          </p:nvSpPr>
          <p:spPr>
            <a:xfrm flipV="1">
              <a:off x="7272360" y="6636960"/>
              <a:ext cx="215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73880" y="6642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VD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representation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609560" y="2184480"/>
            <a:ext cx="61722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relation schema with a set of attributes that are partitioned into 3 nonempty sub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, Z,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y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determ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d only if for all possible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since the behavior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identical it follow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9480"/>
                <a:tab algn="ctr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95816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ild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hone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formal definition is supposed to formalize the notion that given a particular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t has associated with it a set of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(child_name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set of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 (phone_numb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ese two sets are in some sense independent of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ed we have (in above notation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im fol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 of Multivalued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4534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multivalued dependencies in two way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st relations to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ter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ther they are legal under a given set of functional and multivalued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pecify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tra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et of legal relations.  We shall thus concern ourselv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relations that satisfy a given set of functional and multivalued depend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ils to satisfy a given multivalued dependency, we can construct a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at does satisfy the multivalued dependency by adding tupl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ory of MVD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68160" y="1093320"/>
            <a:ext cx="7807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definition of multivalued dependency, we can derive the following r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every functional dependency is also a multivalued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et of all functional and multivalued dependencies logically impli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mpute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ing the formal definitions of functional dependencies and multivalued depend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manage with such reasoning for very simple multivalued dependencies, which seem to be most common in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mplex dependencies, it is better to reason about sets of dependencies using a system of inference rules (see Appendix 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137360" y="6585120"/>
            <a:ext cx="366840" cy="0"/>
            <a:chOff x="7137360" y="6585120"/>
            <a:chExt cx="366840" cy="0"/>
          </a:xfrm>
        </p:grpSpPr>
        <p:sp>
          <p:nvSpPr>
            <p:cNvPr id="280" name=""/>
            <p:cNvSpPr/>
            <p:nvPr/>
          </p:nvSpPr>
          <p:spPr>
            <a:xfrm>
              <a:off x="7137360" y="658512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90000" y="65851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Normal For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27000" y="11631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respect to 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unctional and multivalued dependencies if for all multivalued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for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of the following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ivial (i.e.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uperkey for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relation is in 4NF it is in 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108920" y="6641640"/>
            <a:ext cx="317520" cy="5040"/>
            <a:chOff x="7108920" y="6641640"/>
            <a:chExt cx="317520" cy="5040"/>
          </a:xfrm>
        </p:grpSpPr>
        <p:sp>
          <p:nvSpPr>
            <p:cNvPr id="285" name=""/>
            <p:cNvSpPr/>
            <p:nvPr/>
          </p:nvSpPr>
          <p:spPr>
            <a:xfrm flipV="1">
              <a:off x="7108920" y="6641640"/>
              <a:ext cx="215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10440" y="66466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2640" y="792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striction of Multivalued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triction of  D to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et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st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unctional dependencies in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nclude only attributes of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ultivalued dependencies of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200" y="25236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xample of Lossless-Join Decomposition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095120"/>
            <a:ext cx="699912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676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ssless join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676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i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(A, B, C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(A, B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(B,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590920"/>
            <a:ext cx="3812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590920"/>
            <a:ext cx="3808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048120"/>
            <a:ext cx="381240" cy="61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3048120"/>
            <a:ext cx="380880" cy="61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590920"/>
            <a:ext cx="3808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3048120"/>
            <a:ext cx="3808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2590920"/>
            <a:ext cx="609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3048120"/>
            <a:ext cx="6094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58960" y="3723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3440" y="3714480"/>
            <a:ext cx="104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,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467240"/>
            <a:ext cx="2514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676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)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343400"/>
            <a:ext cx="4572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343400"/>
            <a:ext cx="3808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4800600"/>
            <a:ext cx="457200" cy="6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4800600"/>
            <a:ext cx="380880" cy="6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2800" y="4624560"/>
            <a:ext cx="142920" cy="14256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lnTo>
                  <a:pt x="0" y="182"/>
                </a:lnTo>
                <a:lnTo>
                  <a:pt x="182" y="0"/>
                </a:lnTo>
                <a:lnTo>
                  <a:pt x="182" y="182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81720" y="2590920"/>
            <a:ext cx="6094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1720" y="3048120"/>
            <a:ext cx="6094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2590920"/>
            <a:ext cx="3808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048120"/>
            <a:ext cx="3808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43400"/>
            <a:ext cx="3808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800600"/>
            <a:ext cx="380880" cy="6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590920"/>
            <a:ext cx="3808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048120"/>
            <a:ext cx="380880" cy="61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0680" y="37238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,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NF Decomposition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27000" y="1163160"/>
            <a:ext cx="8043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= false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ute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 the restriction of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re is a schem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 not in 4NF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nontrivial multivalued dependency that hol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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e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el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4NF, and decomposition is lossless-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348760" y="6476760"/>
            <a:ext cx="317520" cy="5040"/>
            <a:chOff x="8348760" y="6476760"/>
            <a:chExt cx="317520" cy="5040"/>
          </a:xfrm>
        </p:grpSpPr>
        <p:sp>
          <p:nvSpPr>
            <p:cNvPr id="292" name=""/>
            <p:cNvSpPr/>
            <p:nvPr/>
          </p:nvSpPr>
          <p:spPr>
            <a:xfrm flipV="1">
              <a:off x="8348760" y="6476760"/>
              <a:ext cx="215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50280" y="6481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9680" y="1163160"/>
            <a:ext cx="8412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, C, G, H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in 4NF 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a super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4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C, G, H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in 4NF, decompose into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, G,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4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C, G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in 4NF, decompose into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(MVD transitivity)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e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(MVD restriction to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4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A, C, G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 4N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52600" y="85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rther Normal For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oin dependenc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lize multivalued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 to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ject-join normal form (PJN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lso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th normal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ass of even more general constraints, leads to a normal form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main-key normal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with these generalized constraints:  are hard to reason with, and no set of sound and complete set of inference rules ex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 rar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verall Database Design Proces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6640" y="1163520"/>
            <a:ext cx="795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ssumed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uld have been generated when converting E-R diagram to a set of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uld have been a single relation contain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s that are of interest (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versal re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break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smaller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uld have been the result of some ad hoc design of relations, which we then test/convert to norm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R Model and Normal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10720" y="1163520"/>
            <a:ext cx="786636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E-R diagram is carefully designed, identifying all entities correctly, the tables generated from the E-R diagram should not need further norma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 a real (imperfect) design, there can be functional dependencies from non-key attributes of an entity to other attributes of the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ity with attribut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a functional dependenc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_name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design would have made department an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ependencies from non-key attributes of a relationship set possible, but rare --- most relationships are 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normalization for Performa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41160" y="1297080"/>
            <a:ext cx="803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want to use non-normalized schema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display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req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ong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s jo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1:  Use denormalized relation containing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well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re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ll abo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space and extra execution time fo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coding work for programmer and possibility of error in extr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2: use a materialized view defin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and drawbacks same as above, except no extra coding work for programmer and avoids possibl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16200" y="5148360"/>
            <a:ext cx="142920" cy="1429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lnTo>
                  <a:pt x="0" y="182"/>
                </a:lnTo>
                <a:lnTo>
                  <a:pt x="182" y="0"/>
                </a:lnTo>
                <a:lnTo>
                  <a:pt x="182" y="182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Desig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6760" y="1093680"/>
            <a:ext cx="81090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pects of database design are not caught by norm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bad database design, to be avoid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rning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any_id, year, 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rnings_2004, earnings_2005, earnings_20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., all on the schem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any_id, earn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are in BCNF, but make querying across years difficult and needs new table each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any_y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any_id, earnings_2004, earnings_2005,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earnings_20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n BCNF, but also makes querying across years difficult and requires new attribute each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example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t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values for one attribute become colum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spreadsheets, and in data analysis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eling Temporal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mporal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n association time interval during which the data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napsh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value of the data at a particular point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roposals to extend ER model by adding valid tim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, e.g., address of an instructor at different points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, e.g., time duration when a student entity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, e.g., time during which an instructor was associated with a student as an advi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no accepted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a temporal component results in functional dependencies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treet,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o hold, because the address vari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mporal functional dependenc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holds 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functional dependency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holds on all snapshots for all legal instances 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98320" y="311796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eling Temporal Data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, database designers may add start and end time attributes to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, course_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replac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, course_title, start, 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: no two tuples can have overlapping vali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enforce effici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key references may be to current version of data, or to data at a point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tudent transcript should refer to course information at the time the course was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rst Normal For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2800" y="1093320"/>
            <a:ext cx="7763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ts elements are considered to be indivisibl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non-atomic dom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names, composit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 numbers like CS101  that can be broken up into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al schema R is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normal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domains of all attributes of R are at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atomic values complicate storage and encourage redundant (repeated) storag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Set of accounts stored with each customer, and set of owners stored with each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all relations are in first normal form (and revisit this in Chapter 22: Object Based Datab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of of Correctness of 3NF Decomposition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-828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rrectness of 3NF Decomposition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74360" y="1420920"/>
            <a:ext cx="7543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NF decomposition algorithm is dependency preserving (since there is a relation for every F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ition is 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ndidate key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in one of the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 of candidate key un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contain all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steps of attribute closure algorithm to show there is only one tuple in the join result for each tuple 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rrectness of 3NF Decomposition Algorithm (Cont’d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26640" y="1487520"/>
            <a:ext cx="7890120" cy="30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: if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the decomposition generated by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algorithm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tisfies 3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generated from the dependenc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be any non-trivial functional dependency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We need only consider FDs whose right-hand side is a single attribut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in eith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not in both. Consider each case sepa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-124200"/>
            <a:ext cx="80769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rrectness of 3NF Decomposition (Cont’d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7000" y="11631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1: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perkey, the 2nd condition of 3NF is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contain some attribute not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must be derivabl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y using attribute closure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closure not have us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f it had been used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contained in the attribute closur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not possible, since we assum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a super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us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{B})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e can deriv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n-triv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xtraneous in the right-hand sid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which is not possible si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ust be a superkey, and the second condition of 3NF must be satis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2600" y="47160"/>
            <a:ext cx="807696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rrectness of 3NF Decomposition (Cont’d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27000" y="1163520"/>
            <a:ext cx="78487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2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candidate key, the third alternative in the definition of 3NF is trivially satis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act, we cannot show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per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hows exactly why the third alternative is present in the definition of 3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.E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8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33480" y="1601640"/>
            <a:ext cx="73454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8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171880" y="1235160"/>
            <a:ext cx="56307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8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654360" y="2397240"/>
            <a:ext cx="18334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8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306600" y="2805120"/>
            <a:ext cx="2529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8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908000" y="1751040"/>
            <a:ext cx="54756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044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rst Normal Form (Cont’d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ity is actually a property of how the elements of the domain a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trings would normally be considered indivi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students are given roll numbers which are strings of the 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S00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E1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rst two characters are extracted to find the department, the domain of roll numbers is not atom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ng so is a bad idea: leads to encoding of information in application program rather than in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8.1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771640" y="2911320"/>
            <a:ext cx="359892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8.1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771640" y="3033720"/>
            <a:ext cx="3598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8.1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65680" y="2563920"/>
            <a:ext cx="1412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as668</cp:lastModifiedBy>
  <cp:lastPrinted>2005-01-10T21:51:57Z</cp:lastPrinted>
  <dcterms:modified xsi:type="dcterms:W3CDTF">2010-02-10T14:48:11Z</dcterms:modified>
  <cp:revision>275</cp:revision>
  <dc:subject/>
  <dc:title>Chapter 1:  Introduction</dc:title>
</cp:coreProperties>
</file>