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7FBF-F8A1-48BF-9B6A-A5CDA6ED5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0AA97-962A-40F6-AEAE-0218D1E8E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D969D-165A-4126-9318-8B8112854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E9A3-8CDA-45FE-8875-8545AE108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9A115-65F3-4341-B843-4C5556F68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039F7-F50E-4308-8B7D-849103D32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A922C-5054-44B3-9275-C8019B8C6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4F3B-5865-4E34-A56C-BF6F590DC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07327-3200-488C-B035-7523CE3E1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E03AB-92DC-4094-94E1-BEF2951F1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E2C5A-5EAE-472D-9F77-FE2DF22F5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F5A53-C215-4C6E-BB07-FAB900975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5C28-2C53-4616-9E31-D1E0DDB3D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3E49-EF25-4412-8863-D3E34183B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AFF68-025A-4F06-9EDF-8D03EB658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C01FC-C8EA-4C8E-8E2F-3513A2375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6BFA1-42D3-4DF4-BA1B-41C79B99B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12C1-38D4-4316-B6BA-ABC620250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59359-1BE3-4325-9100-772374BE4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078A4-E16B-4DF1-B09A-5BE6FB223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30056-3927-4DDB-ADC7-B65B96E4C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7775-A45B-4377-9E98-750084A06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575EC-8811-4AA2-9F5C-5AF8E82AA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BC14F-756C-4590-9487-3F6410061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9A32B-5FF1-4B2E-81BE-C53F46ED5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FA7C3-8121-4FDA-A282-859C9A708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21.</a:t>
            </a:r>
            <a:fld id="{BFEC1463-7A62-4ABC-98B7-333FCB7A60A9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44368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1:  Information Retrieva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evance Using Hyperlin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936720"/>
            <a:ext cx="839484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use number of hyperlinks to a site as a measure of the popularity o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sti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only one hyperlink from each site (why? - see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rity measure is for site, not for individu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most hyperlinks are to root of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concept of “site” difficult to define since a URL prefix like cs.yale.edu contains many unrelated pages of varying pop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uting prestige based on links to a site, give more weight to links from sites that themselves have higher pres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is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nd solve system of simultaneous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idea is basis of the Googl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ge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k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evance Using Hyperlin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114200"/>
            <a:ext cx="79754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t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cial networ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ories that ranked prestige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president of the U.S.A has a high prestige since many people know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 known by multiple prestigious people has high pres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 and authority based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age that stores links to many pages (on a t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h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age that contains actual information on a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ge get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ub presti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prestige of authorities that it poi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ge gets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hority presti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prestige of hubs that point to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prestige definitions are cyclic, and can be got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uthority prestige when ranking answers to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ynonyms and Homony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0560" y="1114560"/>
            <a:ext cx="7864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n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 document: “motorcycle repair”, query: “motorcycle mainten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alize that “maintenance” and “repair” are syn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n extend query as “motorcy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e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ntenance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“object” has different meanings as noun/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isambiguate meanings (to some extent) from th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queries automatically using synonyms can be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understand intended meaning in order to infer syn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verify synonyms wit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s may have other meaning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ept-Based Query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word, determin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presents from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e or mo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tolo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structure showing relationship between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ISA relationship that we saw in the E-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ach can be used to standardize terminology in a specific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ies can link multiple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 of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mantic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t covered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ing of Documen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78739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verted index maps each keywor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 set of docu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contain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identified by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d index may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locations within document to allow proximity based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s of number of occurrences of keyword to compute 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: Finds documents that contain all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e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: documents that contain at least one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kept sorted to allow efficient intersection/union by mer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can also be efficiently implemented by merging of sor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20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ing Retrieval Effectiven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75186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-retrieval systems save space by using index structures that support only approximate retrieval. May result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lse negative (false drop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ome relevant documents may not be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lse 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ome irrelevant documents may be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any applications a good index should not permit any false drops, but may permit a few false posi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 performance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what percentage of the retrieved documents are relevant to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what percentage of the documents relevant to the query  were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1680" y="117360"/>
            <a:ext cx="8481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ing Retrieval Effectivenes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5880" y="987120"/>
            <a:ext cx="75358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vs. precision tradeo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ncrease recall by retrieving many documents (down to a low level of relevance ranking), but many irrelevant documents would be fetched, reducing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s of retrieval effectivenes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as a function of number of documents fetched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ision as a function of re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ly, as a function of number of documents fe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“precision of 75% at recall of 50%, and 60% at a recall of 75%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which documents are actually relevant, and which 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b Search Engin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b crawl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programs that locate and gather information on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ly follow hyperlinks present in known documents, to find other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from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o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d over to an index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iscarded after indexing, or store a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c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wling the entire Web would take a very large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engines typically cover only a part of the Web, not all of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months to perform a single cra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b Crawl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wling is done by multiple processes on multiple machines, running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links to be crawled stored in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inks found in crawled pages added to this set, to be crawle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process also runs on multipl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new copy of index instead of modifying ol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index is used to answer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crawl is “completed” new index becomes “old”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machines used to answer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may be kep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may be routed to different machines for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153720"/>
            <a:ext cx="8259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formation Retrieval and Structured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retrieval systems originally treated documents as a collection of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ormation extraction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er structure from documents, e.g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of house attributes (size, address, number of bedrooms, etc.) from a tex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of topic and people named from a new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or XML structures used to store extrac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eks connections among data to answer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estion answ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1: Information Retrieva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ce Ranking Using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ce Using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s., Homonyms, and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o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Retrieval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Retrieval and Structu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64568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ing related documents together in a library facilitates 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see not only requested document but also related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ing is facilitated by classification system that organizes logically related documen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is hierarchical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7120" y="-360"/>
            <a:ext cx="861696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 Classification Hierarchy For A Library Syste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879480" y="1206360"/>
            <a:ext cx="76438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6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assification DA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74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can reside in multiple places in a hierarchy in an information retrieval system, since physical location is no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hierarchy is thus Directed Acyclic Graph (D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2600" y="4539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Classification DAG For A Library Information Retrieval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6880" y="1295280"/>
            <a:ext cx="77882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b Directo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b direc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just a classification directory on Web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Yahoo! Directory, Open Director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the directory hierarch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document, which nodes of the directory are categories relevant to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done 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documents into a hierarchy may be done based on term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684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formation Retrieval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914040"/>
            <a:ext cx="778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ormation retriev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R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use a simpler data model than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rganized as a collection o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are unstructured, no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retrieval locates relevant documents, on the basis of user input such as keywords or example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ind documents containing the words “database system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even on textual descriptions provided with non-textual data such as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arch engines are the most familiar example of I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1960" y="10152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formation Retrieval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systems don’t deal with transactional updates (including concurrency control and recov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ystems deal with structured data, with schemas that define the data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systems deal with some querying issues not generally addressed by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searching by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 of retrieved answers by estimated degree of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word Searc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ull 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rieval, all the words in each document are considered to be key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use the word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fer to the words in a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-retrieval systems typically allow query expressions formed using keywords and the logical connectiv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, o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are implicit, even if not explicitly spec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ing of documents on the basis of estimated relevance to a query is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vance ranking is based on factors such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erm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of occurrence of query keyword in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nverse document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documents the query keyword occurs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ive more importance to key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Hyperlinks to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links to a docu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cument is mor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evance Ranking Using Ter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F-ID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 frequency/Inverse Document frequency) ran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terms in the docu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occurrences of te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docu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ce of a docu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factor is to avoid excessive weight to frequent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ce of documen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4924440" y="317808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941360" y="3160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861440" y="2709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343040" y="29592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2"/>
          <p:cNvSpPr/>
          <p:nvPr/>
        </p:nvSpPr>
        <p:spPr>
          <a:xfrm rot="13550400">
            <a:off x="4190040" y="2861280"/>
            <a:ext cx="617400" cy="64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13"/>
          <p:cNvSpPr/>
          <p:nvPr/>
        </p:nvSpPr>
        <p:spPr>
          <a:xfrm rot="2514000">
            <a:off x="5363640" y="2857320"/>
            <a:ext cx="681120" cy="61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258280" y="29433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279520" y="475776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675240" y="4678200"/>
            <a:ext cx="4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4314960" y="500076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162320" y="460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267440" y="4959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3586320" y="50832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2720" y="98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evance Ranking Using Ter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add to the abo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hat occur in title, author list, section headings, etc. are given greater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whose first occurrence is late in the document are given lower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common words such as “a”, “an”, “the”, “it” etc. are eli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p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xim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keywords in query occur close together in the document, the document has higher importance than if they occur far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are returned in decreasing order of relevance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only top few documents are returned,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ilarity Based Retrieva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 based retrieval - retrieve documents similar to a give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 may be defined on the basis of commo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s in A with highe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use these terms to find relevance of other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evance feed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milarity can be used to refine answer set to keywor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lects a few relevant documents from those retrieved by keyword query, and system finds other documents similar to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 space model: define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mensional space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words in the document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 for docu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s from origin to a point wh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ordinat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ine of the angle between the vectors of two documents is used as a measure of their simila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evance Using Hyperlin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600" y="1101600"/>
            <a:ext cx="7975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ocuments relevant to a query can be enormous if only term frequencies are taken into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rm frequencies makes “spamming”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 travel agency can add many occurrences of the words “travel” to its page to make its rank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time people are looking for pages from popula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: use popularity of Web site (e.g., how many people visit it) to rank site pages that match given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hard to find actual popularity of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6:02:45Z</dcterms:created>
  <dc:creator>S. Sudarshan</dc:creator>
  <dc:description/>
  <dc:language>en-US</dc:language>
  <cp:lastModifiedBy>as668</cp:lastModifiedBy>
  <cp:lastPrinted>2000-07-13T17:21:22Z</cp:lastPrinted>
  <dcterms:modified xsi:type="dcterms:W3CDTF">2010-02-10T14:55:54Z</dcterms:modified>
  <cp:revision>578</cp:revision>
  <dc:subject/>
  <dc:title>Chapter 22: Advanced Querying and Information Retrieval</dc:title>
</cp:coreProperties>
</file>