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6E630575-F1B3-4ABB-A8B7-B43CDB9C2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BE20950E-2361-4B10-8867-4F42EFAD8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DCAFE8BB-ACF7-4C4A-B60A-8138380AB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C2E79D5C-6D7D-4BFA-BB1D-8B5CD15FE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B4822364-811E-41BB-B038-28BA2CEE9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385C58F3-1488-4EE9-8AF9-E10AD84FC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D52BD562-4496-45B6-BAF5-FB5424F74F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168B472F-1423-4F14-B8A3-D0BA4744E2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FE2C30E4-A8AD-450C-83E9-A1BD814A0D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2407471B-FD73-4B8A-8384-01D3B7715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DE936A01-D3C6-4A48-BD8A-5526CE1F3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23CA9A52-DE5F-4109-91B7-B56DF439B4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7D16CAD5-FDAF-4A10-838F-01C4CA3C42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8A8BBFC3-D53E-452D-8074-BBD3B75FD5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91426A8D-143D-441E-AF48-2D495CEB6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DC52B31B-C211-425C-82DC-325E68FF8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1BE79BB7-B276-4622-8F92-67DDADA26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1BA7DD37-6B80-4316-AE43-D54387AA39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DC4DB992-4B03-4702-AAD6-324F10E1C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4087558A-93B9-46ED-8911-273D26B3E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3FB0AFB0-ED9E-441E-ABE9-CB5A1CB36D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7DA5FF4F-259A-4947-9FAE-E7BB20460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CE499215-727F-4891-AC92-D8E964775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60C7449B-7CA7-4B07-BCB6-DE2B0A78F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25FBEE66-D6F1-412C-B9EB-1848AA585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AA39542F-E49B-48C2-A918-5CDCDE1AB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A383E73C-F6A6-4323-865E-895233C3A5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FFC2B34F-6162-40BF-B824-C80F580997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DC0ACF47-CEEC-4A6F-9B6E-77DAEE74DA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74A7D85E-37A8-48FE-96CA-5B55459FD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DD6ABF87-08E0-49EA-B6B0-2A8CBEF24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C5388A26-19DA-4F46-BF01-8D4D27BBFC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38023D6C-9795-40A3-B658-3950B39935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CA6C2BD8-9456-44B3-9355-1D4780696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862743AC-5329-4038-B5D1-03B4A44DA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F3985A7C-5061-419C-BCEF-7818D54BBF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6D195B0A-BAB2-4C05-BD55-AB2900778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26DEEE44-BFFD-447E-AE67-D49EDB787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E18069C9-B162-44D6-8E7D-A7F96428A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28FE3B20-032B-495F-AE8A-D6081E0EF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E8ADED14-3733-4F86-BADD-1DDC03878B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7DAAB425-3AC6-4B07-AB1B-516DE7C8DE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E5C3D078-F85B-4B18-B0D7-E09EE08BD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0E148A53-9395-4C7E-AD59-6231B72C8E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E9C5B180-4E1C-441F-A260-166AD5A3D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57CA3D08-28F9-4CF2-B360-1C695A5DB4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A89844D9-DB8D-4C5F-8709-FE576F996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048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50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1432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048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50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67880" y="117360"/>
            <a:ext cx="80773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048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950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1432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048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950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7880" y="117360"/>
            <a:ext cx="80773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db-book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4"/>
          <p:cNvSpPr/>
          <p:nvPr/>
        </p:nvSpPr>
        <p:spPr>
          <a:xfrm>
            <a:off x="6764760" y="661356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©Silberschatz, Korth and Sudarsh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5"/>
          <p:cNvSpPr/>
          <p:nvPr/>
        </p:nvSpPr>
        <p:spPr>
          <a:xfrm>
            <a:off x="4220280" y="6613560"/>
            <a:ext cx="96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18.</a:t>
            </a:r>
            <a:fld id="{3348E16A-2FE7-4250-82B1-FF1181A72744}" type="slidenum">
              <a:rPr b="1" lang="en-US" sz="10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9000" y="6613560"/>
            <a:ext cx="255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Database System Concepts - 6</a:t>
            </a:r>
            <a:r>
              <a:rPr b="1" lang="en-US" sz="10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8"/>
          <p:cNvSpPr/>
          <p:nvPr/>
        </p:nvSpPr>
        <p:spPr>
          <a:xfrm>
            <a:off x="8916840" y="5445000"/>
            <a:ext cx="227160" cy="47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9" descr="Cover-6Ed"/>
          <p:cNvPicPr/>
          <p:nvPr/>
        </p:nvPicPr>
        <p:blipFill>
          <a:blip r:embed="rId2"/>
          <a:stretch/>
        </p:blipFill>
        <p:spPr>
          <a:xfrm>
            <a:off x="-3240" y="0"/>
            <a:ext cx="668520" cy="81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2757960" y="5726160"/>
            <a:ext cx="3583440" cy="7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Database System Concepts, 6</a:t>
            </a:r>
            <a:r>
              <a:rPr b="1" lang="en-US" sz="16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Ed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©Silberschatz, Korth and Sudarshan</a:t>
            </a:r>
            <a:br>
              <a:rPr sz="1200"/>
            </a:b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See </a:t>
            </a:r>
            <a:r>
              <a:rPr b="0" lang="en-US" sz="1200" spc="-1" strike="noStrike" u="sng">
                <a:solidFill>
                  <a:srgbClr val="ff9900"/>
                </a:solidFill>
                <a:uFillTx/>
                <a:latin typeface="Arial"/>
                <a:hlinkClick r:id="rId2"/>
              </a:rPr>
              <a:t>www.db-book.com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 for conditions on re-u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Cover-6Ed"/>
          <p:cNvPicPr/>
          <p:nvPr/>
        </p:nvPicPr>
        <p:blipFill>
          <a:blip r:embed="rId3"/>
          <a:stretch/>
        </p:blipFill>
        <p:spPr>
          <a:xfrm>
            <a:off x="0" y="0"/>
            <a:ext cx="1392120" cy="17002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hapter 18: Parallel Databas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1754280" y="-56052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47280" y="85680"/>
            <a:ext cx="821052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omparison of Partitioning Techniques (Cont.)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079640"/>
            <a:ext cx="7848720" cy="42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ge partition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data clustering by partitioning attribute val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for sequential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for point queries on partitioning attribute: only one disk needs to be acces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range queries on partitioning attribute, one to a few disks may need to be acce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aining disks are available for other que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if result tuples are from one to a few block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many blocks are to be fetched, they are still fetched from one to a few disks, and potential parallelism  in disk access is wa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of execution ske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1886040" y="5619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Partitioning a Relation across Disk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079640"/>
            <a:ext cx="7661520" cy="29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relation contains only a few tuples which will fit into a single disk block, then assign the relation to a single dis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relations are preferably partitioned across all the available dis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relation consists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isk blocks and there 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isks available in the system, then the relation should be allocat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,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dis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Handling of Skew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079640"/>
            <a:ext cx="76615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istribution of tuples to disks may be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kew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 that is, some disks have many tuples, while others may have fewer 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s of ske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ttribute-value sk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values appear in the partitioning attributes of many tuples; all the tuples with the same value for the partitioning attribute end up in the same parti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occur with range-partitioning and hash-partitio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artition sk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range-partitioning, badly chosen partition vector may assign too many tuples to some partitions and too few to oth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s likely with hash-partitioning if a good hash-function is chos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040" y="5688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Handling Skew in Range-Partitioning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079640"/>
            <a:ext cx="755172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reate a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alanced partitioning vec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ssuming partitioning attribute forms a key of the relation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rt the relation on the partitioning attribu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 the partition vector by scanning the relation in sorted order as follow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every 1/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the relation has been read, the value of  the partitioning attribute of the next tuple is added to the partition vec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notes the number of partitions to be construc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plicate entries or imbalances can result if duplicates are present in partitioning attribu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ernative technique based on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istogra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sed in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Handling Skew using Histogram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851040" y="1079640"/>
            <a:ext cx="829296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lanced partitioning vector can be constructed from histogram in a relatively straightforward fash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sume uniform distribution within each range of the hist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togram can be constructed by scanning relation, or sampling (blocks containing) tuples of the 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1765440" y="2806560"/>
            <a:ext cx="525600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61600" y="46980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Handling Skew Using Virtual Processor Partitioning 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ew in range partitioning can be handled elegantly using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irtual processor partitio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large number of partitions (say 10 to 20 times the number of processo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gn virtual processors to partitions either in round-robin fashion or based on estimated cost of processing each virtual part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ide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ny normal partition would have been skewed, it is very likely the skew is spread over a number of virtual part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ewed virtual partitions get spread across a number of processors, so work gets distributed evenl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nterquery Parallelism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079640"/>
            <a:ext cx="7645680" cy="52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ries/transactions execute in parallel with one an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s transaction throughput; used primarily to scale up a transaction processing system to support a larger number of transactions per seco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iest form of parallelism to support, particularly in a shared-memory parallel database, because even sequential database systems support concurrent process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omplicated to implement on shared-disk or shared-nothing archite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ing and logging must be coordinated by passing messages between process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in a local buffer may have been updated at another process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che-coherenc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to be maintained — reads and writes of data in buffer must find latest version of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ache Coherency Protoco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079280"/>
            <a:ext cx="7547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of a cache coherency protocol for shared disk syste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 reading/writing to a page, the page must be locked in shared/exclusive m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locking a page, the page must be read from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 unlocking a page, the page must be written to disk if it was modifi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omplex protocols with fewer disk reads/writes ex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 coherency protocols for shared-nothing systems are similar. Each database page is assigned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cessor. Requests to fetch the page or write it to disk are sent to the home process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ntraquery Parallelism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079280"/>
            <a:ext cx="7479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ion of a single query in parallel on multiple processors/disks; important for speeding up long-running que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complementary forms of intraquery parallelis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traoperation Parallelis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parallelize the execution of each individual operation in the qu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teroperation Parallelis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execute the different operations in a query expression in parall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rst form scales better with increasing parallelism becaus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umber of tuples processed by each operation is typically more than the number of operations in a qu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66720" y="109440"/>
            <a:ext cx="847728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Parallel Processing of Relational Operation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r discussion of parallel algorithms assum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ad-on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que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-nothing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cessors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..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isk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..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 where disk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ssociated with process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processor has multiple disks they can simply simulate a single disk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-nothing architectures can be efficiently simulated on shared-memory and shared-disk systems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hms for shared-nothing systems can thus be run on shared-memory and shared-disk system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some optimizations may be poss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hapter 18: Parallel Databas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 Paralle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query Paralle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aquery Paralle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aoperation Paralle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operation Paralle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 of Parallel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8532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Parallel Sor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79640"/>
            <a:ext cx="7604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ge-Partitioning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processor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..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1 to do sor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range-partition vector with m entries, on the sorting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istribute the relation using range partitio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tuples that lie in the i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ange are sent to process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s the tuples it received temporarily on disk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tep requires I/O and communication overhe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process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orts its partition of the relation lo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processors executes same operation (sort) in parallel with other processors, without any interaction with the others (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ata parallelis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merge operation is trivial: range-partitioning ensures that, for 1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  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 key values in process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all less than the key values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Parallel Sort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llel External Sort-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the relation has already been partitioned among disk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...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in whatever manne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process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cally sorts the data on disk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orted runs on each processor are then merged to get the final sorted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llelize the merging of sorted runs as follow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orted partitions at each process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range-partitioned across the processor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..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process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erforms a merge on the streams as they are received, to get a single sorted ru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orted runs on processor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..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concatenated to get the final resu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Parallel Joi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join operation requires pairs of tuples to be tested to see if they satisfy the join condition, and if they do, the pair is added to the join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llel join algorithms attempt to split the pairs to be tested over several processors.  Each processor then computes part of the join locally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 final step, the results from each processor can be collected together to produce the final resu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Partitioned Joi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41240" y="1079640"/>
            <a:ext cx="7707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qui-joins and natural joins, it is possible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rti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two input relations across the processors, and compute the join locally at each process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 the input relations, and we want to comput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r    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r.A=s.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ach are partitioned in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rtitions, denote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...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..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use eith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ange partitio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h partitio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ust be partitioned on their join attribut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A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B), using the same range-partitioning vector or hash fun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tion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sent to process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process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cally comput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.A=si.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Any of the standard join methods can b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28"/>
          <p:cNvGrpSpPr/>
          <p:nvPr/>
        </p:nvGrpSpPr>
        <p:grpSpPr>
          <a:xfrm>
            <a:off x="7343640" y="2114280"/>
            <a:ext cx="228600" cy="228960"/>
            <a:chOff x="7343640" y="2114280"/>
            <a:chExt cx="228600" cy="228960"/>
          </a:xfrm>
        </p:grpSpPr>
        <p:sp>
          <p:nvSpPr>
            <p:cNvPr id="140" name="Line 4"/>
            <p:cNvSpPr/>
            <p:nvPr/>
          </p:nvSpPr>
          <p:spPr>
            <a:xfrm>
              <a:off x="7343640" y="21146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5"/>
            <p:cNvSpPr/>
            <p:nvPr/>
          </p:nvSpPr>
          <p:spPr>
            <a:xfrm>
              <a:off x="7572240" y="21146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6"/>
            <p:cNvSpPr/>
            <p:nvPr/>
          </p:nvSpPr>
          <p:spPr>
            <a:xfrm>
              <a:off x="7343640" y="21146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7"/>
            <p:cNvSpPr/>
            <p:nvPr/>
          </p:nvSpPr>
          <p:spPr>
            <a:xfrm flipV="1">
              <a:off x="7343640" y="211428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29"/>
          <p:cNvGrpSpPr/>
          <p:nvPr/>
        </p:nvGrpSpPr>
        <p:grpSpPr>
          <a:xfrm>
            <a:off x="5129280" y="4552560"/>
            <a:ext cx="247680" cy="228960"/>
            <a:chOff x="5129280" y="4552560"/>
            <a:chExt cx="247680" cy="228960"/>
          </a:xfrm>
        </p:grpSpPr>
        <p:sp>
          <p:nvSpPr>
            <p:cNvPr id="145" name="Line 11"/>
            <p:cNvSpPr/>
            <p:nvPr/>
          </p:nvSpPr>
          <p:spPr>
            <a:xfrm>
              <a:off x="5129280" y="4552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2"/>
            <p:cNvSpPr/>
            <p:nvPr/>
          </p:nvSpPr>
          <p:spPr>
            <a:xfrm>
              <a:off x="5148360" y="45529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13"/>
            <p:cNvSpPr/>
            <p:nvPr/>
          </p:nvSpPr>
          <p:spPr>
            <a:xfrm flipV="1">
              <a:off x="5148360" y="455256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14"/>
            <p:cNvSpPr/>
            <p:nvPr/>
          </p:nvSpPr>
          <p:spPr>
            <a:xfrm>
              <a:off x="5376960" y="4552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Partitioned Join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50" name="Picture 10" descr=""/>
          <p:cNvPicPr/>
          <p:nvPr/>
        </p:nvPicPr>
        <p:blipFill>
          <a:blip r:embed="rId1"/>
          <a:stretch/>
        </p:blipFill>
        <p:spPr>
          <a:xfrm>
            <a:off x="1792440" y="812880"/>
            <a:ext cx="537840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ragment-and-Replicate Joi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14320" y="1093320"/>
            <a:ext cx="7661520" cy="37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tioning not possible for some join condi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non-equijoin conditions, such as r.A &gt; s.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joins were partitioning is not applicable, parallelization  can be accomplished by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ragment and replic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chn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icted on next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 case –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symmetric fragment-and-replic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of the relations, sa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is partitioned; any partitioning technique can b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ther relation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is replicated across all the process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locally computes the join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all of s using any join techniq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Depiction of Fragment-and-Replicate Join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1"/>
          <a:stretch/>
        </p:blipFill>
        <p:spPr>
          <a:xfrm>
            <a:off x="1414440" y="930240"/>
            <a:ext cx="656892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ragment-and-Replicate Join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 case: reduces the sizes of the relations at each process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partitioned into n partitions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..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s is partitioned in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rtitions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..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partitioning technique may b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must be at least m * n process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 the processors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,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,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..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,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,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..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-1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,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putes the join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In order to do so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replicated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,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,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..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,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ile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replicated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,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,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..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-1,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join technique can be used at each process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,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ragment-and-Replicate Join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079640"/>
            <a:ext cx="75200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h versions of fragment-and-replicate work with any join condition, since every tuple i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be tested with every tuple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ually has a higher cost than partitioning, since one of the relations (for asymmetric fragment-and-replicate) or both relations (for general fragment-and-replicate) have to be replic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times asymmetric fragment-and-replicate is preferable even though partitioning could b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sa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small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large, and already partitioned. It may be cheaper to replica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cross all processors, rather than reparti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the join attribu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Partitioned Parallel Hash-Joi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llelizing partitioned hash jo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smaller tha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therefo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chosen as the build re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hash fun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akes the join attribute value of each tuple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maps this tuple to one of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cess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process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the tuples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t are on its disk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sends each tuple to the appropriate processor based on hash fun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L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note the tuples of rel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t are sent to process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tuples of rel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received at the destination processors, they are partitioned further using another hash function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ich is used to compute the hash-join locally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ntroduc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14320" y="1093320"/>
            <a:ext cx="7661520" cy="53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llel machines are becoming quite common and afford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ces of microprocessors, memory and disks have dropped shar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nt desktop computers feature multiple processors and this trend is projected to accele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s are growing increasingly l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volumes of transaction data are collected and stored for later analy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media objects like images are increasingly stored in 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-scale parallel database systems increasingly used f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ing large volumes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 time-consuming decision-support que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ing high throughput for transaction process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Partitioned Parallel Hash-Join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the tuples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 been distributed, the larger rel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redistributed across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cessors using the hash fun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note the tuples of relatio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hat are sent to process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uples are received at the destination processors, they are repartitioned using the fun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just as the probe relation is partitioned in the sequential hash-join algorithm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process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xecutes the build and probe phases of the hash-join algorithm on the local partition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produce a partition of the final result of the hash-jo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Hash-join optimizations can be applied to the parallel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the hybrid hash-join algorithm can be used to cache some of the incoming tuples in memory and avoid the cost of writing them and reading them back 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Parallel Nested-Loop Joi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much smaller than rel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th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stored by partitio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is an index on a join attribute of rel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 each of the partitions of rel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asymmetric fragment-and-replicate, with rel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ing replicated, and using the existing partitioning of rel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process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a partition of rel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stored reads the tuples of rel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ored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replicates the tuples to every other process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end of this phase, rel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replicated at all sites that store tuples of rel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process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erforms an indexed nested-loop join of rel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th the i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rtition of rel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MS Mincho"/>
              </a:rPr>
              <a:t>Other Relational Operat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Selectio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(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 is of the form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= v, where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 is an attribute and v a val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If r is partitioned on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 the selection is performed at a single process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 is of the form l &lt;=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 &lt;= u  (i.e.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 is a range selection) and the relation has been range-partitioned on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Selection is performed at each processor whose partition overlaps with the specified range of val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In all other cases: the selection is performed in parallel at all the processor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MS Mincho"/>
              </a:rPr>
              <a:t>Other Relational Operation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Duplicate eli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Perform by using either of the parallel sort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eliminate duplicates as soon as they are found during sor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Can also partition the tuples (using either range- or hash- partitioning) and perform duplicate elimination locally at each processor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Proj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Projection without duplicate elimination can be performed as tuples are read in from disk in parall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If duplicate elimination is required, any of the above duplicate elimination techniques can be used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Grouping/Aggreg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Partition the relation on the grouping attributes and then compute the aggregate values locally at each process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Can reduce cost of transferring tuples during partitioning by partly computing aggregate values before partitio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Consider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s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 aggregation oper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Perform aggregation operation at each processor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 on those tuples stored on disk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results in tuples with partial sums at each process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Result of the local aggregation is partitioned on the grouping attributes, and the aggregation performed again at each processor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 to get the final resu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Fewer tuples need to be sent to other processors during partitio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27200" y="43164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Times New Roman"/>
              </a:rPr>
              <a:t>Cost of Parallel Evaluation of Operations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87320" y="131112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If there is no skew in the partitioning, and there is no overhead due to the parallel evaluation, expected speed-up will be 1/n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If skew and overheads are also to be taken into account, the time taken by a parallel operation can be estimated 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pa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 +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as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 + max 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, …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n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pa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 is the time for partitioning the re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as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 is the time for assembling the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 is the time taken for the operation at processor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this needs to be estimated taking into account the skew, and the time wasted in conten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nteroperator Parallelism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ipelined paralle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a join of four rel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1049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a pipeline that computes the three joins in parall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1049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P1 be assigned the computation of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p1 =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1049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P2 be assigned the computation of temp2 = temp1    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1049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P3 be assigned the computation of temp2     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of these operations can execute in parallel, sending result tuples it computes to the next operation even as it is computing further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d a pipelineable join evaluation algorithm (e.g., indexed nested loops join) is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4"/>
          <p:cNvGrpSpPr/>
          <p:nvPr/>
        </p:nvGrpSpPr>
        <p:grpSpPr>
          <a:xfrm>
            <a:off x="2265480" y="1995120"/>
            <a:ext cx="190440" cy="165600"/>
            <a:chOff x="2265480" y="1995120"/>
            <a:chExt cx="190440" cy="165600"/>
          </a:xfrm>
        </p:grpSpPr>
        <p:sp>
          <p:nvSpPr>
            <p:cNvPr id="176" name="Line 5"/>
            <p:cNvSpPr/>
            <p:nvPr/>
          </p:nvSpPr>
          <p:spPr>
            <a:xfrm>
              <a:off x="2265480" y="1995480"/>
              <a:ext cx="19044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6"/>
            <p:cNvSpPr/>
            <p:nvPr/>
          </p:nvSpPr>
          <p:spPr>
            <a:xfrm flipV="1">
              <a:off x="2265480" y="1995120"/>
              <a:ext cx="19044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7"/>
            <p:cNvSpPr/>
            <p:nvPr/>
          </p:nvSpPr>
          <p:spPr>
            <a:xfrm>
              <a:off x="2265480" y="1995480"/>
              <a:ext cx="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8"/>
            <p:cNvSpPr/>
            <p:nvPr/>
          </p:nvSpPr>
          <p:spPr>
            <a:xfrm>
              <a:off x="2455920" y="1995480"/>
              <a:ext cx="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9"/>
          <p:cNvGrpSpPr/>
          <p:nvPr/>
        </p:nvGrpSpPr>
        <p:grpSpPr>
          <a:xfrm>
            <a:off x="2887560" y="2007720"/>
            <a:ext cx="190440" cy="165600"/>
            <a:chOff x="2887560" y="2007720"/>
            <a:chExt cx="190440" cy="165600"/>
          </a:xfrm>
        </p:grpSpPr>
        <p:sp>
          <p:nvSpPr>
            <p:cNvPr id="181" name="Line 10"/>
            <p:cNvSpPr/>
            <p:nvPr/>
          </p:nvSpPr>
          <p:spPr>
            <a:xfrm>
              <a:off x="2887560" y="2008080"/>
              <a:ext cx="19044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1"/>
            <p:cNvSpPr/>
            <p:nvPr/>
          </p:nvSpPr>
          <p:spPr>
            <a:xfrm flipV="1">
              <a:off x="2887560" y="2007720"/>
              <a:ext cx="19044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2"/>
            <p:cNvSpPr/>
            <p:nvPr/>
          </p:nvSpPr>
          <p:spPr>
            <a:xfrm>
              <a:off x="2887560" y="2008080"/>
              <a:ext cx="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3"/>
            <p:cNvSpPr/>
            <p:nvPr/>
          </p:nvSpPr>
          <p:spPr>
            <a:xfrm>
              <a:off x="3078000" y="2008080"/>
              <a:ext cx="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14"/>
          <p:cNvGrpSpPr/>
          <p:nvPr/>
        </p:nvGrpSpPr>
        <p:grpSpPr>
          <a:xfrm>
            <a:off x="3433680" y="1982880"/>
            <a:ext cx="190440" cy="164880"/>
            <a:chOff x="3433680" y="1982880"/>
            <a:chExt cx="190440" cy="164880"/>
          </a:xfrm>
        </p:grpSpPr>
        <p:sp>
          <p:nvSpPr>
            <p:cNvPr id="186" name="Line 15"/>
            <p:cNvSpPr/>
            <p:nvPr/>
          </p:nvSpPr>
          <p:spPr>
            <a:xfrm>
              <a:off x="3433680" y="1982880"/>
              <a:ext cx="190440" cy="16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6"/>
            <p:cNvSpPr/>
            <p:nvPr/>
          </p:nvSpPr>
          <p:spPr>
            <a:xfrm flipV="1">
              <a:off x="3433680" y="1982880"/>
              <a:ext cx="190440" cy="16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7"/>
            <p:cNvSpPr/>
            <p:nvPr/>
          </p:nvSpPr>
          <p:spPr>
            <a:xfrm>
              <a:off x="3433680" y="1982880"/>
              <a:ext cx="0" cy="16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8"/>
            <p:cNvSpPr/>
            <p:nvPr/>
          </p:nvSpPr>
          <p:spPr>
            <a:xfrm>
              <a:off x="3624120" y="1982880"/>
              <a:ext cx="0" cy="16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19"/>
          <p:cNvGrpSpPr/>
          <p:nvPr/>
        </p:nvGrpSpPr>
        <p:grpSpPr>
          <a:xfrm>
            <a:off x="3852720" y="2998440"/>
            <a:ext cx="190800" cy="165600"/>
            <a:chOff x="3852720" y="2998440"/>
            <a:chExt cx="190800" cy="165600"/>
          </a:xfrm>
        </p:grpSpPr>
        <p:sp>
          <p:nvSpPr>
            <p:cNvPr id="191" name="Line 20"/>
            <p:cNvSpPr/>
            <p:nvPr/>
          </p:nvSpPr>
          <p:spPr>
            <a:xfrm>
              <a:off x="3852720" y="2998800"/>
              <a:ext cx="19080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21"/>
            <p:cNvSpPr/>
            <p:nvPr/>
          </p:nvSpPr>
          <p:spPr>
            <a:xfrm flipV="1">
              <a:off x="3852720" y="2998440"/>
              <a:ext cx="19080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22"/>
            <p:cNvSpPr/>
            <p:nvPr/>
          </p:nvSpPr>
          <p:spPr>
            <a:xfrm>
              <a:off x="3852720" y="2998800"/>
              <a:ext cx="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23"/>
            <p:cNvSpPr/>
            <p:nvPr/>
          </p:nvSpPr>
          <p:spPr>
            <a:xfrm>
              <a:off x="4043520" y="2998800"/>
              <a:ext cx="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24"/>
          <p:cNvGrpSpPr/>
          <p:nvPr/>
        </p:nvGrpSpPr>
        <p:grpSpPr>
          <a:xfrm>
            <a:off x="6761160" y="3677760"/>
            <a:ext cx="190440" cy="165600"/>
            <a:chOff x="6761160" y="3677760"/>
            <a:chExt cx="190440" cy="165600"/>
          </a:xfrm>
        </p:grpSpPr>
        <p:sp>
          <p:nvSpPr>
            <p:cNvPr id="196" name="Line 25"/>
            <p:cNvSpPr/>
            <p:nvPr/>
          </p:nvSpPr>
          <p:spPr>
            <a:xfrm>
              <a:off x="6761160" y="3678120"/>
              <a:ext cx="19044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26"/>
            <p:cNvSpPr/>
            <p:nvPr/>
          </p:nvSpPr>
          <p:spPr>
            <a:xfrm flipV="1">
              <a:off x="6761160" y="3677760"/>
              <a:ext cx="19044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7"/>
            <p:cNvSpPr/>
            <p:nvPr/>
          </p:nvSpPr>
          <p:spPr>
            <a:xfrm>
              <a:off x="6761160" y="3678120"/>
              <a:ext cx="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28"/>
            <p:cNvSpPr/>
            <p:nvPr/>
          </p:nvSpPr>
          <p:spPr>
            <a:xfrm>
              <a:off x="6951600" y="3678120"/>
              <a:ext cx="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29"/>
          <p:cNvGrpSpPr/>
          <p:nvPr/>
        </p:nvGrpSpPr>
        <p:grpSpPr>
          <a:xfrm>
            <a:off x="7624800" y="3320640"/>
            <a:ext cx="190440" cy="165600"/>
            <a:chOff x="7624800" y="3320640"/>
            <a:chExt cx="190440" cy="165600"/>
          </a:xfrm>
        </p:grpSpPr>
        <p:sp>
          <p:nvSpPr>
            <p:cNvPr id="201" name="Line 30"/>
            <p:cNvSpPr/>
            <p:nvPr/>
          </p:nvSpPr>
          <p:spPr>
            <a:xfrm>
              <a:off x="7624800" y="3321000"/>
              <a:ext cx="19044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31"/>
            <p:cNvSpPr/>
            <p:nvPr/>
          </p:nvSpPr>
          <p:spPr>
            <a:xfrm flipV="1">
              <a:off x="7624800" y="3320640"/>
              <a:ext cx="19044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32"/>
            <p:cNvSpPr/>
            <p:nvPr/>
          </p:nvSpPr>
          <p:spPr>
            <a:xfrm>
              <a:off x="7624800" y="3321000"/>
              <a:ext cx="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33"/>
            <p:cNvSpPr/>
            <p:nvPr/>
          </p:nvSpPr>
          <p:spPr>
            <a:xfrm>
              <a:off x="7815240" y="3321000"/>
              <a:ext cx="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46980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Times New Roman"/>
              </a:rPr>
              <a:t>Factors Limiting Utility of Pipeline Parallelism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223640"/>
            <a:ext cx="746784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line parallelism is useful since it avoids writing intermediate results to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Useful with small number of processors, but does not scale up well with more processors. One reason is that pipeline chains do not attain sufficient leng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Cannot pipeline operators which do not produce output until all    inputs have been accessed (e.g., aggregate and sort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Little speedup is obtained for the frequent cases of skew in which        one operator's execution cost is much higher than the oth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ndependent Parallelism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dependent paralle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a join of four rel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lnSpc>
                <a:spcPct val="90000"/>
              </a:lnSpc>
              <a:spcBef>
                <a:spcPts val="1049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 assigned the computation of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p1 =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lnSpc>
                <a:spcPct val="90000"/>
              </a:lnSpc>
              <a:spcBef>
                <a:spcPts val="1049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 assigned the computation of temp2 =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 assigned the computation of temp1     tem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work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ly in parall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to wait for input from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19240">
              <a:lnSpc>
                <a:spcPct val="9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pipeline output of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combining independent parallelism and pipelined paralle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Does not provide a high degree of paralle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useful with a lower degree of parallelis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less useful in a highly parallel syst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4"/>
          <p:cNvGrpSpPr/>
          <p:nvPr/>
        </p:nvGrpSpPr>
        <p:grpSpPr>
          <a:xfrm>
            <a:off x="3862440" y="2507760"/>
            <a:ext cx="190440" cy="165600"/>
            <a:chOff x="3862440" y="2507760"/>
            <a:chExt cx="190440" cy="165600"/>
          </a:xfrm>
        </p:grpSpPr>
        <p:sp>
          <p:nvSpPr>
            <p:cNvPr id="210" name="Line 5"/>
            <p:cNvSpPr/>
            <p:nvPr/>
          </p:nvSpPr>
          <p:spPr>
            <a:xfrm>
              <a:off x="3862440" y="2508120"/>
              <a:ext cx="19044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6"/>
            <p:cNvSpPr/>
            <p:nvPr/>
          </p:nvSpPr>
          <p:spPr>
            <a:xfrm flipV="1">
              <a:off x="3862440" y="2507760"/>
              <a:ext cx="19044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7"/>
            <p:cNvSpPr/>
            <p:nvPr/>
          </p:nvSpPr>
          <p:spPr>
            <a:xfrm>
              <a:off x="3862440" y="2508120"/>
              <a:ext cx="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8"/>
            <p:cNvSpPr/>
            <p:nvPr/>
          </p:nvSpPr>
          <p:spPr>
            <a:xfrm>
              <a:off x="4052880" y="2508120"/>
              <a:ext cx="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9"/>
          <p:cNvGrpSpPr/>
          <p:nvPr/>
        </p:nvGrpSpPr>
        <p:grpSpPr>
          <a:xfrm>
            <a:off x="3405240" y="1902960"/>
            <a:ext cx="190440" cy="165600"/>
            <a:chOff x="3405240" y="1902960"/>
            <a:chExt cx="190440" cy="165600"/>
          </a:xfrm>
        </p:grpSpPr>
        <p:sp>
          <p:nvSpPr>
            <p:cNvPr id="215" name="Line 10"/>
            <p:cNvSpPr/>
            <p:nvPr/>
          </p:nvSpPr>
          <p:spPr>
            <a:xfrm>
              <a:off x="3405240" y="1903320"/>
              <a:ext cx="19044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1"/>
            <p:cNvSpPr/>
            <p:nvPr/>
          </p:nvSpPr>
          <p:spPr>
            <a:xfrm flipV="1">
              <a:off x="3405240" y="1902960"/>
              <a:ext cx="19044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2"/>
            <p:cNvSpPr/>
            <p:nvPr/>
          </p:nvSpPr>
          <p:spPr>
            <a:xfrm>
              <a:off x="3405240" y="1903320"/>
              <a:ext cx="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3"/>
            <p:cNvSpPr/>
            <p:nvPr/>
          </p:nvSpPr>
          <p:spPr>
            <a:xfrm>
              <a:off x="3595680" y="1903320"/>
              <a:ext cx="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14"/>
          <p:cNvGrpSpPr/>
          <p:nvPr/>
        </p:nvGrpSpPr>
        <p:grpSpPr>
          <a:xfrm>
            <a:off x="2833560" y="1890360"/>
            <a:ext cx="190800" cy="165600"/>
            <a:chOff x="2833560" y="1890360"/>
            <a:chExt cx="190800" cy="165600"/>
          </a:xfrm>
        </p:grpSpPr>
        <p:sp>
          <p:nvSpPr>
            <p:cNvPr id="220" name="Line 15"/>
            <p:cNvSpPr/>
            <p:nvPr/>
          </p:nvSpPr>
          <p:spPr>
            <a:xfrm>
              <a:off x="2833560" y="1890720"/>
              <a:ext cx="19080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6"/>
            <p:cNvSpPr/>
            <p:nvPr/>
          </p:nvSpPr>
          <p:spPr>
            <a:xfrm flipV="1">
              <a:off x="2833560" y="1890360"/>
              <a:ext cx="19080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7"/>
            <p:cNvSpPr/>
            <p:nvPr/>
          </p:nvSpPr>
          <p:spPr>
            <a:xfrm>
              <a:off x="2833560" y="1890720"/>
              <a:ext cx="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8"/>
            <p:cNvSpPr/>
            <p:nvPr/>
          </p:nvSpPr>
          <p:spPr>
            <a:xfrm>
              <a:off x="3024360" y="1890720"/>
              <a:ext cx="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19"/>
          <p:cNvGrpSpPr/>
          <p:nvPr/>
        </p:nvGrpSpPr>
        <p:grpSpPr>
          <a:xfrm>
            <a:off x="2287440" y="1890360"/>
            <a:ext cx="190800" cy="165600"/>
            <a:chOff x="2287440" y="1890360"/>
            <a:chExt cx="190800" cy="165600"/>
          </a:xfrm>
        </p:grpSpPr>
        <p:sp>
          <p:nvSpPr>
            <p:cNvPr id="225" name="Line 20"/>
            <p:cNvSpPr/>
            <p:nvPr/>
          </p:nvSpPr>
          <p:spPr>
            <a:xfrm>
              <a:off x="2287440" y="1890720"/>
              <a:ext cx="19080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21"/>
            <p:cNvSpPr/>
            <p:nvPr/>
          </p:nvSpPr>
          <p:spPr>
            <a:xfrm flipV="1">
              <a:off x="2287440" y="1890360"/>
              <a:ext cx="19080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22"/>
            <p:cNvSpPr/>
            <p:nvPr/>
          </p:nvSpPr>
          <p:spPr>
            <a:xfrm>
              <a:off x="2287440" y="1890720"/>
              <a:ext cx="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23"/>
            <p:cNvSpPr/>
            <p:nvPr/>
          </p:nvSpPr>
          <p:spPr>
            <a:xfrm>
              <a:off x="2478240" y="1890720"/>
              <a:ext cx="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Group 24"/>
          <p:cNvGrpSpPr/>
          <p:nvPr/>
        </p:nvGrpSpPr>
        <p:grpSpPr>
          <a:xfrm>
            <a:off x="6697800" y="3164040"/>
            <a:ext cx="190440" cy="164880"/>
            <a:chOff x="6697800" y="3164040"/>
            <a:chExt cx="190440" cy="164880"/>
          </a:xfrm>
        </p:grpSpPr>
        <p:sp>
          <p:nvSpPr>
            <p:cNvPr id="230" name="Line 25"/>
            <p:cNvSpPr/>
            <p:nvPr/>
          </p:nvSpPr>
          <p:spPr>
            <a:xfrm>
              <a:off x="6697800" y="3164040"/>
              <a:ext cx="190440" cy="16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26"/>
            <p:cNvSpPr/>
            <p:nvPr/>
          </p:nvSpPr>
          <p:spPr>
            <a:xfrm flipV="1">
              <a:off x="6697800" y="3164040"/>
              <a:ext cx="190440" cy="16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27"/>
            <p:cNvSpPr/>
            <p:nvPr/>
          </p:nvSpPr>
          <p:spPr>
            <a:xfrm>
              <a:off x="6697800" y="3164040"/>
              <a:ext cx="0" cy="16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28"/>
            <p:cNvSpPr/>
            <p:nvPr/>
          </p:nvSpPr>
          <p:spPr>
            <a:xfrm>
              <a:off x="6888240" y="3164040"/>
              <a:ext cx="0" cy="16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29"/>
          <p:cNvGrpSpPr/>
          <p:nvPr/>
        </p:nvGrpSpPr>
        <p:grpSpPr>
          <a:xfrm>
            <a:off x="7167600" y="2862360"/>
            <a:ext cx="190440" cy="164880"/>
            <a:chOff x="7167600" y="2862360"/>
            <a:chExt cx="190440" cy="164880"/>
          </a:xfrm>
        </p:grpSpPr>
        <p:sp>
          <p:nvSpPr>
            <p:cNvPr id="235" name="Line 30"/>
            <p:cNvSpPr/>
            <p:nvPr/>
          </p:nvSpPr>
          <p:spPr>
            <a:xfrm>
              <a:off x="7167600" y="2862360"/>
              <a:ext cx="190440" cy="16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31"/>
            <p:cNvSpPr/>
            <p:nvPr/>
          </p:nvSpPr>
          <p:spPr>
            <a:xfrm flipV="1">
              <a:off x="7167600" y="2862360"/>
              <a:ext cx="190440" cy="16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32"/>
            <p:cNvSpPr/>
            <p:nvPr/>
          </p:nvSpPr>
          <p:spPr>
            <a:xfrm>
              <a:off x="7167600" y="2862360"/>
              <a:ext cx="0" cy="16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33"/>
            <p:cNvSpPr/>
            <p:nvPr/>
          </p:nvSpPr>
          <p:spPr>
            <a:xfrm>
              <a:off x="7358040" y="2862360"/>
              <a:ext cx="0" cy="16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Query Optimiz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Query optimization in parallel databases is significantly more complex than query optimization in sequential databa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Cost models are more complicated, since we must take into account partitioning costs and issues such as skew and resource conten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When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MS Mincho"/>
              </a:rPr>
              <a:t>schedu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 execution tree in parallel system, must deci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How to parallelize  each operation and how many processors  to use for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What operations to pipeline, what operations to execute independently in parallel, and what operations to execute sequentially, one after the other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Determining the amount of resources to allocate for each operation is a probl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E.g., allocating more processors than optimal can result in high communication overhe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Long pipelines should be avoided as the final operation may wait a lot for inputs, while holding precious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Parallelism in Databas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can be partitioned across multiple disks for parallel I/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relational operations (e.g., sort, join, aggregation) can be executed in parall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can be partitioned and each processor can work independently on its own parti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ries are expressed in high level language (SQL, translated to relational algebr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s parallelization easi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queries can be run in parallel with each other.     Concurrency control takes care of conflic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databases naturally lend themselves to parallelis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Query Optimization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07964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37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MS Mincho"/>
              </a:rPr>
              <a:t>The number of parallel evaluation plans from which to choose from is much larger than the number of sequential evaluation plan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37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MS Mincho"/>
              </a:rPr>
              <a:t>Therefore heuristics are needed while optimiz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37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MS Mincho"/>
              </a:rPr>
              <a:t>Two alternative heuristics for choosing parallel plans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37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MS Mincho"/>
              </a:rPr>
              <a:t>No pipelining and inter-operation pipelining; just parallelize every operation across all processors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09440" indent="-212400">
              <a:lnSpc>
                <a:spcPct val="90000"/>
              </a:lnSpc>
              <a:spcBef>
                <a:spcPts val="737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MS Mincho"/>
              </a:rPr>
              <a:t>Finding best plan is now much easier --- use standard optimization technique, but with new cost mod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09440" indent="-212400">
              <a:lnSpc>
                <a:spcPct val="90000"/>
              </a:lnSpc>
              <a:spcBef>
                <a:spcPts val="737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Courier New"/>
              </a:rPr>
              <a:t>Volcano parallel database popularize the </a:t>
            </a:r>
            <a:r>
              <a:rPr b="1" lang="en-US" sz="1700" spc="-1" strike="noStrike">
                <a:solidFill>
                  <a:srgbClr val="000099"/>
                </a:solidFill>
                <a:latin typeface="Arial"/>
                <a:ea typeface="Courier New"/>
              </a:rPr>
              <a:t>exchange-operator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Courier New"/>
              </a:rPr>
              <a:t> model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328760" indent="-212400">
              <a:lnSpc>
                <a:spcPct val="90000"/>
              </a:lnSpc>
              <a:spcBef>
                <a:spcPts val="737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Courier New"/>
              </a:rPr>
              <a:t>exchange operator is introduced into query plans to partition and distribute tupl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328760" indent="-212400">
              <a:lnSpc>
                <a:spcPct val="90000"/>
              </a:lnSpc>
              <a:spcBef>
                <a:spcPts val="737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Courier New"/>
              </a:rPr>
              <a:t>each operation works independently on local data on each processor, in parallel with other copies of the oper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37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MS Mincho"/>
              </a:rPr>
              <a:t>First choose most efficient sequential plan and then choose how best to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MS Mincho"/>
              </a:rPr>
              <a:t>parallelize the operations in that pla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09440" indent="-212400">
              <a:lnSpc>
                <a:spcPct val="90000"/>
              </a:lnSpc>
              <a:spcBef>
                <a:spcPts val="737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MS Mincho"/>
              </a:rPr>
              <a:t>Can explore pipelined parallelism as an option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37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MS Mincho"/>
              </a:rPr>
              <a:t>Choosing a good physical organization (partitioning technique) is important to speed up querie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esign of Parallel System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Some issues in the design of parallel syste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Parallel loading of data from external sources is needed in order to handle large volumes of incoming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Resilience to failure of some processors or dis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Probability of some disk or processor failing is higher in a parallel system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Operation (perhaps with degraded performance) should be possible in spite of failu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Redundancy achieved by storing extra copy of every data item at another process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esign of Parallel System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On-line reorganization of data and schema changes must be suppor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For example, index construction on terabyte databases can take hours or days even on a parallel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Need to allow other processing (insertions/deletions/updates) to be performed on relation even as index is being construc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Basic idea: index construction tracks changes and “catches up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on changes at the 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Also need support for on-line repartitioning and schema changes (executed concurrently with other processin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nd of Chapter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18.01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49" name="Picture 5" descr=""/>
          <p:cNvPicPr/>
          <p:nvPr/>
        </p:nvPicPr>
        <p:blipFill>
          <a:blip r:embed="rId1"/>
          <a:stretch/>
        </p:blipFill>
        <p:spPr>
          <a:xfrm>
            <a:off x="922320" y="797040"/>
            <a:ext cx="785196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18.02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51" name="Picture 10" descr=""/>
          <p:cNvPicPr/>
          <p:nvPr/>
        </p:nvPicPr>
        <p:blipFill>
          <a:blip r:embed="rId1"/>
          <a:stretch/>
        </p:blipFill>
        <p:spPr>
          <a:xfrm>
            <a:off x="1792440" y="812880"/>
            <a:ext cx="537840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18.03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53" name="Picture 5" descr=""/>
          <p:cNvPicPr/>
          <p:nvPr/>
        </p:nvPicPr>
        <p:blipFill>
          <a:blip r:embed="rId1"/>
          <a:stretch/>
        </p:blipFill>
        <p:spPr>
          <a:xfrm>
            <a:off x="1414440" y="930240"/>
            <a:ext cx="656892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/O Parallelism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079640"/>
            <a:ext cx="7613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the time required to retrieve relations from disk by partitio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lations on multiple dis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rizontal partitioning – tuples of a relation are divided among many disks such that each tuple resides on one dis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tioning techniques (number of disks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ound-rob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7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th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uple inserted in the relation to disk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ash partitio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one or more attributes as the partitioning attributes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hash fun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th range 0…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note result of hash fun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pplied 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artitioning attribute value of a tuple. Send tuple to disk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/O Parallelism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14320" y="1093320"/>
            <a:ext cx="7661520" cy="37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tioning techniques (cont.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ange partition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an attribute as the partitioning attribu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artitioning vector [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..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 is chos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 the partitioning attribute value of a tuple. Tuples such th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o to disk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1. Tuples wi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o to disk 0 and tuples wi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-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o to disk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with a partitioning vector [5,11], a tuple with partitioning attribute value of 2 will go to disk 0, a tuple with value 8 will go to disk 1, while a  tuple with value 20 will go to disk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omparison of Partitioning Techniqu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e how well partitioning techniques support the following types of data acce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Scanning the entire re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Locating a tuple associatively –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oint quer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.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2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Locating all tuples such that the value of a given attribute lies within  a specified range –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ange quer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 1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.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lt; 2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8200" y="95400"/>
            <a:ext cx="8577360" cy="58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omparison of Partitioning Techniques (Cont.)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079280"/>
            <a:ext cx="784872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nd rob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t suited for sequential scan of entire relation on each qu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disks have almost an equal number of tuples; retrieval work is thus well balanced between dis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ge queries are difficult to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clustering -- tuples are scattered across all d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1079280"/>
            <a:ext cx="7661520" cy="41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h partition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for sequential acc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ing hash function is good, and partitioning attributes form a key, tuples will be equally distributed between d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al work is then well balanced between dis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for point queries on partitioning attrib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lookup single disk, leaving others available for answering other quer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 on partitioning attribute can be local to disk, making lookup and update more effic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clustering, so difficult to answer range que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704880" y="114480"/>
            <a:ext cx="8210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omparison of Partitioning Techniques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6T04:54:53Z</dcterms:created>
  <dc:creator>S. Sudarshan</dc:creator>
  <dc:description/>
  <dc:language>en-US</dc:language>
  <cp:lastModifiedBy>as668</cp:lastModifiedBy>
  <dcterms:modified xsi:type="dcterms:W3CDTF">2010-02-10T14:54:31Z</dcterms:modified>
  <cp:revision>103</cp:revision>
  <dc:subject/>
  <dc:title>Chapter 17: Parallel Databases</dc:title>
</cp:coreProperties>
</file>