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3C4EDCD-EB8A-44EF-8A48-149377B4D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4F5E94C-53DE-4E59-9CE3-C86C95E9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934ED2-9BA3-425F-AB24-6A7A4DC9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3D0BC54-8245-4231-8ACB-D2DCEE42E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BF4DD99-FF89-4D10-9F35-2B200985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B760501-0760-4690-A221-B46B402E1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9B1E036-14A4-49BC-B1F5-83AF1E3FE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844508C-1279-4F25-BA14-83C63ADA0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1D075EE-2208-4287-9EDE-5E56F6B8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D1ED23D-8823-486A-AB63-852662060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AFDE7A2-11AC-4575-8F33-C32CF44D4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C4C140C-A38D-42A5-B403-36CD2AF4E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6E893A9-F19C-470C-A2B7-E694D00F4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C0AD5CF-2E6B-4AEF-9835-E3C281C19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56E69E8-F3FD-49F5-8C9A-1B42FF36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1484D2E-89D2-4354-B18B-820D3C752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9764688-7CF0-4474-B1CD-BCA63047E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BD9B6A0-A9D7-4DCA-9101-D6AC7FB65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4C05F16-000C-45C8-AD99-23E130B3C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1B22222-CB9E-48A9-A7C7-15EDF1F6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D09C2E6-BCE4-4676-8F15-F327FBAEB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6F7FD51-0D76-4AA3-90BE-A7963798C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FD63A8F-765C-4BC4-B198-E7D6DA8DF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ADC286C-D465-4912-85E8-1FB26E39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D70431C-2367-4350-B66E-C2F83F3FD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4EEF5CC-C450-40AB-9745-BC9E95053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8CB0E5C-387B-4B93-8659-E85511C7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C050B6A-3A7C-424E-B7FB-2B3269338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4DDB4EE-ED9D-4DBD-95DF-E6317F8A0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1707159-E69C-4019-986A-BB509B248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DA8578F-647E-40D6-AE11-7748AC869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EF98D57-6E44-4DF1-8E89-297F9911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6F9F3D3-6075-4657-99C9-10F546C39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F20CAE9-3441-4DB8-8D48-DBE208468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829E6E2-F669-405E-9CA8-D7B19086F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231417D-2D33-4B2F-9BCA-4DD767FB0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B5AD620-6544-4EC3-BB36-318457F0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789BFE5-27FD-4C01-B011-0AA0A25D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4166BBF-C5F7-401E-B9D2-8E8FA36A7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105DCFA-D6B0-4603-B269-5D31AD484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84F7F61-1C50-4083-9531-1D078B716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D3776FD-FFE8-4BA4-9CB1-4EF9BC6E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D7BF920-A3ED-4E93-8169-0D61FAFE5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8AEE637-27AF-4060-931F-4E3754D01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0149323-747B-417C-B47C-9DFBDC68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A3C3C9F-4CFB-4458-83CC-DCDD96CB3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C041FB7-740B-4AF2-B21C-301218077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DF7EA6C-3E23-401C-9F3F-8EBF07A4F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47EB78A-DE15-4F86-95C1-FC02622A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6E58A70-283E-4080-9766-5018CA0FF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17.</a:t>
            </a:r>
            <a:fld id="{6570AE48-3D10-45F1-AD47-14B269486502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  <p:sp>
        <p:nvSpPr>
          <p:cNvPr id="7" name="Text Box 10"/>
          <p:cNvSpPr/>
          <p:nvPr/>
        </p:nvSpPr>
        <p:spPr>
          <a:xfrm>
            <a:off x="9000" y="6613560"/>
            <a:ext cx="259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72952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7: Database System Architectur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2880" y="10944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erver Process Stru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transaction server consists of multiple processes accessing data in shared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eceive user queries (transactions), execute them and send results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ay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threa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owing a single process to execute several user querie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multiple multithreaded serv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manag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writer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modified buffer blocks to disks conti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1044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erver Process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3400" y="1107720"/>
            <a:ext cx="72676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writ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cesses simply add log records to log record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writer process outputs log records to stable sto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poi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periodic check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onito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other processes, and takes recovery actions if any of the other processes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borting any transactions being executed by a server process and restart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480" y="666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ystem Process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335320" y="915840"/>
            <a:ext cx="39956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ystem Process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0280" y="1064880"/>
            <a:ext cx="7845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contains sha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query plans (reused if same query submitted ag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atabase processes can access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that no two processes are accessing the same data structure at the same time, databases systems implemen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tual exclu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semaph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instructions such as test-and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 avoid overhead of interprocess communication for lock request/grant, each database process operates directly on the lock tab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stead of sending requests to lock manager pro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ck manager process still used for deadlock dete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Serv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high-speed LANs, in cases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s are comparable in processing power to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sks to be executed are compute inten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re shipped to clients where processing is performed, and then shipped results back to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rchitecture requires full back-end functionality at the cl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many object-oriented databas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-Shipping versus Item-Sh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Server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ge-shi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su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tem-sh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unit of shipp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th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fet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ed items along with request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hipping can be thought of as a form of prefe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 of requesting and getting locks from server is high due to message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grant locks on requested and prefetched items; with page shipping, transaction is granted lock on whol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on a prefetched item can be P{called back} by the server, and returned by client transaction if the prefetched item has not been u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on the page can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escal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cks on items in the page when there are lock conflicts. Locks on unused items can then be returned to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Server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3400" y="1107720"/>
            <a:ext cx="750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n be cached at client even in between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heck that data is up-to-date before it is used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che coher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can be done when requesting lock on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can be retained by client system even in between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can acquire cached locks locally, without contacting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s 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s from clients when it receives conflicting lock request.  Client returns lock once no local transaction is using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deescalation, but across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database systems consist of multiple processors and multiple disks connected by a fast interconnection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arse-grain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all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chine consists of a small number of powerful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ssively parall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e grain parall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utilizes thousands of smaller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in performance meas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the number of tasks that can be completed in a given tim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pons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the amount of time it takes to complete a single task from the time it is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eed-Up and Scale-U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01280" y="1050840"/>
            <a:ext cx="7661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eed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fixed-sized problem executing on a small system is given to a system which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l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edup = small system elapse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rge system elapse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up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equation equals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ale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crease the size of both the problem and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larger system used to per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larger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aleup = small system small problem elapse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g system big problem elapse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up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equation equal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2697120" y="244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630520" y="467676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eedu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858960" y="1096920"/>
            <a:ext cx="71596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48880" y="263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hapter 17:  Database System Architectur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3400" y="1107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zed and Client-Ser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System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538280" y="64612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aleu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879480" y="928800"/>
            <a:ext cx="79405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tch and Transaction Scaleu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tch scale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large job; typical of most decision support queries and scientific si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larger computer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larger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 scale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ous small queries submitted by independent users to a shared database; typical transaction processing and timesharing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as many users submitting requests (henc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as many requests) to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larger database, on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 larger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suited to parallel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actors Limiting Speedup and Scaleup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up and scaleup are often sublinear due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tup co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st of starting up multiple processes may dominate computation time, if the degree of parallelism is hi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Processes accessing shared resources (e.g., system bus, disks, or locks) compete with each other, thus spending time waiting on other processes, rather than performing useful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k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creasing the degree of parallelism increases the variance in service times of parallely executing tasks.  Overall execution time determin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arallely executing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rconnection Network Archite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ystem components send data on and receive data from a single communication bu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cale well with increasing paralle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omponents are arranged as nodes in a grid, and each component is connected to all adjacent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links grow with growing number of components, and so scales bet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require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ps to send message to a node (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wraparound connections at edge of gr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ypercu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Components are numbered in binary;  components are connected to one another if their binary representations differ in exactly one 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onents are connec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(n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omponents and can reach each other via at mo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(n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; reduces communication del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rconnection Archite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3" name="Picture 33" descr=""/>
          <p:cNvPicPr/>
          <p:nvPr/>
        </p:nvPicPr>
        <p:blipFill>
          <a:blip r:embed="rId1"/>
          <a:stretch/>
        </p:blipFill>
        <p:spPr>
          <a:xfrm>
            <a:off x="555480" y="1235160"/>
            <a:ext cx="826632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allel Database Archite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processors share a commo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di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processors share a comm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no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processors share neither a common memory nor comm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hybrid of the above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allel Database Archite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"/>
          <a:stretch/>
        </p:blipFill>
        <p:spPr>
          <a:xfrm>
            <a:off x="873000" y="952560"/>
            <a:ext cx="7956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hared Memo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s and disks have access to a common memory, typically via a bus or through an interconnection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efficient communication between processors — data in shared memory can be accessed by any processor without having to move it using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side – architecture is not scalable beyond 32 or 64 processors since the bus or the interconnection network becomes a bottle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for lower degrees of parallelism (4 to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hared Disk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3400" y="1107720"/>
            <a:ext cx="7469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cessors can directly access all disks via an interconnection network, but the processors have private mem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mory bus is not a bottle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provides a degree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ult-tole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f a processor fails, the other processors can take over its tasks since the database is resident on disks that are accessible from all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 IBM Sysplex and DEC clusters (now part of Compaq) running Rdb (now Oracle Rdb) were early commercial us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side: bottleneck now occurs at interconnection to the disk sub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disk systems can scale to a somewhat larger number of processors, but communication between processors is sl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hared Noth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consists of a processor, memory, and one or more disks. Processors at one node  communicate with another processor at another node using an interconnection network. A node functions as the server for the data on the disk or disks the node ow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Teradata, Tandem, Oracle-n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ed from local disks (and local memory accesses)  do not pass through interconnection network, thereby minimizing the interference of resource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nothing multiprocessors can be scaled up to thousands of processors without inter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drawback: cost of communication and non-local disk access; sending data involves software interaction at both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entralized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on a single computer system and do not interact with other computer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-purpose computer system: one to a few CPUs and a number of device controllers that are connected through a common bus that provides access to shared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user system (e.g., personal computer or workstation): desk-top unit, single user, usually has only one CPU  and one or two hard disks; the OS may support only on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 system: more disks, more memory, multiple CPUs, and a multi-user OS. Serve a large number of users who are connected to the system vie terminals. Often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erarchica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s characteristics of shared-memory, shared-disk, and shared-nothing archite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level is a shared-nothing architecture –  nodes connected by an interconnection network, and do not share disks or memory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de of the system could be a shared-memory system with a few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each node could be a shared-disk system, and each of the systems sharing a set of disks could be a shared-memory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complexity of programming such systems by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tributed virtual-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n-uniform memory architecture (NU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7440" y="8600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pread over multiple machines (also referred to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interconnects th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hared by users on multipl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1465200" y="2306520"/>
            <a:ext cx="602784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istributed Databas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geneous distributed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oftware/schema on all sites, data may be partitioned among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provide a view of a single database, hiding details of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eous distributed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oftware/schema on different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integrate existing databases to provide useful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c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al 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es data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te at which the transaction was initi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lobal 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accesses data in a site different from the one at which the transaction was initiated or accesses data in several different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de-offs in Distributed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data – users at one site able to access the data residing at some other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omy – each site is able to retain a degree of control over data stored lo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system availability through redundancy — data can be replicated at remote sites, and system can function even if a site f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: added complexity required to ensure proper coordination among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developmen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potential for b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cessing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3040" y="4107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lementation Issues for Distributed Databases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3040" y="1108080"/>
            <a:ext cx="7518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ity needed even for transactions that update data at multipl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-phase commit protocol (2PC) is used to ensure atom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dea:  each site executes transaction until just before commit, and the leaves final decision to a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must follow decision of coordinator, even if there is a failure while waiting for coordinators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C is not always appropriate:  other transaction models based on persistent messaging, and workflows, are also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concurrency control (and deadlock detection)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may be replicated to improve data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of above in Chapter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twork Typ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-area network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) – composed of processors that are distributed over small geographical areas, such as a single building or a few adjacent buil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-area network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) – composed of processors distributed over a large geographical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al-area Network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936720" y="825480"/>
            <a:ext cx="6983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tworks Typ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 with continuous connection (e.g., the Internet) are needed for implementing distributed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ware applications such as Lotus notes can work on WANs with discontinuous conn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 repli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are propagated to replicas period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of data may be updated independ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erializable executions can thus result. Resolution is application depende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730080" y="988920"/>
            <a:ext cx="78328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Centralized Computer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68440" y="1465200"/>
            <a:ext cx="78325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5" name="Picture 27" descr=""/>
          <p:cNvPicPr/>
          <p:nvPr/>
        </p:nvPicPr>
        <p:blipFill>
          <a:blip r:embed="rId1"/>
          <a:stretch/>
        </p:blipFill>
        <p:spPr>
          <a:xfrm>
            <a:off x="895320" y="2530440"/>
            <a:ext cx="8034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1333440" y="1733400"/>
            <a:ext cx="64501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9" name="Picture 10" descr=""/>
          <p:cNvPicPr/>
          <p:nvPr/>
        </p:nvPicPr>
        <p:blipFill>
          <a:blip r:embed="rId1"/>
          <a:stretch/>
        </p:blipFill>
        <p:spPr>
          <a:xfrm>
            <a:off x="2335320" y="717480"/>
            <a:ext cx="41418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723960" y="963720"/>
            <a:ext cx="79628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879480" y="928800"/>
            <a:ext cx="79405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5" name="Picture 33" descr=""/>
          <p:cNvPicPr/>
          <p:nvPr/>
        </p:nvPicPr>
        <p:blipFill>
          <a:blip r:embed="rId1"/>
          <a:stretch/>
        </p:blipFill>
        <p:spPr>
          <a:xfrm>
            <a:off x="555480" y="1235160"/>
            <a:ext cx="826632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1"/>
          <a:stretch/>
        </p:blipFill>
        <p:spPr>
          <a:xfrm>
            <a:off x="873000" y="952560"/>
            <a:ext cx="7956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09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1519200" y="1398600"/>
            <a:ext cx="6027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936720" y="825480"/>
            <a:ext cx="6983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7.1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76440" y="835200"/>
            <a:ext cx="825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ent-Server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3080" y="1066320"/>
            <a:ext cx="8096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systems satisfy requests generated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ent systems, whose general structure is shown be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7" descr=""/>
          <p:cNvPicPr/>
          <p:nvPr/>
        </p:nvPicPr>
        <p:blipFill>
          <a:blip r:embed="rId1"/>
          <a:stretch/>
        </p:blipFill>
        <p:spPr>
          <a:xfrm>
            <a:off x="457200" y="2530440"/>
            <a:ext cx="8034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ent-Server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3400" y="1108080"/>
            <a:ext cx="818352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functionality can be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ck-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ccess structures, query evaluation and optimization, concurrency control and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nt-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sists of tools such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rt-wri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graphical user interface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face between the front-end and the back-end is through SQL or through an application program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1146240" y="3618000"/>
            <a:ext cx="64501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ent-Server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replacing mainframes with networks of workstations or personal computers connected to back-end server mach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unctionality for th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ility in locating resources and expanding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use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rver System Archite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systems can be broadly categorized into two ki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 ser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are widely used in relational database system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ser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d in object-oriented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erv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ery 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or SQ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send requests to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are executed at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are shipped back to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are specified in SQL, and communicated to the server through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mote procedure c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PC) mecha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al RPC allows many RPC calls to form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 Database Connecti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DBC) is a C language application program interface standard from Microsoft for connecting to a server, sending SQL requests, and receiving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 standard is similar to ODBC, for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8Z</dcterms:created>
  <dc:creator>S. Sudarshan</dc:creator>
  <dc:description/>
  <dc:language>en-US</dc:language>
  <cp:lastModifiedBy>as668</cp:lastModifiedBy>
  <cp:lastPrinted>2000-06-27T10:13:15Z</cp:lastPrinted>
  <dcterms:modified xsi:type="dcterms:W3CDTF">2010-02-10T14:54:05Z</dcterms:modified>
  <cp:revision>89</cp:revision>
  <dc:subject/>
  <dc:title>Database System Architectures</dc:title>
</cp:coreProperties>
</file>