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997700" cy="9283700"/>
  <p:custShowLst>
    <p:custShow name="Custom Show 1" id="0">
      <p:sldLst>
        <p:sld r:id="rId6"/>
        <p:sld r:id="rId33"/>
        <p:sld r:id="rId8"/>
        <p:sld r:id="rId32"/>
        <p:sld r:id="rId29"/>
        <p:sld r:id="rId15"/>
        <p:sld r:id="rId16"/>
        <p:sld r:id="rId7"/>
        <p:sld r:id="rId31"/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C2F279-6768-4D34-A16C-05D01F02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546AEC-8EEB-4FEC-90E3-E6A1AD3D7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8D20C1-F4D4-4DAF-A7C0-3A982A3F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90A2F1-A81E-437C-8617-F69F26AD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28E0A0-4844-4D86-A639-3B071BEE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BCBB1E-40C0-4F4C-99B4-178E16ED3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95AFAD-9A99-4459-A7FA-9022DE8A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04E0AC-C2A7-4116-80C6-71243BAE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71AFA7-71A8-4053-A349-D313520B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9DF357-FC4C-4780-924F-A07DD253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B19357-271E-4E9A-9AFC-418BEA0A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1E8B97-9064-41F5-A9DA-2CA95C205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82D28E-C348-4AAF-AD3C-8B82834C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128FCF-C23D-44CE-9CB5-6AD9895C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4B6747-9516-4E0A-9228-8AF3A818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33AB27-5006-4296-AAD1-567BE7E7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1B5398-88DD-435A-AEB1-2E4E91C86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D0BE63-489F-4590-BC80-DE2998B5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5AB93E-473F-4084-8094-C92CA9DD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B908FA-E72C-49FE-8E51-463710426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830186-76F1-45A7-A41A-0FCB22F5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BC9C2E-2FCF-4883-B848-11AD049A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8AC410-1A75-43AF-982C-1494C339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9D93CC-89D7-4262-87F7-CBE4B5C4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D8E056-A830-4A54-A277-A0A56DA15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D4E4DB-AD47-4EC6-A6F9-6EC1EE72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7179F5-E829-458A-9C6E-B750DB25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EBF690-8364-4468-8AE7-494CFB72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E951EE-9A32-4469-8772-52FEFB50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36650C-A503-4B1B-BAFC-3E4CE2AE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D9A1D0-2A0C-45F2-AFB3-21C4F28B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108103-7234-4696-A0E4-D88E99F9D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DE8546-3CA6-4DDE-A8A1-05556C79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7F54F2-225D-4C7B-A5B6-8269BE6E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EDA3-99E7-4E11-830D-CCC2C17E5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3D13-0833-4F42-8561-3080CE140A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110A-A9DB-42F3-87BA-37639C2A9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68CC-3CAC-4485-8C0C-39477E2618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699F-F55C-49AE-9742-08589313F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B1FA-6F31-4612-ACDD-CE1726B08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B201-C2AA-43C5-8C3E-FDC4BEE79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C20C-3AF7-4DA3-8D40-651DA32B6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E970-7000-492F-B990-8DFBA3D491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0D82-189A-4031-830B-5F99BAC3D1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C8D4-B6A4-4EF8-BC1E-44304BC0D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09CD-8CF7-4BC4-9BBE-F7C8FEED2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05F7DAE0-BFDF-4D7F-A82D-B94C5B4D58B9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0A8-6B95-405C-AD25-79F67A5EBD5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: Introduc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 (Chap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1"/>
          <p:cNvSpPr/>
          <p:nvPr/>
        </p:nvSpPr>
        <p:spPr>
          <a:xfrm flipH="1">
            <a:off x="6456240" y="1609560"/>
            <a:ext cx="8575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6858720" y="13222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>
            <a:off x="5572080" y="1638360"/>
            <a:ext cx="15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7" descr="1"/>
          <p:cNvPicPr/>
          <p:nvPr/>
        </p:nvPicPr>
        <p:blipFill>
          <a:blip r:embed="rId1"/>
          <a:srcRect l="0" t="0" r="0" b="43331"/>
          <a:stretch/>
        </p:blipFill>
        <p:spPr>
          <a:xfrm>
            <a:off x="1614600" y="2259000"/>
            <a:ext cx="5526000" cy="3745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8"/>
          <p:cNvSpPr/>
          <p:nvPr/>
        </p:nvSpPr>
        <p:spPr>
          <a:xfrm>
            <a:off x="7696440" y="2590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7167600" y="2765520"/>
            <a:ext cx="5270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0"/>
          <p:cNvSpPr/>
          <p:nvPr/>
        </p:nvSpPr>
        <p:spPr>
          <a:xfrm flipH="1">
            <a:off x="7180200" y="2841480"/>
            <a:ext cx="527040" cy="241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ample Relational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1" name="Picture 3" descr="1"/>
          <p:cNvPicPr/>
          <p:nvPr/>
        </p:nvPicPr>
        <p:blipFill>
          <a:blip r:embed="rId1"/>
          <a:stretch/>
        </p:blipFill>
        <p:spPr>
          <a:xfrm>
            <a:off x="2774880" y="1407960"/>
            <a:ext cx="41706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L also known as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al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and how to get thos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clarative (nonprocedural)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specifies what data is required without specifying how to get tho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s the most widely used 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4320" y="1103400"/>
            <a:ext cx="76615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ch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,2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L compiler generates a set of table templates stored in a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dat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ictionary contains metadata (i.e., data about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key (ID uniquely identifies instruct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raint in SQ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in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ple must appear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600" y="80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8240" y="1125000"/>
            <a:ext cx="84042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Q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idely used non-procedur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name of the instructor with ID 2222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2222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ID and building of instructors in the Physics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.dept_name = department.dept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.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‘Physics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e.g., ODBC/JDBC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s 3, 4 an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077480"/>
            <a:ext cx="796608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designing the general structure of the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Design –  Deciding on the database schema. Database design requires that we find a “good” collection of relation sch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decision – What attributes should we record in the data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cience decision –  What relation schemas should we have and how should the attributes be distributed among the various relation schem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sign – Deciding on the physical layout of the database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Design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problem with this desig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1224000" y="1719360"/>
            <a:ext cx="7023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sign Approach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 Theory (Chapter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what designs are bad, and test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Relationship Model (Chapter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n enterprise as a colle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: a “thing” or “object” in the enterprise that is distinguishable from othe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by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: an association among several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diagrammatically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y-relationship dia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n enterprise as a colle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: a “thing” or “object” in the enterprise that is distinguishable from othe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by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: an association among several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diagrammatically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tity-relationship dia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053440" y="532764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hat happened to dept_name of instructor and stud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1112760" y="3537000"/>
            <a:ext cx="74217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ject-Relational 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7160" y="11080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: flat, “atomic”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Relational 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he relational data model by including object orientation and constructs to deal with added da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ttributes of tuples to have complex types, including non-atomic values such as nested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relational foundations, in particular the declarative access to data, while extending modeling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upward compatibility with existing relational langu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688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8816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contains information about a particular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interrela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programs to access th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vironment that is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Appl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: 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retailers: order tracking, customized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can be very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XML:  Extensible Markup Langu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1077840"/>
            <a:ext cx="73170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by the WWW Consortium (W3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intended as a document markup language not a databas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to specify new tags, and to create nested tag structures made XML a great way to exchan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just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s become the basis for all new generation data interchange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de variety of tools is available for parsing, browsing and querying XML documents/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Manag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age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ogram module that provides the interface between the low-level data stored in the database and the application programs and queries submitted to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age manager is responsible to the following task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with the file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toring, retrieving and updat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 and h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14120" y="117360"/>
            <a:ext cx="6931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3960" y="1157400"/>
            <a:ext cx="654516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1465200" y="2390760"/>
            <a:ext cx="67737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2000" y="139680"/>
            <a:ext cx="66121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Process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1077840"/>
            <a:ext cx="79362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ways of evaluating a given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t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lgorithms for each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difference between a good and a bad way of evaluating a query can be enor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estimate the cost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critically on statistical information about relations which the database must mai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estimate statistics for intermediate results to compute cost of complex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Managemen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07784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the system fa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more than one user is concurrently updating the same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llection of operations that performs a single logical function in a databas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-management compo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s that the database remains in a consistent (correct) state despite system failures (e.g., power failures and operating system crashes) and transaction fail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cy-control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s the interaction among the concurrent transactions, to ensure the consistency of the database.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Users and Administrato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728880" y="4510080"/>
            <a:ext cx="17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1"/>
          <p:cNvPicPr/>
          <p:nvPr/>
        </p:nvPicPr>
        <p:blipFill>
          <a:blip r:embed="rId1"/>
          <a:stretch/>
        </p:blipFill>
        <p:spPr>
          <a:xfrm>
            <a:off x="1766880" y="1693800"/>
            <a:ext cx="59166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System Interna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388200" y="2544840"/>
            <a:ext cx="12319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527880" y="4145040"/>
            <a:ext cx="12319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6477120" y="5084640"/>
            <a:ext cx="123192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2746440" y="695160"/>
            <a:ext cx="4049640" cy="58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828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rchite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53920" y="1152360"/>
            <a:ext cx="760752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chitecture of a database systems is greatly influenc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derlying computer system on which the database is ru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(multi-proces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 of Database Syste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s and early 196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cessing using magnetic tapes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 provided only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ed cards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1960s and 197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isks allowed direct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nd hierarchical data models in widesprea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d Codd defines the relational da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win the ACM Turing Award for thi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Research begins System R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 Berkeley begins Ingres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performance (for the era)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relational prototypes evolve into commerci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becomes industri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and distribu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databa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ecision support and data-min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ulti-terabyte data 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Web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XQue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database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2000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ant data stora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BigTable, Yahoo PNuts, Amazon,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versity Database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students, instructors, and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tudents for courses, and generate class r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grades to students, compute grade point averages (GPA) and generate 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arly days, database applications were built directly on top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1"/>
          <p:cNvPicPr/>
          <p:nvPr/>
        </p:nvPicPr>
        <p:blipFill>
          <a:blip r:embed="rId1"/>
          <a:stretch/>
        </p:blipFill>
        <p:spPr>
          <a:xfrm>
            <a:off x="3035160" y="1155600"/>
            <a:ext cx="3241800" cy="4792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1"/>
          <p:cNvPicPr/>
          <p:nvPr/>
        </p:nvPicPr>
        <p:blipFill>
          <a:blip r:embed="rId1"/>
          <a:stretch/>
        </p:blipFill>
        <p:spPr>
          <a:xfrm>
            <a:off x="1789200" y="1940040"/>
            <a:ext cx="5564160" cy="2976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000"/>
            <a:ext cx="807732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1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1311120" y="1193760"/>
            <a:ext cx="7224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rawbacks of using file systems to store data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1077840"/>
            <a:ext cx="75805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dundancy and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ile formats, duplication of information in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access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rite a new program to carry out each new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olation — multiple fil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 (e.g., account balance &gt; 0) become “buried” in program code rather than being stated ex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add new constraints or change existing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rawbacks of using file systems to store data (Cont.)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0080" y="1069560"/>
            <a:ext cx="808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ity of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s may leave database in an inconsistent state with partial updates carried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ransfer of funds from one account to another should either complete or not happen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urrent access by multiple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urrent access needed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ontrolled concurrent accesses can lead to inconsis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wo people reading a balance (say 100) and updating it by withdrawing money (say 50 each) at the sam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to provide user access to some, but not all,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tabase systems offer solutions to all the abov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hysical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how a record (e.g., customer) is 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gical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cribes data stored in database, and the relationships among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88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lev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cation programs hide details of data types.  Views can also hide information (such as an employee’s salary) for security purpo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of Da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70400" y="117540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chitecture for a databas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1170000" y="1795320"/>
            <a:ext cx="7402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tances and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077480"/>
            <a:ext cx="810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m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the logical structure of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database consists of information about a set of customers and accounts and the relationship betwee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ype information of a variable in a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sche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atabase design at the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actual content of the database at a particular point in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ogous to the value of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hysical Data Independ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he ability to modify the physical schema without changing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the interfaces between the various levels and components should be well defined so that changes in some parts do not seriously influence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5360" y="1091880"/>
            <a:ext cx="7435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tools for descri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-Relationship data model (mainly for database desig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based data models (Object-oriented and Object-rel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structured data model  (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lder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udarshan</cp:lastModifiedBy>
  <cp:lastPrinted>2005-01-10T21:51:57Z</cp:lastPrinted>
  <dcterms:modified xsi:type="dcterms:W3CDTF">2011-07-21T07:49:49Z</dcterms:modified>
  <cp:revision>170</cp:revision>
  <dc:subject/>
  <dc:title>Chapter 1:  Introduction</dc:title>
</cp:coreProperties>
</file>