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6720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13ABB0A-84D1-42C9-8980-C9331CF35B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D39BDF0-5862-4944-A486-3B94CEA0A3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5"/>
          <p:cNvSpPr/>
          <p:nvPr/>
        </p:nvSpPr>
        <p:spPr>
          <a:xfrm>
            <a:off x="425628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e.</a:t>
            </a:r>
            <a:fld id="{A1944302-A7BA-4574-A1E7-F7DDEA9000EB}" type="slidenum">
              <a:rPr b="1" lang="en-US" sz="10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56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8916840" y="5445000"/>
            <a:ext cx="227160" cy="47880"/>
          </a:xfrm>
          <a:custGeom>
            <a:avLst/>
            <a:gdLst>
              <a:gd name="textAreaLeft" fmla="*/ 0 w 227160"/>
              <a:gd name="textAreaRight" fmla="*/ 227160 w 22716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Cover-6Ed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73024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ppendix E: Hierarchical Mod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any-To Many Relationship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rcRect l="1286" t="7897" r="1286" b="7897"/>
          <a:stretch/>
        </p:blipFill>
        <p:spPr>
          <a:xfrm>
            <a:off x="1106640" y="1112760"/>
            <a:ext cx="6794280" cy="44053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any-To-Many Relationship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wo tree-structure diagram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ith the roo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ith the roo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re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many-to-one link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re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-customer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many-to-one link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ample Databa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8617" t="958" r="8617" b="958"/>
          <a:stretch/>
        </p:blipFill>
        <p:spPr>
          <a:xfrm>
            <a:off x="1484280" y="1004760"/>
            <a:ext cx="5938920" cy="52786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General Relationship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ternary E-R diagram and corresponding tree-structure diagrams are shown on the following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rcRect l="2422" t="984" r="2684" b="984"/>
          <a:stretch/>
        </p:blipFill>
        <p:spPr>
          <a:xfrm>
            <a:off x="1527120" y="2041560"/>
            <a:ext cx="5546880" cy="42973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2600" y="-360"/>
            <a:ext cx="8076960" cy="8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ample Ternary Databases. (a) T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(b) T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rcRect l="14805" t="1256" r="14805" b="643"/>
          <a:stretch/>
        </p:blipFill>
        <p:spPr>
          <a:xfrm>
            <a:off x="2046240" y="1030320"/>
            <a:ext cx="5108760" cy="53388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veral Relationship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rrectly transform an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-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agram with several relationships, split the unrooted tree structure diagrams into several diagrams, each of which is a rooted tre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-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agram and transformation leading to  diagram that is not a rooted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veral Relationship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1024" t="14306" r="1769" b="14639"/>
          <a:stretch/>
        </p:blipFill>
        <p:spPr>
          <a:xfrm>
            <a:off x="625320" y="1100160"/>
            <a:ext cx="7182000" cy="39369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veral Relationship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sponding diagrams in the form of rooted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896" t="33066" r="1792" b="33390"/>
          <a:stretch/>
        </p:blipFill>
        <p:spPr>
          <a:xfrm>
            <a:off x="331920" y="2158920"/>
            <a:ext cx="8134200" cy="21034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veral Relationships (2nd Example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38040" y="5111640"/>
            <a:ext cx="7848720" cy="10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(b) contains a cy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e all three record types, and create two separate diagra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rcRect l="1230" t="19088" r="1230" b="20410"/>
          <a:stretch/>
        </p:blipFill>
        <p:spPr>
          <a:xfrm>
            <a:off x="1122480" y="1333440"/>
            <a:ext cx="6730920" cy="31323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veral Relationships (2nd Example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diagram is now a rooted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rcRect l="29394" t="2048" r="29640" b="2013"/>
          <a:stretch/>
        </p:blipFill>
        <p:spPr>
          <a:xfrm>
            <a:off x="3362400" y="1814400"/>
            <a:ext cx="2560680" cy="44974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asic Concept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ierarchical database consists of a collec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c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ich are connected to one another throug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cord is a collection of fields, each of which contains only one data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nk is an association between precisely two rec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erarchical model differs from the network model in that the records are organized as collections of trees rather than as arbitrary grap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Retrieval Fac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present querying of hierarchical databases via a simplified version of DL/I, the data-manipulation language of I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schema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-account-bra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ranch can have several customers, each of which can have several accou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ccount may belong to only one customer, and a customer can belong to only one bran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Schem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rcRect l="1421" t="15155" r="3225" b="16078"/>
          <a:stretch/>
        </p:blipFill>
        <p:spPr>
          <a:xfrm>
            <a:off x="2471760" y="866880"/>
            <a:ext cx="3941640" cy="21319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1424" t="11953" r="1119" b="12635"/>
          <a:stretch/>
        </p:blipFill>
        <p:spPr>
          <a:xfrm>
            <a:off x="1859040" y="3260880"/>
            <a:ext cx="5110200" cy="29653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ogram Work Are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uffer storage area that contains these varia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cy po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rticular program work area is associated with precisely one application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program work 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lates for three record types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, account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cy pointer to the most recently accessed record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, customer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status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get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Command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tems are retrieved through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es a record in the database and sets the currency pointer to point to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ies that record from the database to the appropriate program work-area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must specify which of the database trees is to be searc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of the program work area after execut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to locat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belonging to Free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urrency pointer points now to the record of Freem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formation pertaining to Freeman is copied in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ord work-area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B-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set to the value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get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Command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can all records in a consistent manner, we must impose an ordering on the rec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or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arch starts at the root, and then searches the subtrees of the root from left to right, recurs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s at the root, visits the leftmost child, visits its leftmost child, and so on, until a leaf (childless) node is reach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back to the parent of the leaf and visit the leftmost unvisited chi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ed in this manner until the entire three is visi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ordered listing of the records in the example database th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kview, Fleming, A-522, A-561, Freeman, A533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hore, Boyd, A-409, A-6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ccess Within A Database Tre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es the first record (in preorder), of type &lt;record type&gt; that satisfies the &lt;condition&gt;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use is optional &lt;condition&gt; is a predicate that involves either an ancestor of &lt;record type&gt; or the &lt;record type&gt; it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omitted, locate the first record of typ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record-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urrency pointer to that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its contents into the appropriate work-area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such record exists in the tree, then the search fails, and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B-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set to an appropriate error mess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78080"/>
                <a:tab algn="l" pos="189072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the address of customer Flem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378080"/>
                <a:tab algn="l" pos="189072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firs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ustom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.customer-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“Fleming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.customer-ad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78080"/>
                <a:tab algn="l" pos="189072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an account belonging to Fleming that has a balance greater than $10,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378080"/>
                <a:tab algn="l" pos="189072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firs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ustomer.customer-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“Fleming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.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10000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DB-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pri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.account-numb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ccess Within a Database Tre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784836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739960"/>
                <a:tab algn="l" pos="3252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nex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record typ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condi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739960"/>
                <a:tab algn="l" pos="3252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es the next record (in preorder) that satisf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ndition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739960"/>
                <a:tab algn="l" pos="3252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use is omitted, then the next record of typ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record type&gt; is loc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739960"/>
                <a:tab algn="l" pos="3252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urrency pointer is used by the system to determine where to resume the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739960"/>
                <a:tab algn="l" pos="3252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before, the currency pointer, the work-area template of type &lt;record-type&gt;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B-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aff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773360"/>
                <a:tab algn="l" pos="2168640"/>
                <a:tab algn="l" pos="2622600"/>
                <a:tab algn="l" pos="315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the account number of all the accounts that have a balance greater than $500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firs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ccount.bala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500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B-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.account-numb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nex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.bala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500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773360"/>
                <a:tab algn="l" pos="2168640"/>
                <a:tab algn="l" pos="2622600"/>
                <a:tab algn="l" pos="315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op retur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B-stat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, we exhausted all account records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.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5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ccess Within a Database Tre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773360"/>
                <a:tab algn="l" pos="2168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next within par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record typ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condi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773360"/>
                <a:tab algn="l" pos="2168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es only the specific subtree whose root is the most recent record that was located with eith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fir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n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773360"/>
                <a:tab algn="l" pos="2168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es the next record (in preorder) that satisfies &lt;condition&gt; in the subtree whose root is the parent of current of &lt;record type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773360"/>
                <a:tab algn="l" pos="2168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use is omitted, then the next record of type &lt;record type&gt; within the designated subtree to resume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773360"/>
                <a:tab algn="l" pos="2168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urrency pointer to determine where to resume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773360"/>
                <a:tab algn="l" pos="2168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B-stat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et to a nonzero value if no such record exists in the designated subtree (rather than if none exists in the entire tre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ee-Structure Diagra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chema for a hierarchical database consist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xe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ich correspond to recor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e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ich correspond to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types are organized in the form of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oted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ycles in the underlying 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s formed in the graph must be such that onl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to-many or one-to-one relationships exist between a parent and a chi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538280"/>
                <a:tab algn="l" pos="189072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the total balance of all accounts belonging to Boy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538280"/>
                <a:tab algn="l" pos="189072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= 0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ustomer.customer-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“Boyd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next within par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DB-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m = s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ccount.balance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next within par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su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538280"/>
                <a:tab algn="l" pos="189072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exit from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 and print out the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whe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B-stat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et to a value not equal to 0.  This value exists after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next within par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f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pdate Fac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mechanisms are available for updating information in the databas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and deletion of records (via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s)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cation (via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) of the content of existing rec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reation of New Record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798640"/>
                <a:tab algn="l" pos="3092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nsert &lt;record type&gt; into the database, first set the appropriate values in the corresponding &lt;record type&gt; work-area template.  Then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798640"/>
                <a:tab algn="l" pos="3092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record typ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ndi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798640"/>
                <a:tab algn="l" pos="3092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use is included, the system searches the database three (in preorder) for a record that satisfies the &lt;condition&gt;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798640"/>
                <a:tab algn="l" pos="3092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such a record — sa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 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found, the newly created record is inserted in the tree as the leftmost child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798640"/>
                <a:tab algn="l" pos="3092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omitted, the record is inserted in the first position (in preorder) in the tree where &lt;record type&gt; can be inserted in accordance with the specified sch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59696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new customer, Jackson, to the Seashore bran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59696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.customer-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 “Jackson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.customer-stre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= “Old Road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.customer-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= “Queens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ranch.branch-nam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“Seashore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59696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account numbered A-655 that belongs to customer “Jackson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59696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.account-number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 “A-655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.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= 100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.customer-nam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“Jackson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dification of an Existing Record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odify an existing record of type &lt;record type&gt;, we must get that record into the work-area template for &lt;record type&gt;, and change the desired fields in that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 the changes in the database by exec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es not have &lt;record type&gt; as an argument; the record that is affected is the one to which the currency pointer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L/I requires that, prior to a record being modified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mand must have the additional clau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o that the system is aware that a record is to be modif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538280"/>
                <a:tab algn="l" pos="2050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street address of Boyd to North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538280"/>
                <a:tab algn="l" pos="2050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old firs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ustomer.customer-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“Boyd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.customer-stre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 “Northview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a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538280"/>
                <a:tab algn="l" pos="2050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were more than one record containing Boyd’s address, the program would have included a loop to search all Boyd rec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letion of a Record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538280"/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lete a record of type &lt;record type&gt;, set the currency pointer to point to that record and execu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538280"/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record modification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mand must have the attribu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tached to it.  Example:  Delete account A-56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538280"/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old firs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ccount.account-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“A-561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538280"/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deletes not only the record in question, but also the entire subtree rooted by that record.  Thus, to delete customer Boyd and all his accounts, we 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538280"/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gold 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ustomer.customer-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“Boyd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rtual Record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any-to-many relationships, record replication is necessary to preserve the tree-structure organization of the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consistency may result when updating takes pl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te of space is unavoid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irtual rec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contains no data value, only a logical pointer to a particular physical rec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record is to be replicated in several database trees, a single copy of that record is kept in one of the trees and all other records are replaced with a virtual rec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a record type that is replicated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 . 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Create a new virtual record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irtual-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repla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each of the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trees with a record of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irtual-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rtual Record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661520" cy="24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 data replication in the diagram shown on page B.11;  cre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irtual-custom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irtual-ac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irtual-ac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first tree, and repla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irtual-custo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second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dashed line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irtual-custo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irtual-ac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pecify the association between a virtual record and its corresponding physical rec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rcRect l="1043" t="33972" r="1296" b="34274"/>
          <a:stretch/>
        </p:blipFill>
        <p:spPr>
          <a:xfrm>
            <a:off x="884160" y="3754440"/>
            <a:ext cx="7245360" cy="17668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ample Databa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rcRect l="5385" t="1212" r="4800" b="1212"/>
          <a:stretch/>
        </p:blipFill>
        <p:spPr>
          <a:xfrm>
            <a:off x="888840" y="919080"/>
            <a:ext cx="6332760" cy="51595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General Structur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14320" y="4848120"/>
            <a:ext cx="7661520" cy="8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r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n arrow pointing to a child, but a chil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n arrow pointing to its pa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rcRect l="1335" t="21823" r="1335" b="22146"/>
          <a:stretch/>
        </p:blipFill>
        <p:spPr>
          <a:xfrm>
            <a:off x="1282680" y="1393920"/>
            <a:ext cx="6364440" cy="27478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apping Hierarchies to Fi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s of hierarchical databases do not us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-to-child pointers, since these would require the use of variable-length record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ftmost-chi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xt-sibl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s which allow each record to contain exactly two poin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ftmost-child pointer points to one chi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xt-sibling pointer points to another child of the same pa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apping Hierarchies to Fil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with parent-child pointers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with leftmost child and next-sibling poin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rcRect l="797" t="31566" r="797" b="32156"/>
          <a:stretch/>
        </p:blipFill>
        <p:spPr>
          <a:xfrm>
            <a:off x="1027080" y="1784520"/>
            <a:ext cx="6621480" cy="18316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181" name="Picture 5" descr=""/>
          <p:cNvPicPr/>
          <p:nvPr/>
        </p:nvPicPr>
        <p:blipFill>
          <a:blip r:embed="rId2"/>
          <a:srcRect l="952" t="32253" r="256" b="31907"/>
          <a:stretch/>
        </p:blipFill>
        <p:spPr>
          <a:xfrm>
            <a:off x="801720" y="4460760"/>
            <a:ext cx="6970680" cy="18972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apping Hierarchies to Fil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eneral, the final child of a parent has no next sibling; rather than setting the next-sibling filed to null, place a pointer (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order th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that points to the next record in pre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preorder threads allows us to process a tree instance in preorder simply by following poin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rcRect l="873" t="31907" r="873" b="31911"/>
          <a:stretch/>
        </p:blipFill>
        <p:spPr>
          <a:xfrm>
            <a:off x="374760" y="3168720"/>
            <a:ext cx="7885080" cy="21780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apping Hierarchies to Fil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add a third child-to-parent pointer which facilitates the processing of queries that give a value for a child record and request a value from the corresponding parent rec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rent-child relationship within a hierarchy is analogous to the owner-member relationship within a DBTG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one-to-many relationship is being represe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together the members and the owners of a set occurr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physically close on disk the child records and their pa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storage allows a sequence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first, get next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next within par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s to e executed with a minimal number of block ac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IMS Database Syste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Information Management System — first developed in the late 1960s; historically among the largest datab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 queries through embedded calls which are part of the IMS database language DL/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database designer a broad number of options in the data-definition langu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er defines a physically hierarchy as the database sch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define several subschemas (or view) by constructing a logical hierarchy from the record types constituting the sch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 such as block sizes, special pointer fields, and so on, allow the database administrator to tune th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cord Access Schem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archical sequential-access method (HSAM) — used for physically sequential files (such as tape files).  Records are stored physically in pre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archical indexed-sequential-access method (HISAM) — an index-sequential organization at the root level of the hierar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archical indexed-direct-access method (HIDAM) — index organization at the root level with pointers to child rec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archical direct-access method (HDAM) — similar to HIDAM, but with hashed access at the root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MS Concurrency Contr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versions handled concurrency control by permitting only one update application program to run at a time.  Read-only applications could run concurrent with upd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 versions included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gram-isolation 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ed for improved concurrency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ed more sophisticated transaction-recovery techniques (such as logging); important to online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ed for high-performance transaction processing led to the introduction of IM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st P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MS Fast Path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an alternative physical data organization that allows the most active parts of the database to reside in main mem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 of updates to disk being forced at the end of a transaction, update is deferred until a checkpoint or synchronization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event of a crash, the recovery subsystem must redo all committed transactions whose updates were not forced to di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extremely high rates of transaction through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runner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in-memory database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ample Databa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rcRect l="568" t="34287" r="1103" b="33338"/>
          <a:stretch/>
        </p:blipFill>
        <p:spPr>
          <a:xfrm>
            <a:off x="912960" y="1657440"/>
            <a:ext cx="7385040" cy="18241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96520" y="36648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ample Database Corresponding to Diagram of Figure B.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732" t="34055" r="1437" b="34090"/>
          <a:stretch/>
        </p:blipFill>
        <p:spPr>
          <a:xfrm>
            <a:off x="434880" y="2130480"/>
            <a:ext cx="7812360" cy="19080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ee-Structure Diagram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schema is represented as a collection of tree-structure di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ance of a databa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ot of this tree is a dummy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ildren of that node are actual instances of the appropriate record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ransforming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-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agrams to corresponding tree-structure diagrams, we must ensure that the resulting diagrams are in the form of rooted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52600" y="45396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ample Database Corresponding To Diagram of Figure B.8b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rcRect l="850" t="28018" r="1670" b="28420"/>
          <a:stretch/>
        </p:blipFill>
        <p:spPr>
          <a:xfrm>
            <a:off x="1036800" y="1913040"/>
            <a:ext cx="7005600" cy="23479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22360" y="2775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ee-Structure Diagram With </a:t>
            </a: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any-To-Many Relationship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rcRect l="751" t="23336" r="1811" b="23673"/>
          <a:stretch/>
        </p:blipFill>
        <p:spPr>
          <a:xfrm>
            <a:off x="696960" y="1536840"/>
            <a:ext cx="7219800" cy="29448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11280" y="4107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3300"/>
                </a:solidFill>
                <a:latin typeface="Arial"/>
              </a:rPr>
              <a:t>E-R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Diagram and Its Corresponding Tree-Structure Diagra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rcRect l="13351" t="796" r="13355" b="1549"/>
          <a:stretch/>
        </p:blipFill>
        <p:spPr>
          <a:xfrm>
            <a:off x="1835280" y="1157400"/>
            <a:ext cx="5081400" cy="50781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6040" y="32220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ample Database Corresponding To Diagram of Figure B.12b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rcRect l="19530" t="888" r="19766" b="1173"/>
          <a:stretch/>
        </p:blipFill>
        <p:spPr>
          <a:xfrm>
            <a:off x="2362320" y="1023840"/>
            <a:ext cx="4406760" cy="53326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ew Database Tre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rcRect l="1004" t="13724" r="1004" b="13724"/>
          <a:stretch/>
        </p:blipFill>
        <p:spPr>
          <a:xfrm>
            <a:off x="1150920" y="1150920"/>
            <a:ext cx="6727680" cy="37371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ew Database Tre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rcRect l="683" t="13221" r="1119" b="13186"/>
          <a:stretch/>
        </p:blipFill>
        <p:spPr>
          <a:xfrm>
            <a:off x="932040" y="1231920"/>
            <a:ext cx="7051320" cy="39639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ass-enrollment E-R Diagra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rcRect l="1450" t="30713" r="1168" b="30669"/>
          <a:stretch/>
        </p:blipFill>
        <p:spPr>
          <a:xfrm>
            <a:off x="757080" y="1925640"/>
            <a:ext cx="7707600" cy="22924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arent–Child E-R Diagra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rcRect l="899" t="25996" r="1142" b="25673"/>
          <a:stretch/>
        </p:blipFill>
        <p:spPr>
          <a:xfrm>
            <a:off x="741240" y="1892160"/>
            <a:ext cx="7078680" cy="26193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ar-insurance E-R Diagra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rcRect l="666" t="34869" r="883" b="35473"/>
          <a:stretch/>
        </p:blipFill>
        <p:spPr>
          <a:xfrm>
            <a:off x="785880" y="1692360"/>
            <a:ext cx="7670880" cy="17334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ngle Relationship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rcRect l="751" t="10596" r="1234" b="10561"/>
          <a:stretch/>
        </p:blipFill>
        <p:spPr>
          <a:xfrm>
            <a:off x="1122480" y="1231920"/>
            <a:ext cx="6500520" cy="39225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ngle relationship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E-R diagram with two entity set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d through a binary, one-to-many relationshi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sponding tree-structure diagram h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cord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three fields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-name, customer-street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-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cord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wo fields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-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n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an arrow pointing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ngle Relationship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relationshi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one to one, then the lin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two arrows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ne-to-many and one-to-one relationships can be directly represented in the hierarchical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853" t="31128" r="853" b="31535"/>
          <a:stretch/>
        </p:blipFill>
        <p:spPr>
          <a:xfrm>
            <a:off x="1211400" y="2303640"/>
            <a:ext cx="6456240" cy="18396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ransforming Many-To-Many Relationship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consider the type of queries expected and the degree to which the database schema fits the given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-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agram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l versions of this transformation, the underlying database tree (or trees) will have replicated rec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1T14:28:57Z</dcterms:created>
  <dc:creator>Marilyn Turnamian</dc:creator>
  <dc:description/>
  <dc:language>en-US</dc:language>
  <cp:lastModifiedBy>Silberschatz, Avi</cp:lastModifiedBy>
  <cp:lastPrinted>2001-08-24T17:41:21Z</cp:lastPrinted>
  <dcterms:modified xsi:type="dcterms:W3CDTF">2012-04-04T15:21:02Z</dcterms:modified>
  <cp:revision>86</cp:revision>
  <dc:subject/>
  <dc:title>Chapter A:  Network Model</dc:title>
</cp:coreProperties>
</file>