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97700" cy="9283700"/>
  <p:custShowLst>
    <p:custShow name="Custom Show 1" id="0">
      <p:sldLst>
        <p:sld r:id="rId7"/>
        <p:sld r:id="rId28"/>
        <p:sld r:id="rId10"/>
        <p:sld r:id="rId13"/>
        <p:sld r:id="rId33"/>
        <p:sld r:id="rId14"/>
        <p:sld r:id="rId46"/>
        <p:sld r:id="rId30"/>
        <p:sld r:id="rId30"/>
        <p:sld r:id="rId35"/>
        <p:sld r:id="rId45"/>
        <p:sld r:id="rId18"/>
        <p:sld r:id="rId49"/>
        <p:sld r:id="rId50"/>
        <p:sld r:id="rId37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969D79-5E0F-481C-9F86-52221899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681741-A0A9-43BE-82F9-91DB8803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580382-77D4-4413-92C0-84E85245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613F62-904A-4610-94FF-10F6FD45F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52DE55-B31A-431C-AC81-019C00A8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018BA9-9ECE-4EC9-B393-31565A5A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478477-F726-494A-9878-CB0F208F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97084A-3D8A-4E98-8911-BECA0B59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3E0A83-DC78-422C-BAAD-FFFD7CFD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F7511C-4A8B-4CA9-8976-324C38F4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79985B-FB16-436D-AF90-C9034CDB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486797-AFF2-4CAD-9579-08338B0D6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A95729-B892-4A88-9876-0B13A587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912021-AEE6-4071-97E5-C9C8B131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05475E-82CC-47E3-9022-D131A5CD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64A870-D49A-4C9A-A884-8771363F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A51C29-EED2-4002-BC65-7C60AF4C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80C4EB-31E8-49DB-ACFA-1B81BEAC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69A931-0F42-442F-8EBE-4DEEEFB4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26F3BF-0883-4F00-A46A-37BA9DD0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C20A5A-B166-4FCC-8886-45B0BA2C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DA0408-683C-42F5-8862-A013548D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BA5F7B-F2AD-450A-9C91-C959ABA5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08D9D0-0368-43D2-AD67-A9BEF4A4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0AA7FB-AD19-48DE-9F82-C9CDBE44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DF61A8-745F-48C9-A5E5-A853DA9E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37A0D1-F88F-4A10-B5D2-2A12814D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7155D-CDE3-4239-BE77-C833AE7F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0964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59E2FD-8AC9-4CA9-B735-1D6A40C5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CEEF95-D9E6-4FEE-A990-FE25B817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D279A2-6C24-431C-8575-9F26B82D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0E50AD-62D5-43AE-955D-630AC553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2E2E1A-5080-40DE-B1A6-C074BF24B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229A3E-D3AC-4858-AA92-E39E74FF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F07724-4FEC-48CB-BF25-53609991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930324-4BC0-49AB-A302-2EE95F7F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1BACFC-4640-4951-93AA-AA65B049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055307-DDA6-4A84-AF79-F6EA564C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0F0055-E4BD-4161-8E7D-4C52A112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6E8018-7356-4ED9-8626-134FE177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5EFE69-64A7-4F70-82CB-889409906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178D-6B65-4234-8DDC-22D16BDF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F828-2642-4D76-B321-A5B6138B9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F94B-58B0-402E-BED0-93E58C416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0B37-5BCA-4063-A8ED-45699F25C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3EB-288B-4065-8E5B-6EF7936512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834-FE7D-4D07-8FD1-D4700F4ADF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A75-E8B5-4581-B7A5-42946BC7B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2FE-76B1-4E47-972D-D154A73CF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188-014E-41E5-A5D7-DE719F24D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479-AEFB-45A3-BBBA-E4B09777E2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EB6-B2A8-47C4-8B33-028D46676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0F42-C930-4A11-8BBE-B12855B4D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E8C-4211-4562-84CA-5AD567503D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7AC-B7A2-4DB9-9A85-62432CE71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E6C-42AA-4360-9512-61A3568C7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229-2F09-4F77-A2A8-B4C5E49A31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A23-5754-43F4-AEB8-DF2E29EDC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F80E-6281-489C-B140-247710A26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7422-D470-47B3-B8D8-393FDB6EC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9165-43AA-4A0F-B384-CE198F9F0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B24C-DBA9-4B6C-A1BF-0BD7E98F7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AFD6-C8C3-4953-A0D0-9B7CB4E0C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ADF5-376A-439B-B79B-001B5D191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7CF5-895F-43E6-A915-C6741D8A6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214-D439-4038-8B49-0F9E9264043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4.</a:t>
            </a:r>
            <a:fld id="{A700B800-1A91-4D36-B525-BC42B2D3C39D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B9B-D2E1-4BCC-8E26-A1C49447EA8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Intermediate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836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720" y="1098360"/>
            <a:ext cx="661968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.course_id = prereq.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57080" y="3300480"/>
            <a:ext cx="791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difference between the above, and a natural jo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outer jo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.course_id = prereq.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407960" y="2065320"/>
            <a:ext cx="6464520" cy="100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1414440" y="4610160"/>
            <a:ext cx="6589800" cy="1266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rcRect l="52248" t="4599" r="6106" b="71744"/>
          <a:stretch/>
        </p:blipFill>
        <p:spPr>
          <a:xfrm>
            <a:off x="5864400" y="2127240"/>
            <a:ext cx="985680" cy="299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rcRect l="52248" t="4599" r="6106" b="71744"/>
          <a:stretch/>
        </p:blipFill>
        <p:spPr>
          <a:xfrm>
            <a:off x="5985000" y="4662360"/>
            <a:ext cx="98568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43040" y="1047600"/>
            <a:ext cx="6800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atural right out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717560" y="1776240"/>
            <a:ext cx="6257880" cy="1416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905040" y="4464000"/>
            <a:ext cx="33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90560" y="3363840"/>
            <a:ext cx="66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er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657440" y="4059360"/>
            <a:ext cx="5859360" cy="152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rcRect l="52248" t="4599" r="6106" b="71744"/>
          <a:stretch/>
        </p:blipFill>
        <p:spPr>
          <a:xfrm>
            <a:off x="6867360" y="1870200"/>
            <a:ext cx="986040" cy="29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rcRect l="52248" t="4599" r="6106" b="71744"/>
          <a:stretch/>
        </p:blipFill>
        <p:spPr>
          <a:xfrm>
            <a:off x="6437160" y="4129200"/>
            <a:ext cx="98604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477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ases, it is not desirable for all users to see the entire logical model (that is, all the actual relations stored in the databas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person who needs to know an instructors name and department, but not the salary.  This person should see a relation described, in SQL, b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s a mechanism to hide certain data from the view of certain us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relation that is not of the conceptual model but is made visible to a user as a “virtual relation” is called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763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is defined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which has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876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expression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&lt;query expression&gt; is any legal SQL expression.  The view name is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view is defined, the view name can be used to refer to the virtual relation that the view gene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efinition is not the same as creating a new relation by evaluating the query ex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, a view definition causes the saving of an expression; the expression is substituted into queries using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2520" y="1106640"/>
            <a:ext cx="82501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of instructors without their salary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instructors in the Biology 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Biolog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ew of department salary tot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s_total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al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060560" y="523224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 Defined Using Other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hysics_fall_2009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Physics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2009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_fall_2009_wat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physics_fall_2009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Watson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Expan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use of a view in a query/anoth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477800" y="1704960"/>
            <a:ext cx="719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_fall_2009_wats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Physic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2009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Watson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 Defined Using Other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136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view may be used in the expression defining another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13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pend direct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in the expression def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13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pend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ith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directly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there is a path of dependencies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recur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depends on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Expan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559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to define the meaning of views defined in terms of other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defined by an express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ay itself contain uses of view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expansion of an expression repeats the following replacement st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13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ny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the view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expression def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more view relations are presen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long as the view definitions are not recursive, this loop will ter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of a 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51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hich we defi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30765’, ’Green’, ’Music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sertion must be represented by the insertion of the tu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30765’, ’Green’, ’Music’,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4:  Intermediate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280" y="1104840"/>
            <a:ext cx="741348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Data Types and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ome Updates cannot be Translated Uniquely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3960" y="969480"/>
            <a:ext cx="784548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_inf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_inf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69987’, ’White’, ’Tayl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epartment, if multiple departments in Tay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no department is in Tay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QL implementations allow updates only on simple 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has only one database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contains only attribute names of the relation, and does not have any expressions, aggregates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attribute not list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can be set to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 does not hav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Some Not at Al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tory_instruc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History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we 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25566’, ’Brown’, ’Biology’, 100000)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tory_instruc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ed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terializing a 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reate a physical table containing all the tuples in the result of the query defining the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lations used in the query are updated, the materialized view result becomes out of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view, by updating the view whenever the underlying relations are upd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89804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fully executed or rolled back as if it never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from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begin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efault on most databases: each SQL statement commits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urn off auto commit for a session (e.g. using A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:1999, can us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upported on most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66312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guard against accidental damage to the database, by ensuring that authorized changes to the database do not result in a loss of data consis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cking account must have a balance greater than $10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ary of a bank employee must be at least $4.00 an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stomer must have a (non-null) pho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8360" y="10944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grity Constraints on a Single Re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1177560"/>
            <a:ext cx="75740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where P is a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t Null and Unique Constraint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9488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,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que specification states that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 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a candidat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keys are permitted to be null (in contrast to primary key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check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4040" y="1098360"/>
            <a:ext cx="638496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P is a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71440" y="2152800"/>
            <a:ext cx="705672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ensure that semester is one of fall, winter, spring or sum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,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om_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slot 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e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Fall’, ’Winter’, ’Spring’, ’Summer’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ferential Integ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521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that a value that appears in one relation for a given set of attributes also appears for a certain set of attributes in anoth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If “Biology” is a department name appearing in one of the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, then there exists a tuple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for “Biolog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A be a set of attributes.  Let R and S be two relations that contain attributes A and where A is the primary key of S. A is said to be a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eign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R if for any values of A appearing in R these values also appear in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853884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scading Actions in Referential Integrity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5549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(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cours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on update casc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. .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ctions to cascad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800" y="1177560"/>
            <a:ext cx="71532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op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 two relations and return as a result anoth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in operation is a Cartesian product which requires that tuples in the two relations match (under some condition).  It also specifies the attributes that are present in the result of the 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oin operations are typically used as subquery expression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8360" y="3459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grity Constraint Violation During Transa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358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D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nsert a tuple without causing constraint viol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father and mother of a person before inserting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set father and mother to null initially, update after inserting all persons (not 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 and mother attributes decl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efer constra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Check Clau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_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 use a foreign key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ection has at least one instructor teaching the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write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nfortunately:  subquery in check clause not supported by pretty much any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: triggers 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s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ssertion-name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edicat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lso not supported by an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7160" y="163080"/>
            <a:ext cx="726444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uilt-in Data Types in SQL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8920" y="890280"/>
            <a:ext cx="78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tes, containing a (4 digit) year, month an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2005-7-27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of day, in hours, minutes an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09:00:30’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te plus time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‘2005-7-27 09:00:30.7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va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 interval  ‘1’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ing a date/time/timestamp value from another gives an interv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 values can be added to date/time/timestamp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Cre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,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ID_ind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are data structures used to speed up access to records with specified values for index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*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D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1234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executed by using the index to find the required record, without looking at all record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on indices in Chapte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r-Defined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41320" y="1135080"/>
            <a:ext cx="76010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te typ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in SQL creates user-define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lla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numeric (12,2) fina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4624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Doll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te 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 in SQL-92 creates user-defined domai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dom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nd domains are similar.  Domains can have constraints, such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ecified o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dom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_lev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gree_level_te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Bachelors’, ’Masters’, ’Doctorate’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rge-Object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objects (photos, videos, CAD files, etc.) are stored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rge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l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inary large object -- object is a large collection of uninterpreted binary data (whose interpretation is left to an application outside of the databas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aracter large object -- object is a large collection of charac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query returns a large object, a pointer is returned rather than the large object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0960" y="113472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of authorization on parts of 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ad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reading, but not modifica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insertion of new data, but not modification of existin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pda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modification, but not dele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dele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of authorization to modify the databas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dex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creation and deletion of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sources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creation of new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teratio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addition or deletion of attributes in a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rop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ows deletion of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 Specific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used to confer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privilege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user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ser list&gt;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ser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llows all valid users the privilege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le (more on thi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ing a privilege on a view does not imply granting any privileges on the underlying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ntor of the privilege must already hold the privilege on the specified item (or be the database administr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vileg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1320" y="1134720"/>
            <a:ext cx="72900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s read access to relation,or the ability to query using th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grant us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thorization on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bility to insert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bility  to update using the SQL updat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bility to delete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ivile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d as a short form for all the allowable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s –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686124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98480" y="3174840"/>
            <a:ext cx="7029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52480" y="5396040"/>
            <a:ext cx="8291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issing for CS-315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issing  for  CS-4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940040" y="1739880"/>
            <a:ext cx="4329000" cy="1198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2732040" y="3745080"/>
            <a:ext cx="259884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voking Authoriza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40960" y="113508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vo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used to revoke autho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vilege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lation name or view name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ser li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ivilege-list&gt; may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voke all privileges the revokee may 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revokee-list&gt; inclu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users lose the privilege except those granted it explici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ame privilege was granted twice to the same user by different grantees, the user may retain the privilege after the re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ivileges that depend on the privilege being revoked are also revo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o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leges can be granted to ro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s can be granted to users, as well as to oth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herits all privileg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 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osh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horization on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Ge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o_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a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sta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b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_sta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have permission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or of view did not have some permission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Authorization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lege to create 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refer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of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an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, Satosh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 selec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t, Satosh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  read Section 4.6 for more details we have omitted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9" name="Picture 3" descr="4"/>
          <p:cNvPicPr/>
          <p:nvPr/>
        </p:nvPicPr>
        <p:blipFill>
          <a:blip r:embed="rId1"/>
          <a:stretch/>
        </p:blipFill>
        <p:spPr>
          <a:xfrm>
            <a:off x="2703600" y="1839960"/>
            <a:ext cx="3735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1" name="Picture 3" descr="4"/>
          <p:cNvPicPr/>
          <p:nvPr/>
        </p:nvPicPr>
        <p:blipFill>
          <a:blip r:embed="rId1"/>
          <a:stretch/>
        </p:blipFill>
        <p:spPr>
          <a:xfrm>
            <a:off x="2168640" y="882720"/>
            <a:ext cx="48052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3" name="Picture 3" descr="4"/>
          <p:cNvPicPr/>
          <p:nvPr/>
        </p:nvPicPr>
        <p:blipFill>
          <a:blip r:embed="rId1"/>
          <a:stretch/>
        </p:blipFill>
        <p:spPr>
          <a:xfrm>
            <a:off x="1368360" y="853920"/>
            <a:ext cx="64054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5" name="Picture 3" descr="4"/>
          <p:cNvPicPr/>
          <p:nvPr/>
        </p:nvPicPr>
        <p:blipFill>
          <a:blip r:embed="rId1"/>
          <a:stretch/>
        </p:blipFill>
        <p:spPr>
          <a:xfrm>
            <a:off x="1368360" y="747720"/>
            <a:ext cx="6405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7" name="Picture 3" descr="4"/>
          <p:cNvPicPr/>
          <p:nvPr/>
        </p:nvPicPr>
        <p:blipFill>
          <a:blip r:embed="rId1"/>
          <a:stretch/>
        </p:blipFill>
        <p:spPr>
          <a:xfrm>
            <a:off x="1285920" y="747720"/>
            <a:ext cx="6570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48840"/>
            <a:ext cx="73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ension of the join operation that avoids loss of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s the join and then adds tuples form one relation that does not match tuples in the other relation to the result of the jo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54400" y="868320"/>
            <a:ext cx="2830320" cy="5504040"/>
            <a:chOff x="3254400" y="868320"/>
            <a:chExt cx="2830320" cy="5504040"/>
          </a:xfrm>
        </p:grpSpPr>
        <p:pic>
          <p:nvPicPr>
            <p:cNvPr id="220" name="Picture 3" descr="4"/>
            <p:cNvPicPr/>
            <p:nvPr/>
          </p:nvPicPr>
          <p:blipFill>
            <a:blip r:embed="rId1"/>
            <a:stretch/>
          </p:blipFill>
          <p:spPr>
            <a:xfrm>
              <a:off x="3254400" y="868320"/>
              <a:ext cx="2830320" cy="55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491000" y="5854680"/>
              <a:ext cx="5414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ay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087560" y="1357200"/>
            <a:ext cx="73659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4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2011320" y="984240"/>
            <a:ext cx="5156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ft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58800" y="1312920"/>
            <a:ext cx="55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natural left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25480" y="2112840"/>
            <a:ext cx="5956560" cy="1347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6573960" y="2173320"/>
            <a:ext cx="98568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ight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01720" y="1287360"/>
            <a:ext cx="53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tural right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308240" y="2311560"/>
            <a:ext cx="6257880" cy="141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6413400" y="2379600"/>
            <a:ext cx="10828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op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 two relations and return as a result anoth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dditional operations are typically used as subquery expression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fines which tuples in the two relations match, and what attributes are present in the result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in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fines how tuples in each relation that do not match any tuple in the other relation (based on the join condition) are t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377" t="32008" r="377" b="31506"/>
          <a:stretch/>
        </p:blipFill>
        <p:spPr>
          <a:xfrm>
            <a:off x="1122480" y="4421160"/>
            <a:ext cx="70848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ll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2480" y="1325520"/>
            <a:ext cx="48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atural full outer jo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471680" y="2158920"/>
            <a:ext cx="5859360" cy="15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52248" t="4599" r="6106" b="71744"/>
          <a:stretch/>
        </p:blipFill>
        <p:spPr>
          <a:xfrm>
            <a:off x="6222960" y="2193840"/>
            <a:ext cx="10666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darshan</cp:lastModifiedBy>
  <cp:lastPrinted>2005-01-10T21:51:57Z</cp:lastPrinted>
  <dcterms:modified xsi:type="dcterms:W3CDTF">2011-07-11T12:31:16Z</dcterms:modified>
  <cp:revision>226</cp:revision>
  <dc:subject/>
  <dc:title>Chapter 1:  Introduction</dc:title>
</cp:coreProperties>
</file>