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5961-52CE-4B1A-A1AA-E05C87825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3C0D-F77C-41FE-BDDB-15435A065C9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53391-9DAA-402F-A2F8-B41B6B20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D59E-6E15-4EC7-9A31-750405642CB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9671C-4292-4FE9-B78D-D358B4E7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4D64B-87B9-4398-944A-6E066EF4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17A61-711A-459B-B7CA-471CBCBD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A408D-FD5E-473B-98E3-F22611AB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27197-F5BB-443D-9061-F68F4209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3F0CB-D39E-47FE-8185-08F2B886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9560A-CF18-4FF6-834F-546E654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74F36-D270-4BFC-BC0C-9D04B84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F623E-916A-4E5D-BE59-05E3F964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51863-A3A5-4D1A-AE1B-C76C14A1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69F5-A0EC-478F-B376-7666954541A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A59DB-003A-4B23-9640-6C5A0F67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302EC-BC09-41F6-80F5-744A3658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12339-77E2-4C1F-A625-30286B56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A34F-543C-454B-AA66-332A3194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9DE2-07E1-431D-88FB-615C2DA5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9D5F-9E55-4975-A8BB-40074C00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9D4A-F7A5-4F7B-B521-01E3D63E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DAAE-B1BD-44F7-B3CD-D4C649D8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2144E-9EB4-4799-9ACF-DB139D99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09E3-5CA0-4105-AEA6-60AD29C8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6FE47-0E54-414F-9E40-288DF4A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669B-B3F0-4DBD-B4DB-2D3C16F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406E-39D2-4392-953F-2517EA60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9426A-AFA6-45BD-AEC9-1E683DF7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C50B-4267-48FF-B28E-7AB754B3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20E66-F283-4D02-88BF-BD3CD6DC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77901-E388-49F6-95D8-7659A063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9BAEC-05DE-4E50-BBD0-F06CFF9F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AA0EA-416F-4CDE-BD6E-FD4B9B09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D4A31-F0DF-4ADB-AC3D-548C2678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E557-79A0-423F-BF86-93F7BADAC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0632C-8666-44C3-B4D8-1BF99336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8D53A-257E-41E6-8373-DE0EC80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610E6-422E-43D1-BC7D-1504B12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89037-D862-45E3-AA95-C2B52CC7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1DD7E-8C37-48A2-9323-D75A8B22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C868-7717-4EE4-870A-A10535D38D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12466-45C1-4E7B-95A8-C6FADD4B3A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51A59-C923-45C6-98D1-0F93B6382E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65CFF-111A-42FE-A949-28456F18A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1D06-901D-4CEA-9CA7-1BAF25E638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A2389-674A-423F-8B77-940A1B16B5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00604-B384-436B-84A9-CFF3065AB1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29D93-6D1A-44D3-A01E-0DE0B8CD4C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137EB-B0E7-49C8-9484-F56ED43AA4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534A7-7BAC-42E3-96EF-7DF3ADCF07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88A74-D0BB-4475-B077-BFAA6B60A1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D83F7-190C-4A32-8062-58BB371C4D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B10FF-94C2-49E4-845D-47DF787112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94B30-1B7E-4576-8C62-6CE9B8C6F3D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0539-0601-45AB-ABB1-0323F01F16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F8A4-EE51-4355-A137-E88C922CE69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7765-FBA3-496F-A3DF-E9385574FA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877A-0B63-4227-BE26-06E428DBAF4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46E6-2D7E-41F5-9AA0-6331BF21D5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8EE4-53E6-40D2-B804-E332CF746B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EB24-1A49-4D74-A9FA-DC250B085C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A8C9-BC9F-4EF8-9554-880C9D67D3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3944-B723-4F8E-8147-31066CE66C1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5A14-D9F1-4AB6-BF9D-2E864FCA6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9F64-EAF8-493C-B6DD-777EBE7C70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B64E-6FDD-4504-A628-DCB500E116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6FD4-0B98-40FE-80BA-5DBD069FA3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1462-30CF-4D07-9FD5-381DA470E6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1DFA-3885-4FA1-A677-734B7D8D58E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3853-5274-4088-B480-9F77AF5B844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5BFD-1EDC-49E1-B8A4-1FC60695163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71280" y="6480"/>
            <a:ext cx="835848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42920" y="3950640"/>
            <a:ext cx="885816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1800" y="9284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4292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1800" y="3950640"/>
            <a:ext cx="43225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3776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32600" y="9284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4292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3776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32600" y="3950640"/>
            <a:ext cx="2851920" cy="27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571680"/>
            <a:ext cx="914400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642960"/>
            <a:ext cx="53352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642960"/>
            <a:ext cx="855360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642960"/>
            <a:ext cx="533520" cy="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B Lotus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C4F2-66B3-418A-A82B-E19F16C6C66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B Lotu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" descr="AZAD_ARM"/>
          <p:cNvPicPr/>
          <p:nvPr/>
        </p:nvPicPr>
        <p:blipFill>
          <a:blip r:embed="rId2"/>
          <a:stretch/>
        </p:blipFill>
        <p:spPr>
          <a:xfrm>
            <a:off x="8501040" y="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392" name="Picture 34" descr="Arm.jpg"/>
          <p:cNvPicPr/>
          <p:nvPr/>
        </p:nvPicPr>
        <p:blipFill>
          <a:blip r:embed="rId3"/>
          <a:stretch/>
        </p:blipFill>
        <p:spPr>
          <a:xfrm>
            <a:off x="395280" y="1052640"/>
            <a:ext cx="576360" cy="92844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  <a:ea typeface="B Lotus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DBB4-FADC-44D9-899B-26A9033A4949}" type="slidenum">
              <a:rPr b="1" lang="en-US" sz="2800" spc="-1" strike="noStrike">
                <a:solidFill>
                  <a:srgbClr val="ffffff"/>
                </a:solidFill>
                <a:latin typeface="Times New Roman"/>
                <a:ea typeface="B Lotu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571680"/>
            <a:ext cx="914400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0" y="642960"/>
            <a:ext cx="53352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590400" y="642960"/>
            <a:ext cx="855360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437" name="Picture 4" descr="AZAD_ARM"/>
          <p:cNvPicPr/>
          <p:nvPr/>
        </p:nvPicPr>
        <p:blipFill>
          <a:blip r:embed="rId2"/>
          <a:stretch/>
        </p:blipFill>
        <p:spPr>
          <a:xfrm>
            <a:off x="8501040" y="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Shiveicon.jpg"/>
          <p:cNvPicPr/>
          <p:nvPr/>
        </p:nvPicPr>
        <p:blipFill>
          <a:blip r:embed="rId3"/>
          <a:stretch/>
        </p:blipFill>
        <p:spPr>
          <a:xfrm>
            <a:off x="71280" y="0"/>
            <a:ext cx="657360" cy="6382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0" y="571680"/>
            <a:ext cx="914400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0" y="642960"/>
            <a:ext cx="53352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590400" y="642960"/>
            <a:ext cx="855360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518" name="Picture 4" descr="AZAD_ARM"/>
          <p:cNvPicPr/>
          <p:nvPr/>
        </p:nvPicPr>
        <p:blipFill>
          <a:blip r:embed="rId2"/>
          <a:stretch/>
        </p:blipFill>
        <p:spPr>
          <a:xfrm>
            <a:off x="8501040" y="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Shiveicon.jpg"/>
          <p:cNvPicPr/>
          <p:nvPr/>
        </p:nvPicPr>
        <p:blipFill>
          <a:blip r:embed="rId3"/>
          <a:stretch/>
        </p:blipFill>
        <p:spPr>
          <a:xfrm>
            <a:off x="71280" y="0"/>
            <a:ext cx="657360" cy="63828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2"/>
          </p:nvPr>
        </p:nvSpPr>
        <p:spPr>
          <a:xfrm>
            <a:off x="0" y="642960"/>
            <a:ext cx="533520" cy="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B Lotus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BDE7-4403-490E-B7F3-4DB22AA62CD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B Lotu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71280" y="6053040"/>
            <a:ext cx="2786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2928960" y="6043680"/>
            <a:ext cx="614376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46" name="Picture 4" descr="AZAD_ARM"/>
          <p:cNvPicPr/>
          <p:nvPr/>
        </p:nvPicPr>
        <p:blipFill>
          <a:blip r:embed="rId2"/>
          <a:stretch/>
        </p:blipFill>
        <p:spPr>
          <a:xfrm>
            <a:off x="4071960" y="1000080"/>
            <a:ext cx="642960" cy="96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156960" y="6068520"/>
            <a:ext cx="270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B Lotus"/>
              </a:defRPr>
            </a:lvl1pPr>
          </a:lstStyle>
          <a:p>
            <a:pPr marL="2160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99BB-EB59-472A-A28F-256F8CB9BC99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B Lotu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571680"/>
            <a:ext cx="914400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42960"/>
            <a:ext cx="53352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642960"/>
            <a:ext cx="855360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91" name="Picture 4" descr="AZAD_ARM"/>
          <p:cNvPicPr/>
          <p:nvPr/>
        </p:nvPicPr>
        <p:blipFill>
          <a:blip r:embed="rId2"/>
          <a:stretch/>
        </p:blipFill>
        <p:spPr>
          <a:xfrm>
            <a:off x="8501040" y="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Shiveicon.jpg"/>
          <p:cNvPicPr/>
          <p:nvPr/>
        </p:nvPicPr>
        <p:blipFill>
          <a:blip r:embed="rId3"/>
          <a:stretch/>
        </p:blipFill>
        <p:spPr>
          <a:xfrm>
            <a:off x="71280" y="0"/>
            <a:ext cx="657360" cy="638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571680"/>
            <a:ext cx="914400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642960"/>
            <a:ext cx="53352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590400" y="642960"/>
            <a:ext cx="855360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134" name="Picture 4" descr="AZAD_ARM"/>
          <p:cNvPicPr/>
          <p:nvPr/>
        </p:nvPicPr>
        <p:blipFill>
          <a:blip r:embed="rId3"/>
          <a:stretch/>
        </p:blipFill>
        <p:spPr>
          <a:xfrm>
            <a:off x="8501040" y="0"/>
            <a:ext cx="500040" cy="642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5"/>
          </p:nvPr>
        </p:nvSpPr>
        <p:spPr>
          <a:xfrm>
            <a:off x="0" y="642960"/>
            <a:ext cx="533520" cy="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B Lotus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1048-4C1B-4570-802A-D0814874F55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B Lotu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571680"/>
            <a:ext cx="914400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642960"/>
            <a:ext cx="53352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590400" y="642960"/>
            <a:ext cx="855360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177" name="Picture 4" descr="AZAD_ARM"/>
          <p:cNvPicPr/>
          <p:nvPr/>
        </p:nvPicPr>
        <p:blipFill>
          <a:blip r:embed="rId2"/>
          <a:stretch/>
        </p:blipFill>
        <p:spPr>
          <a:xfrm>
            <a:off x="8501040" y="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Shiveicon.jpg"/>
          <p:cNvPicPr/>
          <p:nvPr/>
        </p:nvPicPr>
        <p:blipFill>
          <a:blip r:embed="rId3"/>
          <a:stretch/>
        </p:blipFill>
        <p:spPr>
          <a:xfrm>
            <a:off x="71280" y="0"/>
            <a:ext cx="657360" cy="638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571680"/>
            <a:ext cx="914400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642960"/>
            <a:ext cx="53352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90400" y="642960"/>
            <a:ext cx="855360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220" name="Picture 4" descr="AZAD_ARM"/>
          <p:cNvPicPr/>
          <p:nvPr/>
        </p:nvPicPr>
        <p:blipFill>
          <a:blip r:embed="rId2"/>
          <a:stretch/>
        </p:blipFill>
        <p:spPr>
          <a:xfrm>
            <a:off x="8501040" y="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Shiveicon.jpg"/>
          <p:cNvPicPr/>
          <p:nvPr/>
        </p:nvPicPr>
        <p:blipFill>
          <a:blip r:embed="rId3"/>
          <a:stretch/>
        </p:blipFill>
        <p:spPr>
          <a:xfrm>
            <a:off x="71280" y="0"/>
            <a:ext cx="657360" cy="6382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571680"/>
            <a:ext cx="914400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42960"/>
            <a:ext cx="53352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90400" y="642960"/>
            <a:ext cx="855360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263" name="Picture 4" descr="AZAD_ARM"/>
          <p:cNvPicPr/>
          <p:nvPr/>
        </p:nvPicPr>
        <p:blipFill>
          <a:blip r:embed="rId2"/>
          <a:stretch/>
        </p:blipFill>
        <p:spPr>
          <a:xfrm>
            <a:off x="8501040" y="0"/>
            <a:ext cx="500040" cy="6429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0" y="75096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7970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90400" y="7970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267" name="Picture 12" descr="Shiveicon.jpg"/>
          <p:cNvPicPr/>
          <p:nvPr/>
        </p:nvPicPr>
        <p:blipFill>
          <a:blip r:embed="rId3"/>
          <a:stretch/>
        </p:blipFill>
        <p:spPr>
          <a:xfrm>
            <a:off x="71280" y="0"/>
            <a:ext cx="657360" cy="6382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6"/>
          </p:nvPr>
        </p:nvSpPr>
        <p:spPr>
          <a:xfrm>
            <a:off x="0" y="7887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B Lotus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52C3-61A0-45A9-BFB2-CC51E8EF300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B Lotu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0" y="571680"/>
            <a:ext cx="914400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642960"/>
            <a:ext cx="53352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590400" y="642960"/>
            <a:ext cx="855360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pic>
        <p:nvPicPr>
          <p:cNvPr id="348" name="Picture 4" descr="AZAD_ARM"/>
          <p:cNvPicPr/>
          <p:nvPr/>
        </p:nvPicPr>
        <p:blipFill>
          <a:blip r:embed="rId2"/>
          <a:stretch/>
        </p:blipFill>
        <p:spPr>
          <a:xfrm>
            <a:off x="8501040" y="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Shiveicon.jpg"/>
          <p:cNvPicPr/>
          <p:nvPr/>
        </p:nvPicPr>
        <p:blipFill>
          <a:blip r:embed="rId3"/>
          <a:stretch/>
        </p:blipFill>
        <p:spPr>
          <a:xfrm>
            <a:off x="71280" y="0"/>
            <a:ext cx="657360" cy="6382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1280" y="6480"/>
            <a:ext cx="8358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1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42920" y="92844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2134440" y="2934720"/>
            <a:ext cx="435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fe0be"/>
                </a:solidFill>
                <a:latin typeface="Tahoma"/>
                <a:cs typeface="B Titr"/>
              </a:rPr>
              <a:t>درس</a:t>
            </a:r>
            <a:r>
              <a:rPr b="1" lang="en-US" sz="3600" spc="-1" strike="noStrike">
                <a:solidFill>
                  <a:srgbClr val="efe0be"/>
                </a:solidFill>
                <a:latin typeface="Tahoma"/>
                <a:ea typeface="B Titr"/>
              </a:rPr>
              <a:t> </a:t>
            </a:r>
            <a:r>
              <a:rPr b="1" lang="fa-IR" sz="3600" spc="-1" strike="noStrike">
                <a:solidFill>
                  <a:srgbClr val="efe0be"/>
                </a:solidFill>
                <a:latin typeface="Tahoma"/>
                <a:cs typeface="B Titr"/>
              </a:rPr>
              <a:t>روش تحقیق </a:t>
            </a:r>
            <a:endParaRPr b="0" lang="en-US" sz="3600" spc="-1" strike="noStrike">
              <a:solidFill>
                <a:srgbClr val="775f55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3857760" y="5773320"/>
            <a:ext cx="4929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ekan"/>
              </a:rPr>
              <a:t>ارا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Yekan"/>
              </a:rPr>
              <a:t>ئه دهنده :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Yekan"/>
              </a:rPr>
              <a:t>محمد فرجي مهماندار</a:t>
            </a: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3500280" y="566640"/>
            <a:ext cx="180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fffff"/>
                </a:solidFill>
                <a:latin typeface="Times New Roman"/>
                <a:cs typeface="B Yekan"/>
              </a:rPr>
              <a:t>بسمه تعالی</a:t>
            </a:r>
            <a:endParaRPr b="0" lang="en-US" sz="14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96840" y="626436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WWW.CFSCO.IR</a:t>
            </a:r>
            <a:endParaRPr b="0" lang="en-US" sz="14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160" y="642960"/>
            <a:ext cx="46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1B36-667E-48EE-8083-F16727FC58E8}" type="slidenum">
              <a:rPr b="0" lang="en-US" sz="1000" spc="-1" strike="noStrike">
                <a:solidFill>
                  <a:srgbClr val="775f55"/>
                </a:solidFill>
                <a:latin typeface="Times New Roman"/>
                <a:ea typeface="B Yekan"/>
              </a:rPr>
              <a:t>&lt;number&gt;</a:t>
            </a:fld>
            <a:endParaRPr b="0" lang="en-US" sz="1000" spc="-1" strike="noStrike">
              <a:solidFill>
                <a:srgbClr val="775f5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287280" y="810360"/>
            <a:ext cx="87138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00000"/>
                </a:solidFill>
                <a:latin typeface="Times New Roman"/>
                <a:cs typeface="B Yekan"/>
              </a:rPr>
              <a:t>اهداف درس: </a:t>
            </a: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  <a:cs typeface="B Yekan"/>
              </a:rPr>
              <a:t>در اين درس با تحقیق و انواع آن آشنا مي‌شويم.  طریقه تدوین طرح پیشنهادی ومراحل تدوین پایان نامه را خواهيم آموخت.  در بخش نوشتن مقالات علمی ، تعریف مقاله ، جستجوی مقاله ، آشنایی با پایگاه های جمع آوری مقاله ، انواع مقاله  و مقاله ها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B Yekan"/>
              </a:rPr>
              <a:t>ISI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B Yekan"/>
              </a:rPr>
              <a:t> را مور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  <a:cs typeface="B Yekan"/>
              </a:rPr>
              <a:t>د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B Yekan"/>
              </a:rPr>
              <a:t> بررسي قرار خواهيم 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  <a:cs typeface="B Yekan"/>
              </a:rPr>
              <a:t>داد. و در بخش هاب بعدی با نحوه نوشتن رزومه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B Yekan"/>
              </a:rPr>
              <a:t>CV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  <a:ea typeface="B Yekan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B Yekan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  <a:cs typeface="B Yekan"/>
              </a:rPr>
              <a:t>، ارائه شفاهي، خصوصيات و انواع آن مطالبي خواهيد آموخت.</a:t>
            </a:r>
            <a:endParaRPr b="0" lang="en-US" sz="2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642960" y="71280"/>
            <a:ext cx="771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imes New Roman"/>
                <a:cs typeface="B Titr"/>
              </a:rPr>
              <a:t>اهداف درس ومنابع</a:t>
            </a: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160" y="642960"/>
            <a:ext cx="46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95A2-9416-41A8-A60B-5B2084B0CF51}" type="slidenum">
              <a:rPr b="0" lang="en-US" sz="1000" spc="-1" strike="noStrike">
                <a:solidFill>
                  <a:srgbClr val="775f55"/>
                </a:solidFill>
                <a:latin typeface="Times New Roman"/>
                <a:ea typeface="B Yekan"/>
              </a:rPr>
              <a:t>&lt;number&gt;</a:t>
            </a:fld>
            <a:endParaRPr b="0" lang="en-US" sz="10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2181240" y="3827520"/>
            <a:ext cx="67485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imes New Roman"/>
                <a:cs typeface="B Yekan"/>
              </a:rPr>
              <a:t>منابع :</a:t>
            </a: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Yekan"/>
              </a:rPr>
              <a:t>نام منبع : روش تحقیق</a:t>
            </a: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Yekan"/>
              </a:rPr>
              <a:t>نام مولف : دکتر سعید شیری</a:t>
            </a: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4"/>
          <p:cNvSpPr/>
          <p:nvPr/>
        </p:nvSpPr>
        <p:spPr>
          <a:xfrm>
            <a:off x="500040" y="85392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36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 جلسه   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1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: آشنایی با تحقیق وپژوهش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 جلسه   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2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: تدوین طرح پیشنهادی (فرم پروپوزال)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 جلسه  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3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 :  مراحل تدوین پایان نامه و اصول پایان نامه نویسی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 جلسه  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4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: یافتن مقالات علمی (جستجوی مقالات  چاپ شده در یک موضوع)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 جلسه  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5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: آیین وروش های مقاله نویسی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 جلسه  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6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: </a:t>
            </a:r>
            <a:r>
              <a:rPr b="0" lang="fa-IR" sz="1600" spc="-1" strike="noStrike">
                <a:solidFill>
                  <a:srgbClr val="990000"/>
                </a:solidFill>
                <a:latin typeface="Times New Roman"/>
                <a:cs typeface="B Yekan"/>
              </a:rPr>
              <a:t>مقاله های 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B Yekan"/>
              </a:rPr>
              <a:t>ISI</a:t>
            </a:r>
            <a:r>
              <a:rPr b="0" lang="ar-SA" sz="1600" spc="-1" strike="noStrike">
                <a:solidFill>
                  <a:srgbClr val="990000"/>
                </a:solidFill>
                <a:latin typeface="Times New Roman"/>
                <a:ea typeface="B Yekan"/>
              </a:rPr>
              <a:t> ونحوه تعيين ضريب تاثير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 جلسه  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7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: نوشتن رزوم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C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) :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Curriculum  Vita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)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 جلسه  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8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: </a:t>
            </a:r>
            <a:r>
              <a:rPr b="0" lang="ar-SA" sz="1600" spc="-1" strike="noStrike">
                <a:solidFill>
                  <a:srgbClr val="800000"/>
                </a:solidFill>
                <a:latin typeface="Times New Roman"/>
                <a:cs typeface="B Yekan"/>
              </a:rPr>
              <a:t>سرقت علمي وروش هاي اجتناب ا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cs typeface="B Yekan"/>
              </a:rPr>
              <a:t>زآن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 جلسه  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9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: سخنرانی شفاهی و انواع آن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 جلسه  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10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: ارائه ، طرز تهیه اسلاید و باید ها ونبایدها  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 جلسه  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11</a:t>
            </a: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: جستجوی پیشرفته در اینترنت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  <a:p>
            <a:pPr algn="r" rtl="1">
              <a:lnSpc>
                <a:spcPts val="36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imes New Roman"/>
                <a:ea typeface="B Yekan"/>
              </a:rPr>
              <a:t> 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cs typeface="B Yekan"/>
              </a:rPr>
              <a:t>جلسه  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12</a:t>
            </a:r>
            <a:r>
              <a:rPr b="0" lang="fa-IR" sz="1600" spc="-1" strike="noStrike">
                <a:solidFill>
                  <a:srgbClr val="800000"/>
                </a:solidFill>
                <a:latin typeface="Times New Roman"/>
                <a:ea typeface="B Yekan"/>
              </a:rPr>
              <a:t>: طرز تهیه پوستر ومعرفی پوستر های نمونه</a:t>
            </a:r>
            <a:endParaRPr b="0" lang="en-US" sz="16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571680" y="71280"/>
            <a:ext cx="7858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00000"/>
                </a:solidFill>
                <a:latin typeface="Times New Roman"/>
                <a:ea typeface="B Titr"/>
              </a:rPr>
              <a:t> فهرست جلسات </a:t>
            </a: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160" y="642960"/>
            <a:ext cx="46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C4F1-9896-44F3-A939-AF167C9B0BFA}" type="slidenum">
              <a:rPr b="0" lang="en-US" sz="1000" spc="-1" strike="noStrike">
                <a:solidFill>
                  <a:srgbClr val="775f55"/>
                </a:solidFill>
                <a:latin typeface="Times New Roman"/>
                <a:ea typeface="B Yekan"/>
              </a:rPr>
              <a:t>&lt;number&gt;</a:t>
            </a:fld>
            <a:endParaRPr b="0" lang="en-US" sz="1000" spc="-1" strike="noStrike">
              <a:solidFill>
                <a:srgbClr val="775f55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942840" y="1045800"/>
            <a:ext cx="77724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2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امتحان میان ترم 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     ن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2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امتحان پایان ترم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ea typeface="B Yekan"/>
              </a:rPr>
              <a:t>14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   نمره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2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ارائه سمینارشفاهی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ea typeface="B Yek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     ن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2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ارائه سمینار کتبی    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ea typeface="B Yek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     ن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2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w Cen MT"/>
                <a:cs typeface="B Yekan"/>
              </a:rPr>
              <a:t>احتمال تغییر هست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mail Address for this Cours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Research_Method@cfsco.i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642960" y="112680"/>
            <a:ext cx="77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00000"/>
                </a:solidFill>
                <a:latin typeface="Times New Roman"/>
                <a:ea typeface="B Titr"/>
              </a:rPr>
              <a:t> ارزش یابی درس </a:t>
            </a:r>
            <a:endParaRPr b="0" lang="en-US" sz="2400" spc="-1" strike="noStrike">
              <a:solidFill>
                <a:srgbClr val="775f55"/>
              </a:solidFill>
              <a:latin typeface="Times New Roman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160" y="642960"/>
            <a:ext cx="46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8FAC-86BB-46ED-9B26-EC17E34FFF09}" type="slidenum">
              <a:rPr b="0" lang="en-US" sz="1000" spc="-1" strike="noStrike">
                <a:solidFill>
                  <a:srgbClr val="775f55"/>
                </a:solidFill>
                <a:latin typeface="Times New Roman"/>
                <a:ea typeface="B Yekan"/>
              </a:rPr>
              <a:t>&lt;number&gt;</a:t>
            </a:fld>
            <a:endParaRPr b="0" lang="en-US" sz="1000" spc="-1" strike="noStrike">
              <a:solidFill>
                <a:srgbClr val="775f55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2960" y="39600"/>
            <a:ext cx="77868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w Cen MT"/>
                <a:cs typeface="B Titr"/>
              </a:rPr>
              <a:t>ارائه سمینار درسی</a:t>
            </a:r>
            <a:endParaRPr b="1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56760" y="1071720"/>
            <a:ext cx="8572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lnSpc>
                <a:spcPts val="4399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دانشجویان حداقل </a:t>
            </a:r>
            <a:r>
              <a:rPr b="0" lang="fa-IR" sz="2200" spc="-1" strike="noStrike">
                <a:solidFill>
                  <a:srgbClr val="000000"/>
                </a:solidFill>
                <a:latin typeface="Tw Cen MT"/>
                <a:ea typeface="B Yekan"/>
              </a:rPr>
              <a:t>48</a:t>
            </a:r>
            <a:r>
              <a:rPr b="0" lang="fa-IR" sz="2200" spc="-1" strike="noStrike">
                <a:solidFill>
                  <a:srgbClr val="000000"/>
                </a:solidFill>
                <a:latin typeface="Tw Cen MT"/>
                <a:ea typeface="B Yekan"/>
              </a:rPr>
              <a:t> ساعت قبل از ارائه سمینار درسی باید فایل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PDF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مقاله ژورنال انتخابی را بعلاوه فایل اسلایدهای ارایه، در فایلی به نام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Research_951_StudentNam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w Cen MT"/>
                <a:ea typeface="B Yekan"/>
              </a:rPr>
              <a:t> ف</a:t>
            </a: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شرده نموده و به ایمیل درس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B Yekan"/>
              </a:rPr>
              <a:t>Research_Metho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@CFSCO.IR</a:t>
            </a:r>
            <a:r>
              <a:rPr b="0" lang="ar-SA" sz="22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ارسال نمایند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lnSpc>
                <a:spcPts val="4399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عنوان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subject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) </a:t>
            </a: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ایمیل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را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ResearchSeminar_951_StudentNam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قرار دهی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lnSpc>
                <a:spcPts val="4399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لازم به ذکر است که درجلسه ارائه شفاهی فقط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B Yekan"/>
              </a:rPr>
              <a:t>20</a:t>
            </a: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دقیقه فرصت ارائه دارید. لذا حتما روی زمان ارائه برنامه‏ریزی کرده و تمرین قبلی داشته باشید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lnSpc>
                <a:spcPts val="4399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Tw Cen MT"/>
                <a:cs typeface="B Yekan"/>
              </a:rPr>
              <a:t>عدم ارائه شفاهی در تاریخ معین شده به منزله از دست دادن نمره این بخش از درس می‏باشد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285840" y="999720"/>
            <a:ext cx="8572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ts val="4997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گزارش نهایی سمینار باید در قالب یک مقاله و با نام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ResearchReport951_StudentName.doc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تنظیم گردد و به </a:t>
            </a:r>
            <a:r>
              <a:rPr b="0" lang="fa-IR" sz="2400" spc="-1" strike="noStrike" u="sng">
                <a:solidFill>
                  <a:srgbClr val="000000"/>
                </a:solidFill>
                <a:uFillTx/>
                <a:latin typeface="Tw Cen MT"/>
                <a:cs typeface="B Yekan"/>
              </a:rPr>
              <a:t>صورت فشرده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 به آدرس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Research_Metho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B Yekan"/>
              </a:rPr>
              <a:t>@CFSCO.IR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 ارسال گردد.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(منظوراز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StudentNam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نام و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نام خانوادگی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B Yekan"/>
              </a:rPr>
              <a:t> دانشجو است)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ts val="4997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عنوان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ایمیل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را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ResearchReport951_StudentNam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B Yekan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B Yekan"/>
              </a:rPr>
              <a:t>قرار دهید. این گزارش بازنویسی کامل مقاله ژورنال با مطالب تکمیل شده و احتمالا نتایج عملی پیاده‌سازی شده توسط خودتان بوده و در آن باید علت اختلافات احتمالی در نتایج با مقاله اصلی نیز توجیه شده باشد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42960" y="39600"/>
            <a:ext cx="77868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w Cen MT"/>
                <a:cs typeface="B Titr"/>
              </a:rPr>
              <a:t>ارائه سمینار درسی</a:t>
            </a:r>
            <a:endParaRPr b="1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4:59:03Z</dcterms:created>
  <dc:creator>Faraji</dc:creator>
  <dc:description/>
  <dc:language>en-US</dc:language>
  <cp:lastModifiedBy>mohamad faraji</cp:lastModifiedBy>
  <dcterms:modified xsi:type="dcterms:W3CDTF">2016-12-01T06:24:27Z</dcterms:modified>
  <cp:revision>835</cp:revision>
  <dc:subject/>
  <dc:title>اسلايد درس اصول وطراحی پایگاه داده ها</dc:title>
</cp:coreProperties>
</file>